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87493-F75C-4C06-9EE3-7C950FD42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les kosten 1,5 mrd euro per jaar; eigenlijk bijna goed: 5% verhoging van capaciteit lost bijna alle files 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lereducerende maatregelen worden voorgesteld (spitsstrook, plusstrook, snelheidslimite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oordat maatregelen in de praktijk gebracht worden, moeten ze eerst getest worden: simul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F361D1-DF78-455A-BACC-09EBDD517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1796840" y="-11796840"/>
            <a:ext cx="11796840" cy="11796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0" y="-1921320"/>
            <a:ext cx="1440" cy="71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4AFB49-8807-425B-9267-1618E42A71DE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-11796840" y="-11796840"/>
            <a:ext cx="11796840" cy="11796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0" y="-1921320"/>
            <a:ext cx="1440" cy="71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40C021-2621-4AA5-8A9C-55AFC617F278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80 km/h: geevalueerd met huidige modellen; geen goede koppeling snelheid/rijstrookk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564926-B5E2-417F-BC5E-091B7CB70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660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2556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660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7640" y="-360"/>
            <a:ext cx="76579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1108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660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2556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1108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660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7640" y="-360"/>
            <a:ext cx="76579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1108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660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556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1108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660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0F8D-AD62-4719-8BC6-C4272E22D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514B-A1E1-4641-A13A-95382DD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531F-B9DF-4E9C-871B-66D8796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19EC-AEA4-473A-AE73-0F2948A3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8222-FBFD-488C-B536-6AFEC76A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7640" y="-360"/>
            <a:ext cx="76579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DCE0-32F8-4299-AAAE-33FB475D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902A6-06E6-4100-8E90-A42FC1C0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6823-C830-4C34-82BB-ED7798A6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D396-5298-48BA-A64E-02C47AC7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BE4E-4CED-4640-8A77-7DF6B71B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9600-7F54-4B2C-AB9C-3EAF51AC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1108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660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2556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1108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660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8E5C-F698-4A08-8ACB-7E7680C65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7640" y="-360"/>
            <a:ext cx="76579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32600"/>
            <a:ext cx="914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7640" y="759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5560" y="1828800"/>
            <a:ext cx="76471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7640640" y="6297480"/>
            <a:ext cx="539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E89152-33AD-4C8D-87A1-73BC2AF06037}" type="slidenum">
              <a:rPr b="0" lang="nl-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81680"/>
            <a:ext cx="9144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71680" y="6184800"/>
            <a:ext cx="887400" cy="349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13404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2411280" y="6264360"/>
            <a:ext cx="520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108bd9"/>
                </a:solidFill>
                <a:latin typeface="Tahoma"/>
                <a:ea typeface="MS PGothic"/>
              </a:rPr>
              <a:t>Victor Knoop – Traffic flow theory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8229600" y="629460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108bd9"/>
                </a:solidFill>
                <a:latin typeface="Tahoma"/>
                <a:ea typeface="MS PGothic"/>
              </a:rPr>
              <a:t>| 4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134040"/>
            <a:ext cx="91440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66560" y="2057400"/>
            <a:ext cx="746784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781680"/>
            <a:ext cx="9144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3404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641760"/>
            <a:ext cx="243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24-06-1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1680" y="6184800"/>
            <a:ext cx="887400" cy="34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98680" y="657216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800" spc="-1" strike="noStrike">
                <a:solidFill>
                  <a:srgbClr val="ffffff"/>
                </a:solidFill>
                <a:latin typeface="Tahoma"/>
                <a:ea typeface="MS PGothic"/>
              </a:rPr>
              <a:t>Challenge the futur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1498680" y="6292800"/>
            <a:ext cx="99036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Tahoma"/>
                <a:ea typeface="MS PGothic"/>
              </a:rPr>
              <a:t>Delft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Tahoma"/>
                <a:ea typeface="MS PGothic"/>
              </a:rPr>
              <a:t>University of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Tahoma"/>
                <a:ea typeface="MS PGothic"/>
              </a:rPr>
              <a:t>Technology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759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25560" y="1828800"/>
            <a:ext cx="76471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132600"/>
            <a:ext cx="914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7640640" y="6297480"/>
            <a:ext cx="539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F86095-0D04-4502-81BF-DD5388D6886A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781680"/>
            <a:ext cx="914400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1680" y="6184800"/>
            <a:ext cx="887400" cy="34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613404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629460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108bd9"/>
                </a:solidFill>
                <a:latin typeface="Tahoma"/>
                <a:ea typeface="ＭＳ Ｐゴシック"/>
              </a:rPr>
              <a:t>| 4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6264360"/>
            <a:ext cx="520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108bd9"/>
                </a:solidFill>
                <a:latin typeface="Tahoma"/>
                <a:ea typeface="MS PGothic"/>
              </a:rPr>
              <a:t>Victor Knoop – Traffic flow theory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352080" cy="7091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69920"/>
            <a:ext cx="799956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AF372A-EF88-42A3-992A-5DD1209B8EF2}" type="slidenum"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ictorknoop.eu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395440"/>
            <a:ext cx="693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5544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Tahoma"/>
              </a:rPr>
              <a:t>Netwerk transmissie mod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696000" y="5456160"/>
            <a:ext cx="24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635040" y="2855880"/>
            <a:ext cx="693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MS PGothic"/>
              </a:rPr>
              <a:t>Verkeersmodel voor groot-stedelijke gebie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6875640" y="5518080"/>
            <a:ext cx="244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ictor L. Kn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7280" y="-360"/>
            <a:ext cx="765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clus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272360" y="3613320"/>
            <a:ext cx="1297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04720" y="1828800"/>
            <a:ext cx="792000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r is een snel dynamisch verkeersmodel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~10 seconden voor een st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p basis van eerdere studies veelbelovend qua accuratesse, maar nog niet getoet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gelijkheden bij DTM, en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gelijk in real time te “voeden” door snelheids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7280" y="-216000"/>
            <a:ext cx="7659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Verder lezen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8548920" y="641520"/>
            <a:ext cx="41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✗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123920"/>
            <a:ext cx="854244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jd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489040"/>
            <a:ext cx="822960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edelijke gebieden zijn sterk met elkaar verbonden, en daarmee verkeersmaatregelen 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odzaak tot dynamische verkeersmodellen voor langere tijdsschaal (1 uur en meer) en groot geb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euwe mogelijkheid: simulatiemodel op basis va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ie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FA66CA-0043-4487-895A-99D485D74F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spellen – het do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489040"/>
            <a:ext cx="8229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keersmanagament-maatregelen kunnen dynamisch worden ingez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 beste inzet kan effect hebben over het hele netwe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arom: modelmatig voorspellen in optimalisa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36A224-404E-4322-B8EA-605DDCAC8F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838600" y="4930920"/>
            <a:ext cx="1073160" cy="36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435480" y="5494320"/>
            <a:ext cx="1468440" cy="36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atreg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25920" y="4929120"/>
            <a:ext cx="1073160" cy="36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itkom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69800" y="4944960"/>
            <a:ext cx="1073160" cy="36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69800" y="5467320"/>
            <a:ext cx="1301760" cy="63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ann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ijv vraa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3377880" y="5317920"/>
            <a:ext cx="58680" cy="363240"/>
          </a:xfrm>
          <a:prstGeom prst="rect">
            <a:avLst/>
          </a:pr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911760" y="5110920"/>
            <a:ext cx="612720" cy="1800"/>
          </a:xfrm>
          <a:custGeom>
            <a:avLst/>
            <a:gdLst/>
            <a:ahLst/>
            <a:rect l="l" t="t" r="r" b="b"/>
            <a:pathLst>
              <a:path fill="none" w="4446" h="4">
                <a:moveTo>
                  <a:pt x="0" y="0"/>
                </a:moveTo>
                <a:lnTo>
                  <a:pt x="-2742" y="0"/>
                </a:lnTo>
                <a:lnTo>
                  <a:pt x="-2742" y="4"/>
                </a:lnTo>
                <a:lnTo>
                  <a:pt x="1704" y="4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5527800" y="4779000"/>
            <a:ext cx="277920" cy="1523880"/>
          </a:xfrm>
          <a:prstGeom prst="rect">
            <a:avLst/>
          </a:pr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39880" y="4667400"/>
            <a:ext cx="4397400" cy="1446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 flipH="1" rot="10800000">
            <a:off x="2637360" y="5119200"/>
            <a:ext cx="198360" cy="274680"/>
          </a:xfrm>
          <a:custGeom>
            <a:avLst/>
            <a:gdLst/>
            <a:ahLst/>
            <a:rect l="l" t="t" r="r" b="b"/>
            <a:pathLst>
              <a:path fill="none" w="996" h="763">
                <a:moveTo>
                  <a:pt x="0" y="0"/>
                </a:moveTo>
                <a:lnTo>
                  <a:pt x="-444" y="0"/>
                </a:lnTo>
                <a:lnTo>
                  <a:pt x="-444" y="763"/>
                </a:lnTo>
                <a:lnTo>
                  <a:pt x="552" y="763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544760" y="5130720"/>
            <a:ext cx="1095120" cy="260280"/>
          </a:xfrm>
          <a:custGeom>
            <a:avLst/>
            <a:gdLst/>
            <a:ahLst/>
            <a:rect l="l" t="t" r="r" b="b"/>
            <a:pathLst>
              <a:path fill="none" w="8227" h="723">
                <a:moveTo>
                  <a:pt x="0" y="0"/>
                </a:moveTo>
                <a:lnTo>
                  <a:pt x="-5183" y="0"/>
                </a:lnTo>
                <a:lnTo>
                  <a:pt x="-5183" y="723"/>
                </a:lnTo>
                <a:lnTo>
                  <a:pt x="3044" y="723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773360" y="5391000"/>
            <a:ext cx="866520" cy="400320"/>
          </a:xfrm>
          <a:custGeom>
            <a:avLst/>
            <a:gdLst/>
            <a:ahLst/>
            <a:rect l="l" t="t" r="r" b="b"/>
            <a:pathLst>
              <a:path fill="none" w="5427" h="1111">
                <a:moveTo>
                  <a:pt x="0" y="0"/>
                </a:moveTo>
                <a:lnTo>
                  <a:pt x="-3020" y="0"/>
                </a:lnTo>
                <a:lnTo>
                  <a:pt x="-3020" y="1111"/>
                </a:lnTo>
                <a:lnTo>
                  <a:pt x="2407" y="1111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908680" y="4835520"/>
            <a:ext cx="1181160" cy="729360"/>
            <a:chOff x="5908680" y="4835520"/>
            <a:chExt cx="1181160" cy="729360"/>
          </a:xfrm>
        </p:grpSpPr>
        <p:sp>
          <p:nvSpPr>
            <p:cNvPr id="219" name=""/>
            <p:cNvSpPr/>
            <p:nvPr/>
          </p:nvSpPr>
          <p:spPr>
            <a:xfrm>
              <a:off x="5908680" y="4835520"/>
              <a:ext cx="103968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08680" y="4925880"/>
              <a:ext cx="1181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timu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V="1">
            <a:off x="5599080" y="5109480"/>
            <a:ext cx="308160" cy="3240"/>
          </a:xfrm>
          <a:custGeom>
            <a:avLst/>
            <a:gdLst/>
            <a:ahLst/>
            <a:rect l="l" t="t" r="r" b="b"/>
            <a:pathLst>
              <a:path fill="none" w="2239" h="11">
                <a:moveTo>
                  <a:pt x="0" y="0"/>
                </a:moveTo>
                <a:lnTo>
                  <a:pt x="-1381" y="0"/>
                </a:lnTo>
                <a:lnTo>
                  <a:pt x="-1381" y="11"/>
                </a:lnTo>
                <a:lnTo>
                  <a:pt x="858" y="11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7388280" y="4797360"/>
            <a:ext cx="1468440" cy="63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e maatreg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3" name=""/>
          <p:cNvCxnSpPr/>
          <p:nvPr/>
        </p:nvCxnSpPr>
        <p:spPr>
          <a:xfrm flipV="1">
            <a:off x="6949800" y="5116320"/>
            <a:ext cx="438840" cy="3600"/>
          </a:xfrm>
          <a:prstGeom prst="straightConnector1">
            <a:avLst/>
          </a:prstGeom>
          <a:ln w="25560">
            <a:solidFill>
              <a:srgbClr val="4f81bd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iedsniv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48904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damental diagram” op weg-niveau (theori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31862D-5DFB-4963-B836-6B3701DDBA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0821" t="29177" r="21593" b="40497"/>
          <a:stretch/>
        </p:blipFill>
        <p:spPr>
          <a:xfrm>
            <a:off x="987480" y="3092400"/>
            <a:ext cx="7332480" cy="232092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1495080" y="3203640"/>
            <a:ext cx="3290760" cy="2009880"/>
            <a:chOff x="1495080" y="3203640"/>
            <a:chExt cx="3290760" cy="2009880"/>
          </a:xfrm>
        </p:grpSpPr>
        <p:sp>
          <p:nvSpPr>
            <p:cNvPr id="230" name=""/>
            <p:cNvSpPr/>
            <p:nvPr/>
          </p:nvSpPr>
          <p:spPr>
            <a:xfrm>
              <a:off x="1498320" y="3203640"/>
              <a:ext cx="0" cy="200700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495080" y="5213520"/>
              <a:ext cx="329076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093760" y="5305320"/>
            <a:ext cx="2907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theid (vtg/km/str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050840" y="2873520"/>
            <a:ext cx="4269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om (vtg/u/str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487520" y="3276720"/>
            <a:ext cx="2695680" cy="1947600"/>
          </a:xfrm>
          <a:prstGeom prst="rect">
            <a:avLst/>
          </a:pr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380960" y="5940360"/>
            <a:ext cx="145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raktijk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654440" y="3139920"/>
            <a:ext cx="393228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629320" y="5943600"/>
            <a:ext cx="1622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middel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iedsniv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48904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damental diagram” op weg-niveau (theori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D2ADD6-23F3-4C12-914B-B48C38A49A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0821" t="29177" r="21593" b="40497"/>
          <a:stretch/>
        </p:blipFill>
        <p:spPr>
          <a:xfrm>
            <a:off x="987480" y="3092400"/>
            <a:ext cx="7332480" cy="23209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1495080" y="3203640"/>
            <a:ext cx="3290760" cy="2009880"/>
            <a:chOff x="1495080" y="3203640"/>
            <a:chExt cx="3290760" cy="2009880"/>
          </a:xfrm>
        </p:grpSpPr>
        <p:sp>
          <p:nvSpPr>
            <p:cNvPr id="244" name=""/>
            <p:cNvSpPr/>
            <p:nvPr/>
          </p:nvSpPr>
          <p:spPr>
            <a:xfrm>
              <a:off x="1498320" y="3203640"/>
              <a:ext cx="0" cy="200700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495080" y="5213520"/>
              <a:ext cx="329076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093760" y="5305320"/>
            <a:ext cx="2907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theid (vtg/km/str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050840" y="2873520"/>
            <a:ext cx="4269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om (vtg/u/str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1487520" y="3276720"/>
            <a:ext cx="2695680" cy="1947600"/>
          </a:xfrm>
          <a:prstGeom prst="rect">
            <a:avLst/>
          </a:pr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380960" y="5940360"/>
            <a:ext cx="145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raktijk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5629320" y="5943600"/>
            <a:ext cx="1622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middel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17640" y="76320"/>
            <a:ext cx="8226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857160" indent="-855720">
              <a:tabLst>
                <a:tab algn="l" pos="0"/>
                <a:tab algn="l" pos="857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Tahoma"/>
              </a:rPr>
              <a:t>Schalen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503280" y="1828800"/>
            <a:ext cx="432756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108bd9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icroscopic: vehicl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108bd9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croscopic: link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108bd9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 level: network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400720" y="11160"/>
            <a:ext cx="3505320" cy="21477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616720" y="2151000"/>
            <a:ext cx="3311280" cy="1808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rcRect l="10160" t="57340" r="8934" b="15964"/>
          <a:stretch/>
        </p:blipFill>
        <p:spPr>
          <a:xfrm>
            <a:off x="287280" y="4103640"/>
            <a:ext cx="855828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280" y="-360"/>
            <a:ext cx="765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perking van vraag en aanb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7272360" y="3613320"/>
            <a:ext cx="1297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052720" y="936720"/>
            <a:ext cx="7020000" cy="5095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-431640" y="3527280"/>
            <a:ext cx="3527280" cy="2303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916360" y="3311640"/>
            <a:ext cx="1440" cy="259236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280" y="-360"/>
            <a:ext cx="765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epassing: perimeter contro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272360" y="3613320"/>
            <a:ext cx="1297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504720" y="1828800"/>
            <a:ext cx="640728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ud verkeer buiten de st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ertraging buiten de st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innen de stad soepelere doorstro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s dat de moeite waar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enzo: rout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Zie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ahoma"/>
                <a:ea typeface="ＭＳ Ｐゴシック"/>
                <a:hlinkClick r:id="rId1"/>
              </a:rPr>
              <a:t>www.victorknoop.eu/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earch/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tworktransmission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280" y="-360"/>
            <a:ext cx="765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perkingen en uitbreidinge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272360" y="3613320"/>
            <a:ext cx="1297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504720" y="1828800"/>
            <a:ext cx="792000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perking: routeren moet mogelijk zi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baseerd op theoretische principes -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aliditeit nog niet in real life getoet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ffecten van voetgangers/fietsers/OV niet meegen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8:36:32Z</dcterms:created>
  <dc:creator>Netwerkgebruiker SBS</dc:creator>
  <dc:description/>
  <dc:language>en-US</dc:language>
  <cp:lastModifiedBy>Victor Knoop</cp:lastModifiedBy>
  <cp:lastPrinted>2010-01-29T10:18:44Z</cp:lastPrinted>
  <dcterms:modified xsi:type="dcterms:W3CDTF">2014-06-19T15:43:45Z</dcterms:modified>
  <cp:revision>882</cp:revision>
  <dc:subject/>
  <dc:title>PowerPoint-presentatie</dc:title>
</cp:coreProperties>
</file>