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7636-E1EA-445B-8300-A3935F25E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les kosten 1,5 mrd euro per jaar; eigenlijk bijna goed: 5% verhoging van capaciteit lost bijna alle files 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lereducerende maatregelen worden voorgesteld (spitsstrook, plusstrook, snelheidslimite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ordat maatregelen in de praktijk gebracht worden, moeten ze eerst getest worden: simul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7014D0-E635-4269-A2A7-1BEC3DB7C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0" y="-1921320"/>
            <a:ext cx="1440" cy="71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C64078-1CC2-4F9C-987B-1DBA3B69EEAE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0" y="-1921320"/>
            <a:ext cx="1440" cy="71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CCA826-7B93-48DA-A5F0-A9F9CD1613AA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0 km/h: geevalueerd met huidige modellen; geen goede koppeling snelheid/rijstrookk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55EE49-C78A-447A-B7B0-16B160C7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4BEA-357F-459A-B0BF-837C242CB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80E-25B5-49B6-8EEA-619C5580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5CD9-9B77-40D0-B714-952392EC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D186-B226-46A8-9C3D-C27F979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E057-6A57-4B9E-9E95-EBA1DBE9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D5EF-09F6-44B0-8346-33324857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6FB5-7429-4ACD-BF03-2434160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E4BE-EAFC-4182-9E88-671ADF5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F383-6E7C-4154-9132-ADA6A3E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C6AF-3DEF-451C-A572-EFC083D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F7DA-B345-4716-B531-D473C07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1108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6600" y="182880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2556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1108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6600" y="3659040"/>
            <a:ext cx="246204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BB68-C890-4879-A782-6C6D6BE71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7640" y="-360"/>
            <a:ext cx="76579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4160" y="365904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55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4160" y="1828800"/>
            <a:ext cx="373176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25560" y="3659040"/>
            <a:ext cx="7647120" cy="16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7640" y="759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7640640" y="6297480"/>
            <a:ext cx="539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2AA684-7926-4018-BF1A-5E5CE0B9818D}" type="slidenum">
              <a:rPr b="0" lang="nl-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2411280" y="6264360"/>
            <a:ext cx="520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108bd9"/>
                </a:solidFill>
                <a:latin typeface="Tahoma"/>
                <a:ea typeface="MS PGothic"/>
              </a:rPr>
              <a:t>Victor Knoop – Traffic flow theor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8229600" y="629460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108bd9"/>
                </a:solidFill>
                <a:latin typeface="Tahoma"/>
                <a:ea typeface="MS PGothic"/>
              </a:rPr>
              <a:t>| 4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134040"/>
            <a:ext cx="91440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66560" y="2057400"/>
            <a:ext cx="746784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641760"/>
            <a:ext cx="243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24-06-1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98680" y="657216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Tahoma"/>
                <a:ea typeface="MS PGothic"/>
              </a:rPr>
              <a:t>Challenge the futur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498680" y="6292800"/>
            <a:ext cx="9903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Delft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University of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Tahoma"/>
                <a:ea typeface="MS PGothic"/>
              </a:rPr>
              <a:t>Technology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759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ts val="25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132600"/>
            <a:ext cx="914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640640" y="6297480"/>
            <a:ext cx="539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50B87D-8126-48B5-B77A-51C99FF49689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85120"/>
            <a:ext cx="9144000" cy="27288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816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1680" y="6184800"/>
            <a:ext cx="887400" cy="34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13404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69800" cy="2057400"/>
          </a:xfrm>
          <a:prstGeom prst="rect">
            <a:avLst/>
          </a:prstGeom>
          <a:solidFill>
            <a:srgbClr val="108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629460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108bd9"/>
                </a:solidFill>
                <a:latin typeface="Tahoma"/>
                <a:ea typeface="ＭＳ Ｐゴシック"/>
              </a:rPr>
              <a:t>| 4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-360"/>
            <a:ext cx="7657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5560" y="1828800"/>
            <a:ext cx="76471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25800" indent="-325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6264360"/>
            <a:ext cx="520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108bd9"/>
                </a:solidFill>
                <a:latin typeface="Tahoma"/>
                <a:ea typeface="MS PGothic"/>
              </a:rPr>
              <a:t>Victor Knoop – Traffic flow theor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352080" cy="7091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69920"/>
            <a:ext cx="799956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5D03EF-69B0-41DC-A325-EBDEE8513EB4}" type="slidenum"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ictorknoop.eu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395440"/>
            <a:ext cx="693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5544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Tahoma"/>
              </a:rPr>
              <a:t>Netwerk transmissie mod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696000" y="5456160"/>
            <a:ext cx="24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35040" y="2855880"/>
            <a:ext cx="693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MS PGothic"/>
              </a:rPr>
              <a:t>Verkeersmodel voor groot-stedelijke gebi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875640" y="5518080"/>
            <a:ext cx="24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ctor L. Kn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04720" y="1828800"/>
            <a:ext cx="79200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r is een snel dynamisch verkeersmode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~10 seconden voor een st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p basis van eerdere studies veelbelovend qua accuratesse, maar nog niet getoet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gelijkheden bij DTM, e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gelijk in real time te “voeden” door snelheids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7280" y="-216000"/>
            <a:ext cx="7659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Verder lezen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8548920" y="641520"/>
            <a:ext cx="41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✗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123920"/>
            <a:ext cx="854244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jd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489040"/>
            <a:ext cx="82296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delijke gebieden zijn sterk met elkaar verbonden, en daarmee verkeersmaatregelen 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odzaak tot dynamische verkeersmodellen voor langere tijdsschaal (1 uur en meer) en groot geb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euwe mogelijkheid: simulatiemodel op basis v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i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84015F-2C8E-459E-BC66-F21A699901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spellen – het do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489040"/>
            <a:ext cx="8229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keersmanagament-maatregelen kunnen dynamisch worden ingez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 beste inzet kan effect hebben over het hele netwe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arom: modelmatig voorspellen in optimalisa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94DCDA-DB25-46DB-BC5E-F9A242B576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838600" y="493092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435480" y="5494320"/>
            <a:ext cx="146844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atre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25920" y="492912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itkom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69800" y="4944960"/>
            <a:ext cx="1073160" cy="36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69800" y="5467320"/>
            <a:ext cx="1301760" cy="63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n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ijv vraa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377880" y="5317920"/>
            <a:ext cx="58680" cy="36324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911760" y="5110920"/>
            <a:ext cx="612720" cy="1800"/>
          </a:xfrm>
          <a:custGeom>
            <a:avLst/>
            <a:gdLst/>
            <a:ahLst/>
            <a:rect l="l" t="t" r="r" b="b"/>
            <a:pathLst>
              <a:path fill="none" w="4446" h="4">
                <a:moveTo>
                  <a:pt x="0" y="0"/>
                </a:moveTo>
                <a:lnTo>
                  <a:pt x="-2742" y="0"/>
                </a:lnTo>
                <a:lnTo>
                  <a:pt x="-2742" y="4"/>
                </a:lnTo>
                <a:lnTo>
                  <a:pt x="1704" y="4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5527800" y="4779000"/>
            <a:ext cx="277920" cy="152388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39880" y="4667400"/>
            <a:ext cx="4397400" cy="1446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 flipH="1" rot="10800000">
            <a:off x="2637360" y="5119200"/>
            <a:ext cx="198360" cy="274680"/>
          </a:xfrm>
          <a:custGeom>
            <a:avLst/>
            <a:gdLst/>
            <a:ahLst/>
            <a:rect l="l" t="t" r="r" b="b"/>
            <a:pathLst>
              <a:path fill="none" w="996" h="763">
                <a:moveTo>
                  <a:pt x="0" y="0"/>
                </a:moveTo>
                <a:lnTo>
                  <a:pt x="-444" y="0"/>
                </a:lnTo>
                <a:lnTo>
                  <a:pt x="-444" y="763"/>
                </a:lnTo>
                <a:lnTo>
                  <a:pt x="552" y="763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544760" y="5130720"/>
            <a:ext cx="1095120" cy="260280"/>
          </a:xfrm>
          <a:custGeom>
            <a:avLst/>
            <a:gdLst/>
            <a:ahLst/>
            <a:rect l="l" t="t" r="r" b="b"/>
            <a:pathLst>
              <a:path fill="none" w="8227" h="723">
                <a:moveTo>
                  <a:pt x="0" y="0"/>
                </a:moveTo>
                <a:lnTo>
                  <a:pt x="-5183" y="0"/>
                </a:lnTo>
                <a:lnTo>
                  <a:pt x="-5183" y="723"/>
                </a:lnTo>
                <a:lnTo>
                  <a:pt x="3044" y="723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773360" y="5391000"/>
            <a:ext cx="866520" cy="400320"/>
          </a:xfrm>
          <a:custGeom>
            <a:avLst/>
            <a:gdLst/>
            <a:ahLst/>
            <a:rect l="l" t="t" r="r" b="b"/>
            <a:pathLst>
              <a:path fill="none" w="5427" h="1111">
                <a:moveTo>
                  <a:pt x="0" y="0"/>
                </a:moveTo>
                <a:lnTo>
                  <a:pt x="-3020" y="0"/>
                </a:lnTo>
                <a:lnTo>
                  <a:pt x="-3020" y="1111"/>
                </a:lnTo>
                <a:lnTo>
                  <a:pt x="2407" y="1111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908680" y="4835520"/>
            <a:ext cx="1181160" cy="729360"/>
            <a:chOff x="5908680" y="4835520"/>
            <a:chExt cx="1181160" cy="729360"/>
          </a:xfrm>
        </p:grpSpPr>
        <p:sp>
          <p:nvSpPr>
            <p:cNvPr id="219" name=""/>
            <p:cNvSpPr/>
            <p:nvPr/>
          </p:nvSpPr>
          <p:spPr>
            <a:xfrm>
              <a:off x="5908680" y="4835520"/>
              <a:ext cx="103968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8680" y="4925880"/>
              <a:ext cx="1181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timu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5599080" y="5109480"/>
            <a:ext cx="308160" cy="3240"/>
          </a:xfrm>
          <a:custGeom>
            <a:avLst/>
            <a:gdLst/>
            <a:ahLst/>
            <a:rect l="l" t="t" r="r" b="b"/>
            <a:pathLst>
              <a:path fill="none" w="2239" h="11">
                <a:moveTo>
                  <a:pt x="0" y="0"/>
                </a:moveTo>
                <a:lnTo>
                  <a:pt x="-1381" y="0"/>
                </a:lnTo>
                <a:lnTo>
                  <a:pt x="-1381" y="11"/>
                </a:lnTo>
                <a:lnTo>
                  <a:pt x="858" y="11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7388280" y="4797360"/>
            <a:ext cx="1468440" cy="63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e maatre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" name=""/>
          <p:cNvCxnSpPr/>
          <p:nvPr/>
        </p:nvCxnSpPr>
        <p:spPr>
          <a:xfrm flipV="1">
            <a:off x="6949800" y="5116320"/>
            <a:ext cx="438840" cy="3600"/>
          </a:xfrm>
          <a:prstGeom prst="straightConnector1">
            <a:avLst/>
          </a:prstGeom>
          <a:ln w="25560">
            <a:solidFill>
              <a:srgbClr val="4f81bd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iedsniv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4890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amental diagram” op weg-niveau (theor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AE9E5A-009C-44F7-9858-5F87B750B9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0821" t="29177" r="21593" b="40497"/>
          <a:stretch/>
        </p:blipFill>
        <p:spPr>
          <a:xfrm>
            <a:off x="987480" y="3092400"/>
            <a:ext cx="733248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495080" y="3203640"/>
            <a:ext cx="3290760" cy="2009880"/>
            <a:chOff x="1495080" y="3203640"/>
            <a:chExt cx="3290760" cy="2009880"/>
          </a:xfrm>
        </p:grpSpPr>
        <p:sp>
          <p:nvSpPr>
            <p:cNvPr id="230" name=""/>
            <p:cNvSpPr/>
            <p:nvPr/>
          </p:nvSpPr>
          <p:spPr>
            <a:xfrm>
              <a:off x="1498320" y="3203640"/>
              <a:ext cx="0" cy="200700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495080" y="5213520"/>
              <a:ext cx="329076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093760" y="5305320"/>
            <a:ext cx="2907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theid (vtg/km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050840" y="2873520"/>
            <a:ext cx="4269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om (vtg/u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487520" y="3276720"/>
            <a:ext cx="2695680" cy="19476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380960" y="5940360"/>
            <a:ext cx="145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ktijk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654440" y="3139920"/>
            <a:ext cx="393228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629320" y="5943600"/>
            <a:ext cx="162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iddel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17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iedsniv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4890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amental diagram” op weg-niveau (theor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6/24/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5B6E74-2EB5-4D47-BD5D-0F65821AF9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0821" t="29177" r="21593" b="40497"/>
          <a:stretch/>
        </p:blipFill>
        <p:spPr>
          <a:xfrm>
            <a:off x="987480" y="3092400"/>
            <a:ext cx="733248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495080" y="3203640"/>
            <a:ext cx="3290760" cy="2009880"/>
            <a:chOff x="1495080" y="3203640"/>
            <a:chExt cx="3290760" cy="2009880"/>
          </a:xfrm>
        </p:grpSpPr>
        <p:sp>
          <p:nvSpPr>
            <p:cNvPr id="244" name=""/>
            <p:cNvSpPr/>
            <p:nvPr/>
          </p:nvSpPr>
          <p:spPr>
            <a:xfrm>
              <a:off x="1498320" y="3203640"/>
              <a:ext cx="0" cy="200700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495080" y="5213520"/>
              <a:ext cx="329076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093760" y="5305320"/>
            <a:ext cx="2907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theid (vtg/km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050840" y="2873520"/>
            <a:ext cx="4269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om (vtg/u/str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487520" y="3276720"/>
            <a:ext cx="2695680" cy="19476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380960" y="5940360"/>
            <a:ext cx="145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raktijk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5629320" y="5943600"/>
            <a:ext cx="1622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iddel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7640" y="76320"/>
            <a:ext cx="8226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857160" indent="-855720">
              <a:tabLst>
                <a:tab algn="l" pos="0"/>
                <a:tab algn="l" pos="857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Tahoma"/>
              </a:rPr>
              <a:t>Schalen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503280" y="1828800"/>
            <a:ext cx="432756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copic: vehicl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roscopic: link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108bd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level: network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00720" y="11160"/>
            <a:ext cx="3505320" cy="2147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16720" y="2151000"/>
            <a:ext cx="3311280" cy="1808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rcRect l="10160" t="57340" r="8934" b="15964"/>
          <a:stretch/>
        </p:blipFill>
        <p:spPr>
          <a:xfrm>
            <a:off x="287280" y="4103640"/>
            <a:ext cx="855828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perking van vraag en aanb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052720" y="936720"/>
            <a:ext cx="7020000" cy="5095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-431640" y="3527280"/>
            <a:ext cx="352728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916360" y="3311640"/>
            <a:ext cx="1440" cy="259236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epassing: perimeter contro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04720" y="1828800"/>
            <a:ext cx="6407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ud verkeer buiten de st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traging buiten de st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innen de stad soepelere doorstro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dat de moeite waar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enzo: rout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Zie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ea typeface="ＭＳ Ｐゴシック"/>
                <a:hlinkClick r:id="rId1"/>
              </a:rPr>
              <a:t>www.victorknoop.eu/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earch/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tworktransmission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280" y="-360"/>
            <a:ext cx="765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perkingen en uitbreidinge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272360" y="3613320"/>
            <a:ext cx="1297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504720" y="1828800"/>
            <a:ext cx="792000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perking: routeren moet mogelijk zi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baseerd op theoretische principes -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aliditeit nog niet in real life getoet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ffecten van voetgangers/fietsers/OV niet meegen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36:32Z</dcterms:created>
  <dc:creator>Netwerkgebruiker SBS</dc:creator>
  <dc:description/>
  <dc:language>en-US</dc:language>
  <cp:lastModifiedBy>Victor Knoop</cp:lastModifiedBy>
  <cp:lastPrinted>2010-01-29T10:18:44Z</cp:lastPrinted>
  <dcterms:modified xsi:type="dcterms:W3CDTF">2014-06-19T15:43:45Z</dcterms:modified>
  <cp:revision>882</cp:revision>
  <dc:subject/>
  <dc:title>PowerPoint-presentatie</dc:title>
</cp:coreProperties>
</file>