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0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15.png" ContentType="image/png"/>
  <Override PartName="/ppt/media/image28.wmf" ContentType="image/x-wmf"/>
  <Override PartName="/ppt/media/image3.jpeg" ContentType="image/jpeg"/>
  <Override PartName="/ppt/media/image6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26.jpeg" ContentType="image/jpe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4E966-BBE7-4D8B-BFC1-7BFCBC89C60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F0D7E-A92C-4CFC-ADA1-39F9E3F878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208C7-A367-4B14-83AA-0F1DB6A64F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37B3-1113-4E46-A45D-217108F41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358B-5E72-42B5-B905-30108384789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4B21-67A2-44C0-8429-EAAEACDC83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BF6A-D3A9-49A3-9D2B-94E2CC85DB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785C-E86A-475A-84E0-220C5453AC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5C34-FDDE-4DDF-88D1-E4876918466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56EE-B6D8-4891-A453-3B58D42BBB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F356-8D55-4803-B97C-747DC1884C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DF07-C0E4-4686-B7EE-B9E4FFADC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04FA-3B36-490A-B719-9D76828A3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743F-9A1A-41FC-88F3-A95CE7F4D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1B18-1976-42BA-ADB1-0627DEB78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334A-715C-4866-9398-E4D2BE2F0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05B6-4596-4543-9B2B-B5F8BE7EC7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B6DE-7AEB-47AE-BE34-E5A5E21BAF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1F9C-C904-4F72-9EFE-54E0AA5D5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074B-9504-4B72-ACBD-A0B3DBC4AA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596-57E3-440A-BB93-842947DF73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698-2A3C-4D4A-8A84-FA9D0A8A9E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613-E208-4A18-9781-E6222E0192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4BD-D3CE-4F5C-B7C7-E7F771F2AE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C2C-D54B-4C20-B320-C98CA1146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740E-EDB8-4AAF-9E90-B880A5D2E4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CDD-394E-49A2-A2B1-201C966408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5D7-F5C1-4F6C-8241-CEFF8AEC7D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B94-C62D-422E-B428-A1C7530E03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C5E-2447-434A-B552-1C6A204B98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2F7-6BB2-433F-8E2A-8199688DDF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B40-C1E9-4D2A-BC5A-EEB147110C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01F-07C7-444B-B0C3-0F865A389F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3EA17-E2A6-4290-B636-A90A57B515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E6F01-2758-4DDF-BF91-4D1DD1C4B9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FDE3C-B242-4D41-AEEB-6849C84ED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7D72-FAB2-45E8-9190-89717177B5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2D55E-3FA8-4D3C-AF47-5EB32F6F30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7834B-B920-442E-8154-D098B505A6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A1FEB-7F50-492C-8C02-AC097998FE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3ADA9-4065-4333-84BB-C8041BAB0F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26899-31E6-4C57-AC6E-04E6911C37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C4F8C-7A70-4149-89EB-7DC44BE7AF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010FC-F18C-4074-B149-32A5978A79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71300-6244-407B-9A77-2083B18DA1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EBD9F-6809-4390-B5FA-2A4872D76D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A0EA7-14DD-4983-ACDD-1B321D57C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86F7-B4E7-4F12-A356-3DFD559801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B6CC8-6E23-4286-AEDB-7DA19DFE21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29770-C16F-45DF-89AC-6CDDB94470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10859-4DFD-42E3-A10F-38E2A85F96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4AA14-1B3A-4DFB-8796-176352A917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415A3-CD40-4BD5-A735-682BC186DF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194E4-FD96-4903-A9F6-C95F90E86C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0CDC1-A180-4FBF-87B8-EEC91E8931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7144C-5182-4354-8824-444EFC5031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EAD92-E832-4348-AF3B-0D0DDD1BC8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93C89-A249-491C-9155-DAB43B2A2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4EC6-3B40-41DF-8225-320777FE97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181ED-856C-4012-AAA5-D3D6127B2A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6277-3CEA-4118-AD90-0C1356ADCA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C42-71FA-49CB-830D-21E58C30D8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4496-1326-4C78-8A14-D5EF197F7E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70C7-563B-493C-AAD4-BCD7CF901C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D67B-E3F0-4EA1-A9F0-8670AE5A31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3CC6-AFAA-4756-A2C9-FD3F10F2C0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72B9-B954-456E-AA07-3206C69AD7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9B7F-69D2-4950-8B5F-99EE87B5B6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10E1-8F64-41CD-B913-BFEC8B29B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06EF-C6E1-492C-A6DF-65853761D0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2EAD-9DFA-4306-AB80-6C652B377C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C319-89B6-4E0A-B619-48C97FC1D6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F25-7D6D-4943-889A-B95BD19013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8E31-EA23-488A-9E77-59F9EEE126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D483-5001-4C31-B6B9-9C018E56588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50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A42B3-2497-4E73-AE50-7EA39E897B76}" type="slidenum">
              <a:rPr b="0" lang="fr-F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36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40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44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42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7F437-787F-4B9B-98BC-974CA253D067}" type="slidenum">
              <a:rPr b="0" lang="fr-F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83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68A74-348F-4FA9-9D2B-205AA1277177}" type="slidenum">
              <a:rPr b="0" lang="fr-FR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124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07CAF-2CEC-40E9-B2BA-2DF1D7115CF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165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C728B-455A-4329-8EE2-D9D22C81650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206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FE225-2C6A-4956-BAFF-1E6F85518C4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24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28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0" descr="masquePPT_p2_mixte"/>
          <p:cNvPicPr/>
          <p:nvPr/>
        </p:nvPicPr>
        <p:blipFill>
          <a:blip r:embed="rId2"/>
          <a:stretch/>
        </p:blipFill>
        <p:spPr>
          <a:xfrm>
            <a:off x="3636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327" name="Image 2" descr=""/>
          <p:cNvPicPr/>
          <p:nvPr/>
        </p:nvPicPr>
        <p:blipFill>
          <a:blip r:embed="rId3"/>
          <a:stretch/>
        </p:blipFill>
        <p:spPr>
          <a:xfrm>
            <a:off x="6516720" y="5950080"/>
            <a:ext cx="1455840" cy="687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masquePTT_p1_mixte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4"/>
          <p:cNvSpPr/>
          <p:nvPr/>
        </p:nvSpPr>
        <p:spPr>
          <a:xfrm>
            <a:off x="250920" y="1828800"/>
            <a:ext cx="8642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nalytical derivations of merge capacity: a multilane approa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250920" y="3645000"/>
            <a:ext cx="8786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udovic Leclercq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,2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, Florian Marczak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, Victor L. Knoop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, Serge P. Hoogendoorn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Université de Lyon, IFSTTAR / ENTPE, COSYS, 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Delft University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Image 4" descr="Entpe3cm.tif"/>
          <p:cNvPicPr/>
          <p:nvPr/>
        </p:nvPicPr>
        <p:blipFill>
          <a:blip r:embed="rId2"/>
          <a:stretch/>
        </p:blipFill>
        <p:spPr>
          <a:xfrm>
            <a:off x="5940360" y="5638680"/>
            <a:ext cx="568440" cy="666720"/>
          </a:xfrm>
          <a:prstGeom prst="rect">
            <a:avLst/>
          </a:prstGeom>
          <a:ln w="0">
            <a:noFill/>
          </a:ln>
        </p:spPr>
      </p:pic>
      <p:pic>
        <p:nvPicPr>
          <p:cNvPr id="497" name="Image 5" descr=""/>
          <p:cNvPicPr/>
          <p:nvPr/>
        </p:nvPicPr>
        <p:blipFill>
          <a:blip r:embed="rId3"/>
          <a:stretch/>
        </p:blipFill>
        <p:spPr>
          <a:xfrm>
            <a:off x="3992400" y="5670720"/>
            <a:ext cx="1355760" cy="603000"/>
          </a:xfrm>
          <a:prstGeom prst="rect">
            <a:avLst/>
          </a:prstGeom>
          <a:ln w="0">
            <a:noFill/>
          </a:ln>
        </p:spPr>
      </p:pic>
      <p:pic>
        <p:nvPicPr>
          <p:cNvPr id="498" name="Image 1" descr=""/>
          <p:cNvPicPr/>
          <p:nvPr/>
        </p:nvPicPr>
        <p:blipFill>
          <a:blip r:embed="rId4"/>
          <a:stretch/>
        </p:blipFill>
        <p:spPr>
          <a:xfrm>
            <a:off x="1835280" y="5492880"/>
            <a:ext cx="2036520" cy="960480"/>
          </a:xfrm>
          <a:prstGeom prst="rect">
            <a:avLst/>
          </a:prstGeom>
          <a:ln w="0">
            <a:noFill/>
          </a:ln>
        </p:spPr>
      </p:pic>
      <p:pic>
        <p:nvPicPr>
          <p:cNvPr id="499" name="Image 1" descr=""/>
          <p:cNvPicPr/>
          <p:nvPr/>
        </p:nvPicPr>
        <p:blipFill>
          <a:blip r:embed="rId5"/>
          <a:stretch/>
        </p:blipFill>
        <p:spPr>
          <a:xfrm>
            <a:off x="1008000" y="333360"/>
            <a:ext cx="78850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Refined capacity formulae for the local merge capacity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(Leclercq </a:t>
            </a:r>
            <a:r>
              <a:rPr b="0" i="1" lang="fr-FR" sz="2400" spc="-1" strike="noStrike">
                <a:solidFill>
                  <a:srgbClr val="0056a9"/>
                </a:solidFill>
                <a:latin typeface="Arial"/>
              </a:rPr>
              <a:t>et al</a:t>
            </a: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, 2014) introduces refined capacity formulae that account for: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The interactions between voids and wa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Heterogeneous merging vehicle characteristics (mainly a proportion of trucks and different acceleration rates for trucks and ca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We use these refined expression for </a:t>
            </a:r>
            <a:r>
              <a:rPr b="0" i="1" lang="fr-FR" sz="2400" spc="-1" strike="noStrike">
                <a:solidFill>
                  <a:srgbClr val="0056a9"/>
                </a:solidFill>
                <a:latin typeface="Arial"/>
              </a:rPr>
              <a:t>C</a:t>
            </a:r>
            <a:r>
              <a:rPr b="0" lang="fr-FR" sz="2400" spc="-1" strike="noStrike" baseline="-25000">
                <a:solidFill>
                  <a:srgbClr val="0056a9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56a9"/>
                </a:solidFill>
                <a:latin typeface="Arial"/>
              </a:rPr>
              <a:t> and </a:t>
            </a:r>
            <a:r>
              <a:rPr b="0" i="1" lang="fr-FR" sz="2400" spc="-1" strike="noStrike">
                <a:solidFill>
                  <a:srgbClr val="0056a9"/>
                </a:solidFill>
                <a:latin typeface="Arial"/>
              </a:rPr>
              <a:t>C</a:t>
            </a:r>
            <a:r>
              <a:rPr b="0" lang="fr-FR" sz="2400" spc="-1" strike="noStrike" baseline="-25000">
                <a:solidFill>
                  <a:srgbClr val="0056a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85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EF627-4E2C-46A6-98DE-26B9B094D558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Sensitivity to road parameters 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7010280" y="6481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94847-5469-476C-9199-0A5BDB795188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er 23"/>
          <p:cNvGrpSpPr/>
          <p:nvPr/>
        </p:nvGrpSpPr>
        <p:grpSpPr>
          <a:xfrm>
            <a:off x="998640" y="1332000"/>
            <a:ext cx="3093840" cy="2681640"/>
            <a:chOff x="998640" y="1332000"/>
            <a:chExt cx="3093840" cy="2681640"/>
          </a:xfrm>
        </p:grpSpPr>
        <p:grpSp>
          <p:nvGrpSpPr>
            <p:cNvPr id="589" name="Grouper 10"/>
            <p:cNvGrpSpPr/>
            <p:nvPr/>
          </p:nvGrpSpPr>
          <p:grpSpPr>
            <a:xfrm>
              <a:off x="998640" y="1467360"/>
              <a:ext cx="3084840" cy="2546280"/>
              <a:chOff x="998640" y="1467360"/>
              <a:chExt cx="3084840" cy="2546280"/>
            </a:xfrm>
          </p:grpSpPr>
          <p:pic>
            <p:nvPicPr>
              <p:cNvPr id="590" name="Image 7" descr="sensibility.eps"/>
              <p:cNvPicPr/>
              <p:nvPr/>
            </p:nvPicPr>
            <p:blipFill>
              <a:blip r:embed="rId1"/>
              <a:srcRect l="0" t="32998" r="66254" b="32784"/>
              <a:stretch/>
            </p:blipFill>
            <p:spPr>
              <a:xfrm>
                <a:off x="998640" y="1467360"/>
                <a:ext cx="3084840" cy="21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ZoneTexte 8"/>
              <p:cNvSpPr/>
              <p:nvPr/>
            </p:nvSpPr>
            <p:spPr>
              <a:xfrm>
                <a:off x="1062360" y="3645360"/>
                <a:ext cx="29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 of the insertion ar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ZoneTexte 14"/>
            <p:cNvSpPr/>
            <p:nvPr/>
          </p:nvSpPr>
          <p:spPr>
            <a:xfrm>
              <a:off x="3629520" y="24933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ZoneTexte 15"/>
            <p:cNvSpPr/>
            <p:nvPr/>
          </p:nvSpPr>
          <p:spPr>
            <a:xfrm>
              <a:off x="3629520" y="205200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ZoneTexte 16"/>
            <p:cNvSpPr/>
            <p:nvPr/>
          </p:nvSpPr>
          <p:spPr>
            <a:xfrm>
              <a:off x="3302280" y="1332000"/>
              <a:ext cx="790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er 24"/>
          <p:cNvGrpSpPr/>
          <p:nvPr/>
        </p:nvGrpSpPr>
        <p:grpSpPr>
          <a:xfrm>
            <a:off x="4859280" y="1322280"/>
            <a:ext cx="3175200" cy="2893680"/>
            <a:chOff x="4859280" y="1322280"/>
            <a:chExt cx="3175200" cy="2893680"/>
          </a:xfrm>
        </p:grpSpPr>
        <p:grpSp>
          <p:nvGrpSpPr>
            <p:cNvPr id="596" name="Grouper 11"/>
            <p:cNvGrpSpPr/>
            <p:nvPr/>
          </p:nvGrpSpPr>
          <p:grpSpPr>
            <a:xfrm>
              <a:off x="4859280" y="1466640"/>
              <a:ext cx="3175200" cy="2749320"/>
              <a:chOff x="4859280" y="1466640"/>
              <a:chExt cx="3175200" cy="2749320"/>
            </a:xfrm>
          </p:grpSpPr>
          <p:pic>
            <p:nvPicPr>
              <p:cNvPr id="597" name="Image 6" descr="sensibility.eps"/>
              <p:cNvPicPr/>
              <p:nvPr/>
            </p:nvPicPr>
            <p:blipFill>
              <a:blip r:embed="rId2"/>
              <a:srcRect l="65281" t="0" r="0" b="67008"/>
              <a:stretch/>
            </p:blipFill>
            <p:spPr>
              <a:xfrm>
                <a:off x="4859280" y="1466640"/>
                <a:ext cx="3175200" cy="20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ZoneTexte 9"/>
              <p:cNvSpPr/>
              <p:nvPr/>
            </p:nvSpPr>
            <p:spPr>
              <a:xfrm>
                <a:off x="4980240" y="3573360"/>
                <a:ext cx="2932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 of the discretionary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ne-changing ar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ZoneTexte 17"/>
            <p:cNvSpPr/>
            <p:nvPr/>
          </p:nvSpPr>
          <p:spPr>
            <a:xfrm>
              <a:off x="7465680" y="24836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18"/>
            <p:cNvSpPr/>
            <p:nvPr/>
          </p:nvSpPr>
          <p:spPr>
            <a:xfrm>
              <a:off x="7465680" y="20422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ZoneTexte 19"/>
            <p:cNvSpPr/>
            <p:nvPr/>
          </p:nvSpPr>
          <p:spPr>
            <a:xfrm>
              <a:off x="7138440" y="1322280"/>
              <a:ext cx="790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er 25"/>
          <p:cNvGrpSpPr/>
          <p:nvPr/>
        </p:nvGrpSpPr>
        <p:grpSpPr>
          <a:xfrm>
            <a:off x="900000" y="4076640"/>
            <a:ext cx="3265560" cy="2601000"/>
            <a:chOff x="900000" y="4076640"/>
            <a:chExt cx="3265560" cy="2601000"/>
          </a:xfrm>
        </p:grpSpPr>
        <p:grpSp>
          <p:nvGrpSpPr>
            <p:cNvPr id="603" name="Grouper 13"/>
            <p:cNvGrpSpPr/>
            <p:nvPr/>
          </p:nvGrpSpPr>
          <p:grpSpPr>
            <a:xfrm>
              <a:off x="900000" y="4148640"/>
              <a:ext cx="3213000" cy="2529000"/>
              <a:chOff x="900000" y="4148640"/>
              <a:chExt cx="3213000" cy="2529000"/>
            </a:xfrm>
          </p:grpSpPr>
          <p:pic>
            <p:nvPicPr>
              <p:cNvPr id="604" name="Image 5" descr="sensibility.eps"/>
              <p:cNvPicPr/>
              <p:nvPr/>
            </p:nvPicPr>
            <p:blipFill>
              <a:blip r:embed="rId3"/>
              <a:srcRect l="31806" t="65787" r="33056" b="0"/>
              <a:stretch/>
            </p:blipFill>
            <p:spPr>
              <a:xfrm>
                <a:off x="900000" y="4148640"/>
                <a:ext cx="3213000" cy="212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ZoneTexte 12"/>
              <p:cNvSpPr/>
              <p:nvPr/>
            </p:nvSpPr>
            <p:spPr>
              <a:xfrm>
                <a:off x="1838880" y="6309360"/>
                <a:ext cx="133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rge rat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ZoneTexte 20"/>
            <p:cNvSpPr/>
            <p:nvPr/>
          </p:nvSpPr>
          <p:spPr>
            <a:xfrm>
              <a:off x="3702600" y="52383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ZoneTexte 21"/>
            <p:cNvSpPr/>
            <p:nvPr/>
          </p:nvSpPr>
          <p:spPr>
            <a:xfrm>
              <a:off x="3702600" y="47966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ZoneTexte 22"/>
            <p:cNvSpPr/>
            <p:nvPr/>
          </p:nvSpPr>
          <p:spPr>
            <a:xfrm>
              <a:off x="3375360" y="4076640"/>
              <a:ext cx="790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3366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Sensitivity to vehicle characteristics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10" name="Image 2" descr="sensibility.eps"/>
          <p:cNvPicPr/>
          <p:nvPr/>
        </p:nvPicPr>
        <p:blipFill>
          <a:blip r:embed="rId1"/>
          <a:srcRect l="33335" t="33611" r="0" b="32986"/>
          <a:stretch/>
        </p:blipFill>
        <p:spPr>
          <a:xfrm>
            <a:off x="395280" y="1557360"/>
            <a:ext cx="6095880" cy="2070000"/>
          </a:xfrm>
          <a:prstGeom prst="rect">
            <a:avLst/>
          </a:prstGeom>
          <a:ln w="0">
            <a:noFill/>
          </a:ln>
        </p:spPr>
      </p:pic>
      <p:pic>
        <p:nvPicPr>
          <p:cNvPr id="611" name="Image 3" descr="sensibility.eps"/>
          <p:cNvPicPr/>
          <p:nvPr/>
        </p:nvPicPr>
        <p:blipFill>
          <a:blip r:embed="rId2"/>
          <a:srcRect l="0" t="0" r="33613" b="65984"/>
          <a:stretch/>
        </p:blipFill>
        <p:spPr>
          <a:xfrm>
            <a:off x="420840" y="3984480"/>
            <a:ext cx="6070320" cy="2108520"/>
          </a:xfrm>
          <a:prstGeom prst="rect">
            <a:avLst/>
          </a:prstGeom>
          <a:ln w="0">
            <a:noFill/>
          </a:ln>
        </p:spPr>
      </p:pic>
      <p:sp>
        <p:nvSpPr>
          <p:cNvPr id="612" name="ZoneTexte 4"/>
          <p:cNvSpPr/>
          <p:nvPr/>
        </p:nvSpPr>
        <p:spPr>
          <a:xfrm>
            <a:off x="1055520" y="3573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5"/>
          <p:cNvSpPr/>
          <p:nvPr/>
        </p:nvSpPr>
        <p:spPr>
          <a:xfrm>
            <a:off x="4155120" y="3564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ZoneTexte 6"/>
          <p:cNvSpPr/>
          <p:nvPr/>
        </p:nvSpPr>
        <p:spPr>
          <a:xfrm>
            <a:off x="1122840" y="60181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oneTexte 7"/>
          <p:cNvSpPr/>
          <p:nvPr/>
        </p:nvSpPr>
        <p:spPr>
          <a:xfrm>
            <a:off x="3700800" y="587700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perform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ionary  lane-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oneTexte 8"/>
          <p:cNvSpPr/>
          <p:nvPr/>
        </p:nvSpPr>
        <p:spPr>
          <a:xfrm>
            <a:off x="2910240" y="2492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ZoneTexte 9"/>
          <p:cNvSpPr/>
          <p:nvPr/>
        </p:nvSpPr>
        <p:spPr>
          <a:xfrm>
            <a:off x="2910240" y="2050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"/>
          <p:cNvSpPr/>
          <p:nvPr/>
        </p:nvSpPr>
        <p:spPr>
          <a:xfrm>
            <a:off x="2583000" y="133200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ZoneTexte 11"/>
          <p:cNvSpPr/>
          <p:nvPr/>
        </p:nvSpPr>
        <p:spPr>
          <a:xfrm>
            <a:off x="5953680" y="2492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oneTexte 12"/>
          <p:cNvSpPr/>
          <p:nvPr/>
        </p:nvSpPr>
        <p:spPr>
          <a:xfrm>
            <a:off x="5953680" y="2050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3"/>
          <p:cNvSpPr/>
          <p:nvPr/>
        </p:nvSpPr>
        <p:spPr>
          <a:xfrm>
            <a:off x="5626080" y="133200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4"/>
          <p:cNvSpPr/>
          <p:nvPr/>
        </p:nvSpPr>
        <p:spPr>
          <a:xfrm>
            <a:off x="3054600" y="5435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ZoneTexte 15"/>
          <p:cNvSpPr/>
          <p:nvPr/>
        </p:nvSpPr>
        <p:spPr>
          <a:xfrm>
            <a:off x="3054600" y="4994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6"/>
          <p:cNvSpPr/>
          <p:nvPr/>
        </p:nvSpPr>
        <p:spPr>
          <a:xfrm>
            <a:off x="2727360" y="427500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ZoneTexte 17"/>
          <p:cNvSpPr/>
          <p:nvPr/>
        </p:nvSpPr>
        <p:spPr>
          <a:xfrm>
            <a:off x="6026400" y="5165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ZoneTexte 18"/>
          <p:cNvSpPr/>
          <p:nvPr/>
        </p:nvSpPr>
        <p:spPr>
          <a:xfrm>
            <a:off x="6026400" y="4724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ZoneTexte 19"/>
          <p:cNvSpPr/>
          <p:nvPr/>
        </p:nvSpPr>
        <p:spPr>
          <a:xfrm>
            <a:off x="5699160" y="414972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omparison with a traffic simulator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29" name="Image 2" descr="confrontation_simulation.eps"/>
          <p:cNvPicPr/>
          <p:nvPr/>
        </p:nvPicPr>
        <p:blipFill>
          <a:blip r:embed="rId1"/>
          <a:stretch/>
        </p:blipFill>
        <p:spPr>
          <a:xfrm>
            <a:off x="395280" y="1557360"/>
            <a:ext cx="8397720" cy="3465360"/>
          </a:xfrm>
          <a:prstGeom prst="rect">
            <a:avLst/>
          </a:prstGeom>
          <a:ln w="0">
            <a:noFill/>
          </a:ln>
        </p:spPr>
      </p:pic>
      <p:sp>
        <p:nvSpPr>
          <p:cNvPr id="630" name="ZoneTexte 3"/>
          <p:cNvSpPr/>
          <p:nvPr/>
        </p:nvSpPr>
        <p:spPr>
          <a:xfrm>
            <a:off x="5807160" y="5229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s the relaxation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Experimental validation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33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5877A-410F-4CCC-AF88-5216987E2508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Experimental site (M6 – England)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grpSp>
        <p:nvGrpSpPr>
          <p:cNvPr id="635" name="Grouper 1"/>
          <p:cNvGrpSpPr/>
          <p:nvPr/>
        </p:nvGrpSpPr>
        <p:grpSpPr>
          <a:xfrm>
            <a:off x="355680" y="3290760"/>
            <a:ext cx="4433760" cy="3351240"/>
            <a:chOff x="355680" y="3290760"/>
            <a:chExt cx="4433760" cy="3351240"/>
          </a:xfrm>
        </p:grpSpPr>
        <p:pic>
          <p:nvPicPr>
            <p:cNvPr id="636" name="Image 5" descr="Site.jpg"/>
            <p:cNvPicPr/>
            <p:nvPr/>
          </p:nvPicPr>
          <p:blipFill>
            <a:blip r:embed="rId1"/>
            <a:stretch/>
          </p:blipFill>
          <p:spPr>
            <a:xfrm>
              <a:off x="355680" y="3290760"/>
              <a:ext cx="4433760" cy="33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Ellipse 7"/>
            <p:cNvSpPr/>
            <p:nvPr/>
          </p:nvSpPr>
          <p:spPr>
            <a:xfrm rot="1789200">
              <a:off x="852120" y="4674960"/>
              <a:ext cx="3274920" cy="460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Image 5" descr="Fig7.eps"/>
          <p:cNvPicPr/>
          <p:nvPr/>
        </p:nvPicPr>
        <p:blipFill>
          <a:blip r:embed="rId2"/>
          <a:srcRect l="0" t="1644" r="0" b="72860"/>
          <a:stretch/>
        </p:blipFill>
        <p:spPr>
          <a:xfrm>
            <a:off x="2195640" y="1488960"/>
            <a:ext cx="6723000" cy="150840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er 9"/>
          <p:cNvGrpSpPr/>
          <p:nvPr/>
        </p:nvGrpSpPr>
        <p:grpSpPr>
          <a:xfrm>
            <a:off x="3547800" y="1412280"/>
            <a:ext cx="2732040" cy="1903320"/>
            <a:chOff x="3547800" y="1412280"/>
            <a:chExt cx="2732040" cy="1903320"/>
          </a:xfrm>
        </p:grpSpPr>
        <p:grpSp>
          <p:nvGrpSpPr>
            <p:cNvPr id="640" name="Grouper 4"/>
            <p:cNvGrpSpPr/>
            <p:nvPr/>
          </p:nvGrpSpPr>
          <p:grpSpPr>
            <a:xfrm>
              <a:off x="3547800" y="1417320"/>
              <a:ext cx="1169640" cy="1898280"/>
              <a:chOff x="3547800" y="1417320"/>
              <a:chExt cx="1169640" cy="1898280"/>
            </a:xfrm>
          </p:grpSpPr>
          <p:cxnSp>
            <p:nvCxnSpPr>
              <p:cNvPr id="641" name="Connecteur droit avec flèche 2"/>
              <p:cNvCxnSpPr/>
              <p:nvPr/>
            </p:nvCxnSpPr>
            <p:spPr>
              <a:xfrm flipV="1">
                <a:off x="4132080" y="1417320"/>
                <a:ext cx="1080" cy="1651680"/>
              </a:xfrm>
              <a:prstGeom prst="straightConnector1">
                <a:avLst/>
              </a:prstGeom>
              <a:ln w="25560">
                <a:solidFill>
                  <a:srgbClr val="1f497d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642" name="ZoneTexte 3"/>
              <p:cNvSpPr/>
              <p:nvPr/>
            </p:nvSpPr>
            <p:spPr>
              <a:xfrm>
                <a:off x="3547800" y="2947320"/>
                <a:ext cx="11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1f497d"/>
                    </a:solidFill>
                    <a:latin typeface="Arial"/>
                  </a:rPr>
                  <a:t>Upstr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er 6"/>
            <p:cNvGrpSpPr/>
            <p:nvPr/>
          </p:nvGrpSpPr>
          <p:grpSpPr>
            <a:xfrm>
              <a:off x="4818960" y="1412280"/>
              <a:ext cx="1460880" cy="1902240"/>
              <a:chOff x="4818960" y="1412280"/>
              <a:chExt cx="1460880" cy="1902240"/>
            </a:xfrm>
          </p:grpSpPr>
          <p:cxnSp>
            <p:nvCxnSpPr>
              <p:cNvPr id="644" name="Connecteur droit avec flèche 8"/>
              <p:cNvCxnSpPr/>
              <p:nvPr/>
            </p:nvCxnSpPr>
            <p:spPr>
              <a:xfrm flipV="1">
                <a:off x="5547960" y="1412280"/>
                <a:ext cx="1080" cy="1652040"/>
              </a:xfrm>
              <a:prstGeom prst="straightConnector1">
                <a:avLst/>
              </a:prstGeom>
              <a:ln w="25560">
                <a:solidFill>
                  <a:srgbClr val="1f497d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645" name="ZoneTexte 10"/>
              <p:cNvSpPr/>
              <p:nvPr/>
            </p:nvSpPr>
            <p:spPr>
              <a:xfrm>
                <a:off x="4818960" y="2946240"/>
                <a:ext cx="14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1f497d"/>
                    </a:solidFill>
                    <a:latin typeface="Arial"/>
                  </a:rPr>
                  <a:t>Downstr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6" name="Image 13" descr="Fig7.eps"/>
          <p:cNvPicPr/>
          <p:nvPr/>
        </p:nvPicPr>
        <p:blipFill>
          <a:blip r:embed="rId3"/>
          <a:srcRect l="0" t="26290" r="0" b="48287"/>
          <a:stretch/>
        </p:blipFill>
        <p:spPr>
          <a:xfrm>
            <a:off x="3851280" y="3716280"/>
            <a:ext cx="5041800" cy="1130400"/>
          </a:xfrm>
          <a:prstGeom prst="rect">
            <a:avLst/>
          </a:prstGeom>
          <a:ln w="0">
            <a:noFill/>
          </a:ln>
        </p:spPr>
      </p:pic>
      <p:sp>
        <p:nvSpPr>
          <p:cNvPr id="647" name="ZoneTexte 1"/>
          <p:cNvSpPr/>
          <p:nvPr/>
        </p:nvSpPr>
        <p:spPr>
          <a:xfrm>
            <a:off x="4885920" y="5013360"/>
            <a:ext cx="42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days of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periods (20 min) of heavy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Extended sketch of the model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49" name="Image 2" descr="illustration_merge_3lanes.eps"/>
          <p:cNvPicPr/>
          <p:nvPr/>
        </p:nvPicPr>
        <p:blipFill>
          <a:blip r:embed="rId1"/>
          <a:stretch/>
        </p:blipFill>
        <p:spPr>
          <a:xfrm>
            <a:off x="501480" y="1576440"/>
            <a:ext cx="8102880" cy="3797280"/>
          </a:xfrm>
          <a:prstGeom prst="rect">
            <a:avLst/>
          </a:prstGeom>
          <a:ln w="0">
            <a:noFill/>
          </a:ln>
        </p:spPr>
      </p:pic>
      <p:sp>
        <p:nvSpPr>
          <p:cNvPr id="650" name="ZoneTexte 3"/>
          <p:cNvSpPr/>
          <p:nvPr/>
        </p:nvSpPr>
        <p:spPr>
          <a:xfrm>
            <a:off x="7305840" y="4437000"/>
            <a:ext cx="12445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ZoneTexte 4"/>
          <p:cNvSpPr/>
          <p:nvPr/>
        </p:nvSpPr>
        <p:spPr>
          <a:xfrm>
            <a:off x="297000" y="5084640"/>
            <a:ext cx="578268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gh calib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D (per lane):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15 km/h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20 km/h,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45 veh/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.8 m/s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3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60 m ;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L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500" spc="-1" strike="noStrike">
                <a:solidFill>
                  <a:srgbClr val="00a6a4"/>
                </a:solidFill>
                <a:latin typeface="Arial"/>
              </a:rPr>
              <a:t>Experimental results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653" name="Image 2" descr="empirical_validation.eps"/>
          <p:cNvPicPr/>
          <p:nvPr/>
        </p:nvPicPr>
        <p:blipFill>
          <a:blip r:embed="rId1"/>
          <a:stretch/>
        </p:blipFill>
        <p:spPr>
          <a:xfrm>
            <a:off x="395280" y="1546200"/>
            <a:ext cx="745344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Conclusion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56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DB153-F9F5-419E-A4DA-4593ECC32DC6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500" spc="-1" strike="noStrike">
                <a:solidFill>
                  <a:srgbClr val="00a6a4"/>
                </a:solidFill>
                <a:latin typeface="Arial"/>
              </a:rPr>
              <a:t>Conclusion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Combining different analytical formulae designed for local problems (local merge, discretionary lane-changing,…) leads to a global analytical model for multilane freeways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Fast (low computational cost) estimation can be obtained for the total effective capacity and the capacity per lane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The proposed framework can account for vehicle heterogeneity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2401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First experimental results are promising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56a9"/>
                </a:solidFill>
                <a:latin typeface="Tw Cen MT"/>
                <a:ea typeface="ＭＳ Ｐゴシック"/>
              </a:rPr>
              <a:t>Of course, this is only an estimate of the mean capacity value for a large time period (20 min). This approach is not able to estimate the short-term evolution of the flow (traffic dynamics)</a:t>
            </a: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spcAft>
                <a:spcPts val="4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59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2D56C-BF06-49BB-83A4-9CC1A201B661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Outline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Presentation of the analytical framework for multilane freeways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Numerical results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nsibility to road parame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nsitivity to vehicle characteristic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mparison with traffic simul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Experimental validation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DF434-9F8D-4BDD-844B-D7883472BD77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6a9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56a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324000" y="441000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lercq, L., Knoop, V., Marczak, F., Hoogendoorn, S. Capacity Drops at Merges: New Analytical Investigation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edings of the IEEE-ITSC2014 confer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Qingdao, China, Octob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lercq, L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val, J.A., Chiabaut, N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 Drops at Merges: an endogenous model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nsportation Research Part B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(9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302-131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The modelling Framework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05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980B9-AA94-43B0-A69E-DC6EB45D529B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Sketch of the merge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8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7DC05-6267-480F-8805-D93F8AAB5749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Image 4" descr=""/>
          <p:cNvPicPr/>
          <p:nvPr/>
        </p:nvPicPr>
        <p:blipFill>
          <a:blip r:embed="rId2"/>
          <a:stretch/>
        </p:blipFill>
        <p:spPr>
          <a:xfrm>
            <a:off x="611280" y="2031840"/>
            <a:ext cx="7715160" cy="335916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er 11"/>
          <p:cNvGrpSpPr/>
          <p:nvPr/>
        </p:nvGrpSpPr>
        <p:grpSpPr>
          <a:xfrm>
            <a:off x="5214600" y="2997360"/>
            <a:ext cx="3617280" cy="2379240"/>
            <a:chOff x="5214600" y="2997360"/>
            <a:chExt cx="3617280" cy="2379240"/>
          </a:xfrm>
        </p:grpSpPr>
        <p:sp>
          <p:nvSpPr>
            <p:cNvPr id="511" name="Bouée 6"/>
            <p:cNvSpPr/>
            <p:nvPr/>
          </p:nvSpPr>
          <p:spPr>
            <a:xfrm>
              <a:off x="5419080" y="2997360"/>
              <a:ext cx="2177280" cy="1511640"/>
            </a:xfrm>
            <a:custGeom>
              <a:avLst/>
              <a:gdLst/>
              <a:ahLst/>
              <a:rect l="l" t="t" r="r" b="b"/>
              <a:pathLst>
                <a:path w="2177522" h="1512168">
                  <a:moveTo>
                    <a:pt x="0" y="756084"/>
                  </a:moveTo>
                  <a:cubicBezTo>
                    <a:pt x="0" y="338510"/>
                    <a:pt x="487455" y="0"/>
                    <a:pt x="1088761" y="0"/>
                  </a:cubicBezTo>
                  <a:cubicBezTo>
                    <a:pt x="1690067" y="0"/>
                    <a:pt x="2177522" y="338510"/>
                    <a:pt x="2177522" y="756084"/>
                  </a:cubicBezTo>
                  <a:cubicBezTo>
                    <a:pt x="2177522" y="1173658"/>
                    <a:pt x="1690067" y="1512168"/>
                    <a:pt x="1088761" y="1512168"/>
                  </a:cubicBezTo>
                  <a:cubicBezTo>
                    <a:pt x="487455" y="1512168"/>
                    <a:pt x="0" y="1173658"/>
                    <a:pt x="0" y="756084"/>
                  </a:cubicBezTo>
                  <a:close/>
                  <a:moveTo>
                    <a:pt x="104430" y="756084"/>
                  </a:moveTo>
                  <a:cubicBezTo>
                    <a:pt x="104430" y="1115983"/>
                    <a:pt x="545130" y="1407738"/>
                    <a:pt x="1088761" y="1407738"/>
                  </a:cubicBezTo>
                  <a:cubicBezTo>
                    <a:pt x="1632392" y="1407738"/>
                    <a:pt x="2073092" y="1115983"/>
                    <a:pt x="2073092" y="756084"/>
                  </a:cubicBezTo>
                  <a:cubicBezTo>
                    <a:pt x="2073092" y="396185"/>
                    <a:pt x="1632392" y="104430"/>
                    <a:pt x="1088761" y="104430"/>
                  </a:cubicBezTo>
                  <a:cubicBezTo>
                    <a:pt x="545130" y="104430"/>
                    <a:pt x="104430" y="396185"/>
                    <a:pt x="104430" y="756084"/>
                  </a:cubicBez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ZoneTexte 7"/>
            <p:cNvSpPr/>
            <p:nvPr/>
          </p:nvSpPr>
          <p:spPr>
            <a:xfrm>
              <a:off x="5214600" y="4916880"/>
              <a:ext cx="36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Mandatory lane-chang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ZoneTexte 9"/>
            <p:cNvSpPr/>
            <p:nvPr/>
          </p:nvSpPr>
          <p:spPr>
            <a:xfrm>
              <a:off x="7599240" y="4077000"/>
              <a:ext cx="307080" cy="3682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er 12"/>
          <p:cNvGrpSpPr/>
          <p:nvPr/>
        </p:nvGrpSpPr>
        <p:grpSpPr>
          <a:xfrm>
            <a:off x="614880" y="2031840"/>
            <a:ext cx="5469840" cy="1901880"/>
            <a:chOff x="614880" y="2031840"/>
            <a:chExt cx="5469840" cy="1901880"/>
          </a:xfrm>
        </p:grpSpPr>
        <p:sp>
          <p:nvSpPr>
            <p:cNvPr id="515" name="Bouée 5"/>
            <p:cNvSpPr/>
            <p:nvPr/>
          </p:nvSpPr>
          <p:spPr>
            <a:xfrm>
              <a:off x="3907080" y="2420640"/>
              <a:ext cx="2177640" cy="1513080"/>
            </a:xfrm>
            <a:custGeom>
              <a:avLst/>
              <a:gdLst/>
              <a:ahLst/>
              <a:rect l="l" t="t" r="r" b="b"/>
              <a:pathLst>
                <a:path w="2177522" h="1512168">
                  <a:moveTo>
                    <a:pt x="0" y="756084"/>
                  </a:moveTo>
                  <a:cubicBezTo>
                    <a:pt x="0" y="338510"/>
                    <a:pt x="487455" y="0"/>
                    <a:pt x="1088761" y="0"/>
                  </a:cubicBezTo>
                  <a:cubicBezTo>
                    <a:pt x="1690067" y="0"/>
                    <a:pt x="2177522" y="338510"/>
                    <a:pt x="2177522" y="756084"/>
                  </a:cubicBezTo>
                  <a:cubicBezTo>
                    <a:pt x="2177522" y="1173658"/>
                    <a:pt x="1690067" y="1512168"/>
                    <a:pt x="1088761" y="1512168"/>
                  </a:cubicBezTo>
                  <a:cubicBezTo>
                    <a:pt x="487455" y="1512168"/>
                    <a:pt x="0" y="1173658"/>
                    <a:pt x="0" y="756084"/>
                  </a:cubicBezTo>
                  <a:close/>
                  <a:moveTo>
                    <a:pt x="104430" y="756084"/>
                  </a:moveTo>
                  <a:cubicBezTo>
                    <a:pt x="104430" y="1115983"/>
                    <a:pt x="545130" y="1407738"/>
                    <a:pt x="1088761" y="1407738"/>
                  </a:cubicBezTo>
                  <a:cubicBezTo>
                    <a:pt x="1632392" y="1407738"/>
                    <a:pt x="2073092" y="1115983"/>
                    <a:pt x="2073092" y="756084"/>
                  </a:cubicBezTo>
                  <a:cubicBezTo>
                    <a:pt x="2073092" y="396185"/>
                    <a:pt x="1632392" y="104430"/>
                    <a:pt x="1088761" y="104430"/>
                  </a:cubicBezTo>
                  <a:cubicBezTo>
                    <a:pt x="545130" y="104430"/>
                    <a:pt x="104430" y="396185"/>
                    <a:pt x="104430" y="756084"/>
                  </a:cubicBez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ZoneTexte 8"/>
            <p:cNvSpPr/>
            <p:nvPr/>
          </p:nvSpPr>
          <p:spPr>
            <a:xfrm>
              <a:off x="614880" y="2031840"/>
              <a:ext cx="39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Discretianory lane-chang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ZoneTexte 10"/>
            <p:cNvSpPr/>
            <p:nvPr/>
          </p:nvSpPr>
          <p:spPr>
            <a:xfrm>
              <a:off x="5422320" y="2031840"/>
              <a:ext cx="307080" cy="3682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ZoneTexte 13"/>
          <p:cNvSpPr/>
          <p:nvPr/>
        </p:nvSpPr>
        <p:spPr>
          <a:xfrm>
            <a:off x="243000" y="5540400"/>
            <a:ext cx="55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put together previous analytical results to fully describe the merge behavior in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914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Discretionary lane changing (1)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Lane changing flow </a:t>
            </a:r>
            <a:r>
              <a:rPr b="0" i="1" lang="en-US" sz="2800" spc="-1" strike="noStrike">
                <a:solidFill>
                  <a:srgbClr val="0056a9"/>
                </a:solidFill>
                <a:latin typeface="Times New Roman"/>
                <a:ea typeface="Times New Roman"/>
              </a:rPr>
              <a:t>ϕ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triggers by the positive speed difference between lane 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nd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λ are respectively the supply and the demand derived from the triangular FD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2400" spc="-1" strike="noStrike">
                <a:solidFill>
                  <a:srgbClr val="0056a9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is the time for a lane-changing maneuver to complete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257A0-0909-410F-83C1-8016939B2BEF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Image 4" descr=""/>
          <p:cNvPicPr/>
          <p:nvPr/>
        </p:nvPicPr>
        <p:blipFill>
          <a:blip r:embed="rId1"/>
          <a:stretch/>
        </p:blipFill>
        <p:spPr>
          <a:xfrm>
            <a:off x="287280" y="4638600"/>
            <a:ext cx="4500720" cy="1959120"/>
          </a:xfrm>
          <a:prstGeom prst="rect">
            <a:avLst/>
          </a:prstGeom>
          <a:ln w="0">
            <a:noFill/>
          </a:ln>
        </p:spPr>
      </p:pic>
      <p:pic>
        <p:nvPicPr>
          <p:cNvPr id="523" name="Image 11" descr=""/>
          <p:cNvPicPr/>
          <p:nvPr/>
        </p:nvPicPr>
        <p:blipFill>
          <a:blip r:embed="rId2"/>
          <a:srcRect l="25470" t="0" r="23746" b="0"/>
          <a:stretch/>
        </p:blipFill>
        <p:spPr>
          <a:xfrm>
            <a:off x="611280" y="2492280"/>
            <a:ext cx="5145120" cy="916200"/>
          </a:xfrm>
          <a:prstGeom prst="rect">
            <a:avLst/>
          </a:prstGeom>
          <a:ln w="0">
            <a:noFill/>
          </a:ln>
        </p:spPr>
      </p:pic>
      <p:sp>
        <p:nvSpPr>
          <p:cNvPr id="524" name="ZoneTexte 13"/>
          <p:cNvSpPr/>
          <p:nvPr/>
        </p:nvSpPr>
        <p:spPr>
          <a:xfrm>
            <a:off x="599436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aval and Leclercq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914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Discretionary lane changing (2)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Lanes 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nd</a:t>
            </a:r>
            <a:r>
              <a:rPr b="0" i="1" lang="en-US" sz="2400" spc="-1" strike="noStrike">
                <a:solidFill>
                  <a:srgbClr val="0056a9"/>
                </a:solidFill>
                <a:latin typeface="Arial"/>
              </a:rPr>
              <a:t> j</a:t>
            </a: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 are congested, so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μ(k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=C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λ(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=λ(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56a9"/>
                </a:solidFill>
                <a:latin typeface="Arial"/>
              </a:rPr>
              <a:t>It comes that:</a:t>
            </a: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6a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56a9"/>
              </a:solidFill>
              <a:latin typeface="Arial"/>
            </a:endParaRPr>
          </a:p>
        </p:txBody>
      </p:sp>
      <p:sp>
        <p:nvSpPr>
          <p:cNvPr id="527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BE8FB-B0CF-4752-8A31-0DCCE75621C5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Image 4" descr=""/>
          <p:cNvPicPr/>
          <p:nvPr/>
        </p:nvPicPr>
        <p:blipFill>
          <a:blip r:embed="rId1"/>
          <a:stretch/>
        </p:blipFill>
        <p:spPr>
          <a:xfrm>
            <a:off x="324000" y="4622760"/>
            <a:ext cx="4535280" cy="1974960"/>
          </a:xfrm>
          <a:prstGeom prst="rect">
            <a:avLst/>
          </a:prstGeom>
          <a:ln w="0">
            <a:noFill/>
          </a:ln>
        </p:spPr>
      </p:pic>
      <p:pic>
        <p:nvPicPr>
          <p:cNvPr id="529" name="Image 2" descr=""/>
          <p:cNvPicPr/>
          <p:nvPr/>
        </p:nvPicPr>
        <p:blipFill>
          <a:blip r:embed="rId2"/>
          <a:srcRect l="26694" t="0" r="25676" b="0"/>
          <a:stretch/>
        </p:blipFill>
        <p:spPr>
          <a:xfrm>
            <a:off x="2913120" y="3187800"/>
            <a:ext cx="5619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Capacity formulae for local merging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2" name="Espace réservé du numéro de diapositive 3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D2B81-9DE6-4666-B6DD-D4B59F55C6B9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age 4" descr="Fig2p7.eps"/>
          <p:cNvPicPr/>
          <p:nvPr/>
        </p:nvPicPr>
        <p:blipFill>
          <a:blip r:embed="rId2"/>
          <a:stretch/>
        </p:blipFill>
        <p:spPr>
          <a:xfrm>
            <a:off x="447840" y="1484280"/>
            <a:ext cx="4268520" cy="3175200"/>
          </a:xfrm>
          <a:prstGeom prst="rect">
            <a:avLst/>
          </a:prstGeom>
          <a:ln w="0">
            <a:noFill/>
          </a:ln>
        </p:spPr>
      </p:pic>
      <p:cxnSp>
        <p:nvCxnSpPr>
          <p:cNvPr id="534" name="Connecteur droit avec flèche 6"/>
          <p:cNvCxnSpPr/>
          <p:nvPr/>
        </p:nvCxnSpPr>
        <p:spPr>
          <a:xfrm>
            <a:off x="5148000" y="1915920"/>
            <a:ext cx="3385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5" name="Connecteur droit avec flèche 8"/>
          <p:cNvCxnSpPr/>
          <p:nvPr/>
        </p:nvCxnSpPr>
        <p:spPr>
          <a:xfrm flipV="1">
            <a:off x="6587640" y="1915560"/>
            <a:ext cx="793080" cy="93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6" name="ZoneTexte 9"/>
          <p:cNvSpPr/>
          <p:nvPr/>
        </p:nvSpPr>
        <p:spPr>
          <a:xfrm>
            <a:off x="7052040" y="2421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ZoneTexte 10"/>
          <p:cNvSpPr/>
          <p:nvPr/>
        </p:nvSpPr>
        <p:spPr>
          <a:xfrm>
            <a:off x="7501680" y="1474920"/>
            <a:ext cx="94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er 13"/>
          <p:cNvGrpSpPr/>
          <p:nvPr/>
        </p:nvGrpSpPr>
        <p:grpSpPr>
          <a:xfrm>
            <a:off x="1190520" y="2997360"/>
            <a:ext cx="7774200" cy="2814480"/>
            <a:chOff x="1190520" y="2997360"/>
            <a:chExt cx="7774200" cy="2814480"/>
          </a:xfrm>
        </p:grpSpPr>
        <p:pic>
          <p:nvPicPr>
            <p:cNvPr id="539" name="Image 11" descr="Eq5.eps"/>
            <p:cNvPicPr/>
            <p:nvPr/>
          </p:nvPicPr>
          <p:blipFill>
            <a:blip r:embed="rId3"/>
            <a:stretch/>
          </p:blipFill>
          <p:spPr>
            <a:xfrm>
              <a:off x="1190520" y="4797360"/>
              <a:ext cx="647784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ZoneTexte 12"/>
            <p:cNvSpPr/>
            <p:nvPr/>
          </p:nvSpPr>
          <p:spPr>
            <a:xfrm>
              <a:off x="4859640" y="2997360"/>
              <a:ext cx="41050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effective capacity for a local merge only depends 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inserting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initial spe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FD para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maximal accel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ZoneTexte 14"/>
          <p:cNvSpPr/>
          <p:nvPr/>
        </p:nvSpPr>
        <p:spPr>
          <a:xfrm>
            <a:off x="457200" y="5805360"/>
            <a:ext cx="44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clercq et al, 2011), further refined in (Leclercq et al, 2014) presented at ITSC2014, Quingdao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a6a4"/>
                </a:solidFill>
                <a:latin typeface="Arial"/>
              </a:rPr>
              <a:t>Agregating the different components</a:t>
            </a:r>
            <a:endParaRPr b="0" lang="en-US" sz="35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7010280" y="6481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8A8E4-E76C-47AF-B7E6-8192B0FEAD0B}" type="slidenum">
              <a:rPr b="0" lang="fr-FR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Imag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329080" cy="231948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er 15"/>
          <p:cNvGrpSpPr/>
          <p:nvPr/>
        </p:nvGrpSpPr>
        <p:grpSpPr>
          <a:xfrm>
            <a:off x="4859280" y="1452600"/>
            <a:ext cx="3878280" cy="1512720"/>
            <a:chOff x="4859280" y="1452600"/>
            <a:chExt cx="3878280" cy="1512720"/>
          </a:xfrm>
        </p:grpSpPr>
        <p:sp>
          <p:nvSpPr>
            <p:cNvPr id="546" name="Bouée 5"/>
            <p:cNvSpPr/>
            <p:nvPr/>
          </p:nvSpPr>
          <p:spPr>
            <a:xfrm>
              <a:off x="4859280" y="2316960"/>
              <a:ext cx="504000" cy="504000"/>
            </a:xfrm>
            <a:custGeom>
              <a:avLst/>
              <a:gdLst/>
              <a:ahLst/>
              <a:rect l="l" t="t" r="r" b="b"/>
              <a:pathLst>
                <a:path w="504056" h="504056">
                  <a:moveTo>
                    <a:pt x="0" y="252028"/>
                  </a:moveTo>
                  <a:cubicBezTo>
                    <a:pt x="0" y="112837"/>
                    <a:pt x="112837" y="0"/>
                    <a:pt x="252028" y="0"/>
                  </a:cubicBezTo>
                  <a:cubicBezTo>
                    <a:pt x="391219" y="0"/>
                    <a:pt x="504056" y="112837"/>
                    <a:pt x="504056" y="252028"/>
                  </a:cubicBezTo>
                  <a:cubicBezTo>
                    <a:pt x="504056" y="391219"/>
                    <a:pt x="391219" y="504056"/>
                    <a:pt x="252028" y="504056"/>
                  </a:cubicBezTo>
                  <a:cubicBezTo>
                    <a:pt x="112837" y="504056"/>
                    <a:pt x="0" y="391219"/>
                    <a:pt x="0" y="252028"/>
                  </a:cubicBezTo>
                  <a:close/>
                  <a:moveTo>
                    <a:pt x="42557" y="252028"/>
                  </a:moveTo>
                  <a:cubicBezTo>
                    <a:pt x="42557" y="367716"/>
                    <a:pt x="136340" y="461499"/>
                    <a:pt x="252028" y="461499"/>
                  </a:cubicBezTo>
                  <a:cubicBezTo>
                    <a:pt x="367716" y="461499"/>
                    <a:pt x="461499" y="367716"/>
                    <a:pt x="461499" y="252028"/>
                  </a:cubicBezTo>
                  <a:cubicBezTo>
                    <a:pt x="461499" y="136340"/>
                    <a:pt x="367716" y="42557"/>
                    <a:pt x="252028" y="42557"/>
                  </a:cubicBezTo>
                  <a:cubicBezTo>
                    <a:pt x="136340" y="42557"/>
                    <a:pt x="42557" y="136340"/>
                    <a:pt x="42557" y="252028"/>
                  </a:cubicBezTo>
                  <a:close/>
                </a:path>
              </a:pathLst>
            </a:custGeom>
            <a:solidFill>
              <a:srgbClr val="c0504d"/>
            </a:solidFill>
            <a:ln w="9360">
              <a:solidFill>
                <a:srgbClr val="c0504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Image 7" descr=""/>
            <p:cNvPicPr/>
            <p:nvPr/>
          </p:nvPicPr>
          <p:blipFill>
            <a:blip r:embed="rId2"/>
            <a:srcRect l="39074" t="0" r="39074" b="0"/>
            <a:stretch/>
          </p:blipFill>
          <p:spPr>
            <a:xfrm>
              <a:off x="6438600" y="1812600"/>
              <a:ext cx="187740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Image 8" descr=""/>
            <p:cNvPicPr/>
            <p:nvPr/>
          </p:nvPicPr>
          <p:blipFill>
            <a:blip r:embed="rId3"/>
            <a:srcRect l="41727" t="0" r="40839" b="0"/>
            <a:stretch/>
          </p:blipFill>
          <p:spPr>
            <a:xfrm>
              <a:off x="6473880" y="2244960"/>
              <a:ext cx="133812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ZoneTexte 9"/>
            <p:cNvSpPr/>
            <p:nvPr/>
          </p:nvSpPr>
          <p:spPr>
            <a:xfrm>
              <a:off x="7803360" y="223560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F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ZoneTexte 10"/>
            <p:cNvSpPr/>
            <p:nvPr/>
          </p:nvSpPr>
          <p:spPr>
            <a:xfrm>
              <a:off x="5671800" y="14526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city formula (1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1" name="Connecteur droit avec flèche 12"/>
            <p:cNvCxnSpPr>
              <a:stCxn id="546" idx="6"/>
            </p:cNvCxnSpPr>
            <p:nvPr/>
          </p:nvCxnSpPr>
          <p:spPr>
            <a:xfrm flipV="1">
              <a:off x="5362920" y="2248560"/>
              <a:ext cx="294840" cy="32040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sp>
          <p:nvSpPr>
            <p:cNvPr id="552" name="Rectangle 13"/>
            <p:cNvSpPr/>
            <p:nvPr/>
          </p:nvSpPr>
          <p:spPr>
            <a:xfrm>
              <a:off x="5657760" y="1452600"/>
              <a:ext cx="3079800" cy="15127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er 45"/>
          <p:cNvGrpSpPr/>
          <p:nvPr/>
        </p:nvGrpSpPr>
        <p:grpSpPr>
          <a:xfrm>
            <a:off x="3684600" y="2208240"/>
            <a:ext cx="5052960" cy="1941480"/>
            <a:chOff x="3684600" y="2208240"/>
            <a:chExt cx="5052960" cy="1941480"/>
          </a:xfrm>
        </p:grpSpPr>
        <p:grpSp>
          <p:nvGrpSpPr>
            <p:cNvPr id="554" name="Grouper 16"/>
            <p:cNvGrpSpPr/>
            <p:nvPr/>
          </p:nvGrpSpPr>
          <p:grpSpPr>
            <a:xfrm>
              <a:off x="3684600" y="2208240"/>
              <a:ext cx="5052960" cy="1941480"/>
              <a:chOff x="3684600" y="2208240"/>
              <a:chExt cx="5052960" cy="1941480"/>
            </a:xfrm>
          </p:grpSpPr>
          <p:sp>
            <p:nvSpPr>
              <p:cNvPr id="555" name="Bouée 17"/>
              <p:cNvSpPr/>
              <p:nvPr/>
            </p:nvSpPr>
            <p:spPr>
              <a:xfrm>
                <a:off x="3684600" y="2208240"/>
                <a:ext cx="887400" cy="932760"/>
              </a:xfrm>
              <a:custGeom>
                <a:avLst/>
                <a:gdLst/>
                <a:ahLst/>
                <a:rect l="l" t="t" r="r" b="b"/>
                <a:pathLst>
                  <a:path w="887760" h="932036">
                    <a:moveTo>
                      <a:pt x="0" y="466018"/>
                    </a:moveTo>
                    <a:cubicBezTo>
                      <a:pt x="0" y="208643"/>
                      <a:pt x="198732" y="0"/>
                      <a:pt x="443880" y="0"/>
                    </a:cubicBezTo>
                    <a:cubicBezTo>
                      <a:pt x="689028" y="0"/>
                      <a:pt x="887760" y="208643"/>
                      <a:pt x="887760" y="466018"/>
                    </a:cubicBezTo>
                    <a:cubicBezTo>
                      <a:pt x="887760" y="723393"/>
                      <a:pt x="689028" y="932036"/>
                      <a:pt x="443880" y="932036"/>
                    </a:cubicBezTo>
                    <a:cubicBezTo>
                      <a:pt x="198732" y="932036"/>
                      <a:pt x="0" y="723393"/>
                      <a:pt x="0" y="466018"/>
                    </a:cubicBezTo>
                    <a:close/>
                    <a:moveTo>
                      <a:pt x="11452" y="466018"/>
                    </a:moveTo>
                    <a:cubicBezTo>
                      <a:pt x="11452" y="717068"/>
                      <a:pt x="205057" y="920584"/>
                      <a:pt x="443880" y="920584"/>
                    </a:cubicBezTo>
                    <a:cubicBezTo>
                      <a:pt x="682703" y="920584"/>
                      <a:pt x="876308" y="717068"/>
                      <a:pt x="876308" y="466018"/>
                    </a:cubicBezTo>
                    <a:cubicBezTo>
                      <a:pt x="876308" y="214968"/>
                      <a:pt x="682703" y="11452"/>
                      <a:pt x="443880" y="11452"/>
                    </a:cubicBezTo>
                    <a:cubicBezTo>
                      <a:pt x="205057" y="11452"/>
                      <a:pt x="11452" y="214968"/>
                      <a:pt x="11452" y="466018"/>
                    </a:cubicBezTo>
                    <a:close/>
                  </a:path>
                </a:pathLst>
              </a:custGeom>
              <a:solidFill>
                <a:srgbClr val="c0504d"/>
              </a:solidFill>
              <a:ln w="9360">
                <a:solidFill>
                  <a:srgbClr val="c0504d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ZoneTexte 21"/>
              <p:cNvSpPr/>
              <p:nvPr/>
            </p:nvSpPr>
            <p:spPr>
              <a:xfrm>
                <a:off x="5673960" y="3213000"/>
                <a:ext cx="265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ganzo’s merge 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7" name="Connecteur droit avec flèche 22"/>
              <p:cNvCxnSpPr>
                <a:stCxn id="555" idx="6"/>
                <a:endCxn id="558" idx="1"/>
              </p:cNvCxnSpPr>
              <p:nvPr/>
            </p:nvCxnSpPr>
            <p:spPr>
              <a:xfrm>
                <a:off x="4571640" y="2674080"/>
                <a:ext cx="1086840" cy="1007640"/>
              </a:xfrm>
              <a:prstGeom prst="straightConnector1">
                <a:avLst/>
              </a:prstGeom>
              <a:ln w="25560">
                <a:solidFill>
                  <a:srgbClr val="c0504d"/>
                </a:solidFill>
                <a:miter/>
                <a:tailEnd len="med" type="arrow" w="med"/>
              </a:ln>
            </p:spPr>
          </p:cxnSp>
          <p:sp>
            <p:nvSpPr>
              <p:cNvPr id="558" name="Rectangle 23"/>
              <p:cNvSpPr/>
              <p:nvPr/>
            </p:nvSpPr>
            <p:spPr>
              <a:xfrm>
                <a:off x="5658480" y="3213000"/>
                <a:ext cx="3079080" cy="93672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9" name="Image 29" descr=""/>
            <p:cNvPicPr/>
            <p:nvPr/>
          </p:nvPicPr>
          <p:blipFill>
            <a:blip r:embed="rId4"/>
            <a:srcRect l="44374" t="0" r="44887" b="0"/>
            <a:stretch/>
          </p:blipFill>
          <p:spPr>
            <a:xfrm>
              <a:off x="6707160" y="3584520"/>
              <a:ext cx="932040" cy="44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er 44"/>
          <p:cNvGrpSpPr/>
          <p:nvPr/>
        </p:nvGrpSpPr>
        <p:grpSpPr>
          <a:xfrm>
            <a:off x="3755880" y="1820880"/>
            <a:ext cx="4260960" cy="3984480"/>
            <a:chOff x="3755880" y="1820880"/>
            <a:chExt cx="4260960" cy="3984480"/>
          </a:xfrm>
        </p:grpSpPr>
        <p:grpSp>
          <p:nvGrpSpPr>
            <p:cNvPr id="561" name="Grouper 31"/>
            <p:cNvGrpSpPr/>
            <p:nvPr/>
          </p:nvGrpSpPr>
          <p:grpSpPr>
            <a:xfrm>
              <a:off x="3755880" y="1820880"/>
              <a:ext cx="4260960" cy="3984480"/>
              <a:chOff x="3755880" y="1820880"/>
              <a:chExt cx="4260960" cy="3984480"/>
            </a:xfrm>
          </p:grpSpPr>
          <p:sp>
            <p:nvSpPr>
              <p:cNvPr id="562" name="Bouée 32"/>
              <p:cNvSpPr/>
              <p:nvPr/>
            </p:nvSpPr>
            <p:spPr>
              <a:xfrm>
                <a:off x="3755880" y="1820880"/>
                <a:ext cx="599400" cy="599760"/>
              </a:xfrm>
              <a:custGeom>
                <a:avLst/>
                <a:gdLst/>
                <a:ahLst/>
                <a:rect l="l" t="t" r="r" b="b"/>
                <a:pathLst>
                  <a:path w="599728" h="599728">
                    <a:moveTo>
                      <a:pt x="0" y="299864"/>
                    </a:moveTo>
                    <a:cubicBezTo>
                      <a:pt x="0" y="134254"/>
                      <a:pt x="134254" y="0"/>
                      <a:pt x="299864" y="0"/>
                    </a:cubicBezTo>
                    <a:cubicBezTo>
                      <a:pt x="465474" y="0"/>
                      <a:pt x="599728" y="134254"/>
                      <a:pt x="599728" y="299864"/>
                    </a:cubicBezTo>
                    <a:cubicBezTo>
                      <a:pt x="599728" y="465474"/>
                      <a:pt x="465474" y="599728"/>
                      <a:pt x="299864" y="599728"/>
                    </a:cubicBezTo>
                    <a:cubicBezTo>
                      <a:pt x="134254" y="599728"/>
                      <a:pt x="0" y="465474"/>
                      <a:pt x="0" y="299864"/>
                    </a:cubicBezTo>
                    <a:close/>
                    <a:moveTo>
                      <a:pt x="50635" y="299864"/>
                    </a:moveTo>
                    <a:cubicBezTo>
                      <a:pt x="50635" y="437509"/>
                      <a:pt x="162219" y="549093"/>
                      <a:pt x="299864" y="549093"/>
                    </a:cubicBezTo>
                    <a:cubicBezTo>
                      <a:pt x="437509" y="549093"/>
                      <a:pt x="549093" y="437509"/>
                      <a:pt x="549093" y="299864"/>
                    </a:cubicBezTo>
                    <a:cubicBezTo>
                      <a:pt x="549093" y="162219"/>
                      <a:pt x="437509" y="50635"/>
                      <a:pt x="299864" y="50635"/>
                    </a:cubicBezTo>
                    <a:cubicBezTo>
                      <a:pt x="162219" y="50635"/>
                      <a:pt x="50635" y="162219"/>
                      <a:pt x="50635" y="299864"/>
                    </a:cubicBezTo>
                    <a:close/>
                  </a:path>
                </a:pathLst>
              </a:custGeom>
              <a:solidFill>
                <a:srgbClr val="c0504d"/>
              </a:solidFill>
              <a:ln w="9360">
                <a:solidFill>
                  <a:srgbClr val="c0504d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ZoneTexte 35"/>
              <p:cNvSpPr/>
              <p:nvPr/>
            </p:nvSpPr>
            <p:spPr>
              <a:xfrm>
                <a:off x="7083000" y="5076000"/>
                <a:ext cx="9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F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ZoneTexte 36"/>
              <p:cNvSpPr/>
              <p:nvPr/>
            </p:nvSpPr>
            <p:spPr>
              <a:xfrm>
                <a:off x="4951440" y="4293000"/>
                <a:ext cx="229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pacity formula (2)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5" name="Connecteur droit avec flèche 37"/>
              <p:cNvCxnSpPr>
                <a:stCxn id="562" idx="4"/>
                <a:endCxn id="566" idx="1"/>
              </p:cNvCxnSpPr>
              <p:nvPr/>
            </p:nvCxnSpPr>
            <p:spPr>
              <a:xfrm>
                <a:off x="4055400" y="2420640"/>
                <a:ext cx="882720" cy="2629440"/>
              </a:xfrm>
              <a:prstGeom prst="straightConnector1">
                <a:avLst/>
              </a:prstGeom>
              <a:ln w="25560">
                <a:solidFill>
                  <a:srgbClr val="c0504d"/>
                </a:solidFill>
                <a:miter/>
                <a:tailEnd len="med" type="arrow" w="med"/>
              </a:ln>
            </p:spPr>
          </p:cxnSp>
          <p:sp>
            <p:nvSpPr>
              <p:cNvPr id="566" name="Rectangle 38"/>
              <p:cNvSpPr/>
              <p:nvPr/>
            </p:nvSpPr>
            <p:spPr>
              <a:xfrm>
                <a:off x="4937760" y="4293000"/>
                <a:ext cx="3079080" cy="151236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7" name="Image 42" descr=""/>
            <p:cNvPicPr/>
            <p:nvPr/>
          </p:nvPicPr>
          <p:blipFill>
            <a:blip r:embed="rId5"/>
            <a:srcRect l="38223" t="0" r="39299" b="-4562"/>
            <a:stretch/>
          </p:blipFill>
          <p:spPr>
            <a:xfrm>
              <a:off x="5618160" y="4662360"/>
              <a:ext cx="171144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Image 43" descr=""/>
            <p:cNvPicPr/>
            <p:nvPr/>
          </p:nvPicPr>
          <p:blipFill>
            <a:blip r:embed="rId6"/>
            <a:srcRect l="38223" t="0" r="38411" b="15632"/>
            <a:stretch/>
          </p:blipFill>
          <p:spPr>
            <a:xfrm>
              <a:off x="5418360" y="5089320"/>
              <a:ext cx="167328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er 72"/>
          <p:cNvGrpSpPr/>
          <p:nvPr/>
        </p:nvGrpSpPr>
        <p:grpSpPr>
          <a:xfrm>
            <a:off x="707040" y="1814400"/>
            <a:ext cx="3602160" cy="3990960"/>
            <a:chOff x="707040" y="1814400"/>
            <a:chExt cx="3602160" cy="3990960"/>
          </a:xfrm>
        </p:grpSpPr>
        <p:sp>
          <p:nvSpPr>
            <p:cNvPr id="570" name="ZoneTexte 64"/>
            <p:cNvSpPr/>
            <p:nvPr/>
          </p:nvSpPr>
          <p:spPr>
            <a:xfrm>
              <a:off x="707040" y="4077360"/>
              <a:ext cx="36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cretionary lane-changing flow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er 71"/>
            <p:cNvGrpSpPr/>
            <p:nvPr/>
          </p:nvGrpSpPr>
          <p:grpSpPr>
            <a:xfrm>
              <a:off x="718200" y="1814400"/>
              <a:ext cx="3565440" cy="3990960"/>
              <a:chOff x="718200" y="1814400"/>
              <a:chExt cx="3565440" cy="3990960"/>
            </a:xfrm>
          </p:grpSpPr>
          <p:grpSp>
            <p:nvGrpSpPr>
              <p:cNvPr id="572" name="Grouper 49"/>
              <p:cNvGrpSpPr/>
              <p:nvPr/>
            </p:nvGrpSpPr>
            <p:grpSpPr>
              <a:xfrm>
                <a:off x="718200" y="1814400"/>
                <a:ext cx="3565440" cy="3990960"/>
                <a:chOff x="718200" y="1814400"/>
                <a:chExt cx="3565440" cy="3990960"/>
              </a:xfrm>
            </p:grpSpPr>
            <p:sp>
              <p:nvSpPr>
                <p:cNvPr id="573" name="Bouée 52"/>
                <p:cNvSpPr/>
                <p:nvPr/>
              </p:nvSpPr>
              <p:spPr>
                <a:xfrm>
                  <a:off x="2556000" y="1814400"/>
                  <a:ext cx="874800" cy="966960"/>
                </a:xfrm>
                <a:custGeom>
                  <a:avLst/>
                  <a:gdLst/>
                  <a:ahLst/>
                  <a:rect l="l" t="t" r="r" b="b"/>
                  <a:pathLst>
                    <a:path w="874960" h="902134">
                      <a:moveTo>
                        <a:pt x="0" y="451067"/>
                      </a:moveTo>
                      <a:cubicBezTo>
                        <a:pt x="0" y="201950"/>
                        <a:pt x="195866" y="0"/>
                        <a:pt x="437480" y="0"/>
                      </a:cubicBezTo>
                      <a:cubicBezTo>
                        <a:pt x="679094" y="0"/>
                        <a:pt x="874960" y="201950"/>
                        <a:pt x="874960" y="451067"/>
                      </a:cubicBezTo>
                      <a:cubicBezTo>
                        <a:pt x="874960" y="700184"/>
                        <a:pt x="679094" y="902134"/>
                        <a:pt x="437480" y="902134"/>
                      </a:cubicBezTo>
                      <a:cubicBezTo>
                        <a:pt x="195866" y="902134"/>
                        <a:pt x="0" y="700184"/>
                        <a:pt x="0" y="451067"/>
                      </a:cubicBezTo>
                      <a:close/>
                      <a:moveTo>
                        <a:pt x="32120" y="451067"/>
                      </a:moveTo>
                      <a:cubicBezTo>
                        <a:pt x="32120" y="682445"/>
                        <a:pt x="213606" y="870014"/>
                        <a:pt x="437480" y="870014"/>
                      </a:cubicBezTo>
                      <a:cubicBezTo>
                        <a:pt x="661354" y="870014"/>
                        <a:pt x="842840" y="682445"/>
                        <a:pt x="842840" y="451067"/>
                      </a:cubicBezTo>
                      <a:cubicBezTo>
                        <a:pt x="842840" y="219689"/>
                        <a:pt x="661354" y="32120"/>
                        <a:pt x="437480" y="32120"/>
                      </a:cubicBezTo>
                      <a:cubicBezTo>
                        <a:pt x="213606" y="32120"/>
                        <a:pt x="32120" y="219689"/>
                        <a:pt x="32120" y="451067"/>
                      </a:cubicBezTo>
                      <a:close/>
                    </a:path>
                  </a:pathLst>
                </a:custGeom>
                <a:solidFill>
                  <a:srgbClr val="c0504d"/>
                </a:solidFill>
                <a:ln w="9360">
                  <a:solidFill>
                    <a:srgbClr val="c0504d"/>
                  </a:solidFill>
                  <a:round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74" name="Connecteur droit avec flèche 55"/>
                <p:cNvCxnSpPr>
                  <a:stCxn id="573" idx="4"/>
                  <a:endCxn id="575" idx="0"/>
                </p:cNvCxnSpPr>
                <p:nvPr/>
              </p:nvCxnSpPr>
              <p:spPr>
                <a:xfrm flipH="1">
                  <a:off x="2500200" y="2781360"/>
                  <a:ext cx="492840" cy="1224720"/>
                </a:xfrm>
                <a:prstGeom prst="straightConnector1">
                  <a:avLst/>
                </a:prstGeom>
                <a:ln w="25560">
                  <a:solidFill>
                    <a:srgbClr val="c0504d"/>
                  </a:solidFill>
                  <a:miter/>
                  <a:tailEnd len="med" type="arrow" w="med"/>
                </a:ln>
              </p:spPr>
            </p:cxnSp>
            <p:sp>
              <p:nvSpPr>
                <p:cNvPr id="575" name="Rectangle 56"/>
                <p:cNvSpPr/>
                <p:nvPr/>
              </p:nvSpPr>
              <p:spPr>
                <a:xfrm>
                  <a:off x="718200" y="4005360"/>
                  <a:ext cx="3565440" cy="1800000"/>
                </a:xfrm>
                <a:prstGeom prst="rect">
                  <a:avLst/>
                </a:prstGeom>
                <a:noFill/>
                <a:ln w="9360">
                  <a:solidFill>
                    <a:srgbClr val="c0504d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6" name="Image 63" descr=""/>
              <p:cNvPicPr/>
              <p:nvPr/>
            </p:nvPicPr>
            <p:blipFill>
              <a:blip r:embed="rId7"/>
              <a:srcRect l="34681" t="0" r="35169" b="15632"/>
              <a:stretch/>
            </p:blipFill>
            <p:spPr>
              <a:xfrm>
                <a:off x="1332000" y="4509360"/>
                <a:ext cx="2314440" cy="5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Image 67" descr=""/>
              <p:cNvPicPr/>
              <p:nvPr/>
            </p:nvPicPr>
            <p:blipFill>
              <a:blip r:embed="rId8"/>
              <a:srcRect l="41145" t="0" r="40620" b="-8257"/>
              <a:stretch/>
            </p:blipFill>
            <p:spPr>
              <a:xfrm>
                <a:off x="1764000" y="5157360"/>
                <a:ext cx="1223640" cy="54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ZoneTexte 68"/>
              <p:cNvSpPr/>
              <p:nvPr/>
            </p:nvSpPr>
            <p:spPr>
              <a:xfrm>
                <a:off x="2989800" y="5157360"/>
                <a:ext cx="9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F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ZoneTexte 69"/>
          <p:cNvSpPr/>
          <p:nvPr/>
        </p:nvSpPr>
        <p:spPr>
          <a:xfrm>
            <a:off x="420840" y="5950080"/>
            <a:ext cx="4252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f 4 equations with 4 unknow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2000" spc="-1" strike="noStrike">
              <a:solidFill>
                <a:srgbClr val="898989"/>
              </a:solidFill>
              <a:latin typeface="Tw Cen MT"/>
              <a:ea typeface="ＭＳ Ｐゴシック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6348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a6a4"/>
                </a:solidFill>
                <a:latin typeface="Tw Cen MT"/>
                <a:ea typeface="ＭＳ Ｐゴシック"/>
              </a:rPr>
              <a:t>Numerical results</a:t>
            </a:r>
            <a:endParaRPr b="0" lang="en-US" sz="4000" spc="-1" strike="noStrike">
              <a:solidFill>
                <a:srgbClr val="00a6a4"/>
              </a:solidFill>
              <a:latin typeface="Arial"/>
            </a:endParaRPr>
          </a:p>
        </p:txBody>
      </p:sp>
      <p:sp>
        <p:nvSpPr>
          <p:cNvPr id="582" name="Espace réservé du numéro de diapositive 1"/>
          <p:cNvSpPr/>
          <p:nvPr/>
        </p:nvSpPr>
        <p:spPr>
          <a:xfrm>
            <a:off x="702324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7D11B-91B4-4F23-990E-899FD1DE58F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8:04:46Z</dcterms:created>
  <dc:creator>Guillemette</dc:creator>
  <dc:description/>
  <dc:language>en-US</dc:language>
  <cp:lastModifiedBy>LECLERCQ ludovic</cp:lastModifiedBy>
  <cp:lastPrinted>2011-07-11T16:01:37Z</cp:lastPrinted>
  <dcterms:modified xsi:type="dcterms:W3CDTF">2014-10-08T09:22:29Z</dcterms:modified>
  <cp:revision>198</cp:revision>
  <dc:subject/>
  <dc:title>Diapositive 1</dc:title>
</cp:coreProperties>
</file>