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0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15.png" ContentType="image/png"/>
  <Override PartName="/ppt/media/image28.wmf" ContentType="image/x-wmf"/>
  <Override PartName="/ppt/media/image3.jpeg" ContentType="image/jpeg"/>
  <Override PartName="/ppt/media/image6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1B0AA-A851-4AD4-9E91-0FE6F394B18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85715-78C7-48A4-AA15-FEA39730BA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0E36A-5C64-4B5B-B17E-B03328E79B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B4D5-A43C-4769-804A-30E9E81AB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CF15-6BB4-4AFF-B272-EBDAD23BF7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AAC8-7E7D-4BEF-8525-B37857AD1E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8B90-04AC-45FB-82DF-04F8E34075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427F-2DC4-4A8C-BBDB-4A65FA8E27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DBC8-6038-4CEB-B034-D04B73626D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EF1C-0329-41A0-AEBF-ED39C7D73E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2B23-90E7-4A99-8CB4-44EBE738CC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11FF-857B-4DB2-8A25-B1857F22EE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B172-1ECF-4B15-AF61-8C9068B579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DCA4-81BB-4E06-A5E6-A89ECA4F9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B342-6833-404E-8BC2-D81F15BE4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9949-303D-4945-89DD-B099806A60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B590-919E-408C-A8FF-8B110D953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65FB-C5C1-4BB1-B2D9-3F5EC3C57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2F79-442C-4CB2-87C4-FA013BE59A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E831-8D7B-41A9-A451-52E2BB9D86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88F-FBFA-4C11-918E-FBA4B0C268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02C-0B18-492E-ABAF-5567BC04A4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AB1-D5CC-46B0-9F64-AFCF9F37B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877-42AE-4444-A44A-951D0FA3A7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A13-634C-49A5-A615-596F95064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DC2A-00CB-47D4-A622-77238A6458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1CB-8BD2-4F29-923C-43D95A3363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CE7-502A-417C-AC52-34C3564F69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5E8-2ED0-4833-9430-F2B2D91E60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2ED-99AF-4DEE-8C0B-2582349B83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5A8-360C-45B0-82A8-4DD9DD04A3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769-50AF-48FE-8346-2EC89157FD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00C-1121-45DA-A1F4-190B0D9C86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F660E-F5FA-4C59-8FD1-256DBFA1EB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6F51F-0899-4139-B1F6-5D372C9872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3AA0-1D68-4DA5-BF10-45FC1B294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A4FE-5869-4220-BF43-0A874C19EE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8FE1A-C78C-471D-A59A-99FBC84ADD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79C6C-0ECE-426F-AA41-262E685288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49EC1-9539-475E-A5D9-8657B8A648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9E867-89AF-4D68-AA06-392A62FA48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D0244-4F9C-4C7D-9996-31B54410DB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D4080-0534-40DA-80BE-8DC8D3E1DA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984B-7F17-411B-9EAF-9769A5965B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C4AB2-AE8C-401C-9841-BBB9FBDF4D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78A97-3FE5-4D56-B5CA-0A7B339CEA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1A70A-05CC-4E5C-A754-04B92FCFB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136-840E-4D44-8D3B-CBD79CC566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6146F-B822-4B5E-A8E8-B011D48F29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3CEE-2D0D-4627-AA5C-945F048379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0A515-BBF9-4E85-9868-E3BF7F3B20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1940F-7E81-4BE1-B8D5-E8513AD3AC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78B0B-AB0D-4B83-B92F-E712550084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7A10-FFAC-4D42-98EE-E18DFC58D9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54BB4-BC50-41F1-97F3-A426E4BE4D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8A90-52C6-4D63-BFFF-A926DB3B12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A0FBD-EF35-4836-9790-50EE9FF36D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90CA5-7B7F-47E2-B8F2-1468708B4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8B2-52FF-4FD5-834F-5ADB187E5F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F791-C102-4D9B-9234-3686E8A61B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6FD-DB4D-4701-8AF3-CB4D8BB4EB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94B-6A31-4FE5-801B-B24E117AC0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07A-3671-4319-B3D5-7D8B7C09D0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E58-3E0F-480F-9825-946F3C1E0C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965-95D3-4B8E-8EB8-1A1A7CBE43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76AF-BF57-4CD7-97A8-6AFF8CE1E4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E6DC-CC06-4C60-89BF-441921B620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A471-C2FE-4E1E-99A0-7367FEFFF0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284-E79F-445E-99C6-421DF54CA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AE21-3259-4015-8584-913D8FB444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54B-8A8A-4AA1-9030-F498BF32E3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2D6-050F-4A38-9271-C34EDCD1DD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7CE-E7F6-4041-87AA-E84919086E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62E9-B425-4A07-8CFB-025AAC2228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B7E2-2352-412E-A254-D2B911568C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5476A-471B-46E8-8755-5C7A7C8785DE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36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0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4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29E88-5415-48F8-A192-84A5ADAEDB66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83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091A6-8A68-4672-AB92-FDDD21E170CC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124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32DA2-EDF1-487D-8425-CA8509E7811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165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B279D-BCDE-40DF-B4A9-D575AF2F44C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06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7A42E-C7B5-4D4F-AACB-6F558D5D7CD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4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8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32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masquePTT_p1_mixte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4"/>
          <p:cNvSpPr/>
          <p:nvPr/>
        </p:nvSpPr>
        <p:spPr>
          <a:xfrm>
            <a:off x="250920" y="1828800"/>
            <a:ext cx="864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nalytical derivations of merge capacity: a multilane approa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250920" y="3645000"/>
            <a:ext cx="878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udovic Leclercq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,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Florian Marczak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Victor L. Knoop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Serge P. Hoogendoorn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iversité de Lyon, IFSTTAR / ENTPE, COSYS, 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Delft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 4" descr="Entpe3cm.tif"/>
          <p:cNvPicPr/>
          <p:nvPr/>
        </p:nvPicPr>
        <p:blipFill>
          <a:blip r:embed="rId2"/>
          <a:stretch/>
        </p:blipFill>
        <p:spPr>
          <a:xfrm>
            <a:off x="5940360" y="5638680"/>
            <a:ext cx="568440" cy="666720"/>
          </a:xfrm>
          <a:prstGeom prst="rect">
            <a:avLst/>
          </a:prstGeom>
          <a:ln w="0">
            <a:noFill/>
          </a:ln>
        </p:spPr>
      </p:pic>
      <p:pic>
        <p:nvPicPr>
          <p:cNvPr id="497" name="Image 5" descr=""/>
          <p:cNvPicPr/>
          <p:nvPr/>
        </p:nvPicPr>
        <p:blipFill>
          <a:blip r:embed="rId3"/>
          <a:stretch/>
        </p:blipFill>
        <p:spPr>
          <a:xfrm>
            <a:off x="3992400" y="5670720"/>
            <a:ext cx="1355760" cy="603000"/>
          </a:xfrm>
          <a:prstGeom prst="rect">
            <a:avLst/>
          </a:prstGeom>
          <a:ln w="0">
            <a:noFill/>
          </a:ln>
        </p:spPr>
      </p:pic>
      <p:pic>
        <p:nvPicPr>
          <p:cNvPr id="498" name="Image 1" descr=""/>
          <p:cNvPicPr/>
          <p:nvPr/>
        </p:nvPicPr>
        <p:blipFill>
          <a:blip r:embed="rId4"/>
          <a:stretch/>
        </p:blipFill>
        <p:spPr>
          <a:xfrm>
            <a:off x="1835280" y="5492880"/>
            <a:ext cx="2036520" cy="960480"/>
          </a:xfrm>
          <a:prstGeom prst="rect">
            <a:avLst/>
          </a:prstGeom>
          <a:ln w="0">
            <a:noFill/>
          </a:ln>
        </p:spPr>
      </p:pic>
      <p:pic>
        <p:nvPicPr>
          <p:cNvPr id="499" name="Image 1" descr=""/>
          <p:cNvPicPr/>
          <p:nvPr/>
        </p:nvPicPr>
        <p:blipFill>
          <a:blip r:embed="rId5"/>
          <a:stretch/>
        </p:blipFill>
        <p:spPr>
          <a:xfrm>
            <a:off x="1008000" y="333360"/>
            <a:ext cx="78850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Refined capacity formulae for the local merge capacity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(Leclercq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et al</a:t>
            </a: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, 2014) introduces refined capacity formulae that account for: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The interactions between voids and wa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Heterogeneous merging vehicle characteristics (mainly a proportion of trucks and different acceleration rates for trucks and ca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We use these refined expression for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56a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 and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56a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85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B5A10-0A96-4B23-AD70-EC4023C851FB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ensitivity to road parameters 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7010280" y="6481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DC76F-4756-418F-8F98-90CA2B83DC04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er 23"/>
          <p:cNvGrpSpPr/>
          <p:nvPr/>
        </p:nvGrpSpPr>
        <p:grpSpPr>
          <a:xfrm>
            <a:off x="998640" y="1332000"/>
            <a:ext cx="3093840" cy="2681640"/>
            <a:chOff x="998640" y="1332000"/>
            <a:chExt cx="3093840" cy="2681640"/>
          </a:xfrm>
        </p:grpSpPr>
        <p:grpSp>
          <p:nvGrpSpPr>
            <p:cNvPr id="589" name="Grouper 10"/>
            <p:cNvGrpSpPr/>
            <p:nvPr/>
          </p:nvGrpSpPr>
          <p:grpSpPr>
            <a:xfrm>
              <a:off x="998640" y="1467360"/>
              <a:ext cx="3084840" cy="2546280"/>
              <a:chOff x="998640" y="1467360"/>
              <a:chExt cx="3084840" cy="2546280"/>
            </a:xfrm>
          </p:grpSpPr>
          <p:pic>
            <p:nvPicPr>
              <p:cNvPr id="590" name="Image 7" descr="sensibility.eps"/>
              <p:cNvPicPr/>
              <p:nvPr/>
            </p:nvPicPr>
            <p:blipFill>
              <a:blip r:embed="rId1"/>
              <a:srcRect l="0" t="32998" r="66254" b="32784"/>
              <a:stretch/>
            </p:blipFill>
            <p:spPr>
              <a:xfrm>
                <a:off x="998640" y="1467360"/>
                <a:ext cx="3084840" cy="21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ZoneTexte 8"/>
              <p:cNvSpPr/>
              <p:nvPr/>
            </p:nvSpPr>
            <p:spPr>
              <a:xfrm>
                <a:off x="1062360" y="3645360"/>
                <a:ext cx="29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 of the insertion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ZoneTexte 14"/>
            <p:cNvSpPr/>
            <p:nvPr/>
          </p:nvSpPr>
          <p:spPr>
            <a:xfrm>
              <a:off x="3629520" y="2493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ZoneTexte 15"/>
            <p:cNvSpPr/>
            <p:nvPr/>
          </p:nvSpPr>
          <p:spPr>
            <a:xfrm>
              <a:off x="3629520" y="205200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ZoneTexte 16"/>
            <p:cNvSpPr/>
            <p:nvPr/>
          </p:nvSpPr>
          <p:spPr>
            <a:xfrm>
              <a:off x="3302280" y="133200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er 24"/>
          <p:cNvGrpSpPr/>
          <p:nvPr/>
        </p:nvGrpSpPr>
        <p:grpSpPr>
          <a:xfrm>
            <a:off x="4859280" y="1322280"/>
            <a:ext cx="3175200" cy="2893680"/>
            <a:chOff x="4859280" y="1322280"/>
            <a:chExt cx="3175200" cy="2893680"/>
          </a:xfrm>
        </p:grpSpPr>
        <p:grpSp>
          <p:nvGrpSpPr>
            <p:cNvPr id="596" name="Grouper 11"/>
            <p:cNvGrpSpPr/>
            <p:nvPr/>
          </p:nvGrpSpPr>
          <p:grpSpPr>
            <a:xfrm>
              <a:off x="4859280" y="1466640"/>
              <a:ext cx="3175200" cy="2749320"/>
              <a:chOff x="4859280" y="1466640"/>
              <a:chExt cx="3175200" cy="2749320"/>
            </a:xfrm>
          </p:grpSpPr>
          <p:pic>
            <p:nvPicPr>
              <p:cNvPr id="597" name="Image 6" descr="sensibility.eps"/>
              <p:cNvPicPr/>
              <p:nvPr/>
            </p:nvPicPr>
            <p:blipFill>
              <a:blip r:embed="rId2"/>
              <a:srcRect l="65281" t="0" r="0" b="67008"/>
              <a:stretch/>
            </p:blipFill>
            <p:spPr>
              <a:xfrm>
                <a:off x="4859280" y="1466640"/>
                <a:ext cx="3175200" cy="20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ZoneTexte 9"/>
              <p:cNvSpPr/>
              <p:nvPr/>
            </p:nvSpPr>
            <p:spPr>
              <a:xfrm>
                <a:off x="4980240" y="3573360"/>
                <a:ext cx="2932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 of the discretionary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ne-changing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ZoneTexte 17"/>
            <p:cNvSpPr/>
            <p:nvPr/>
          </p:nvSpPr>
          <p:spPr>
            <a:xfrm>
              <a:off x="7465680" y="24836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18"/>
            <p:cNvSpPr/>
            <p:nvPr/>
          </p:nvSpPr>
          <p:spPr>
            <a:xfrm>
              <a:off x="7465680" y="20422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ZoneTexte 19"/>
            <p:cNvSpPr/>
            <p:nvPr/>
          </p:nvSpPr>
          <p:spPr>
            <a:xfrm>
              <a:off x="7138440" y="132228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er 25"/>
          <p:cNvGrpSpPr/>
          <p:nvPr/>
        </p:nvGrpSpPr>
        <p:grpSpPr>
          <a:xfrm>
            <a:off x="900000" y="4076640"/>
            <a:ext cx="3265560" cy="2601000"/>
            <a:chOff x="900000" y="4076640"/>
            <a:chExt cx="3265560" cy="2601000"/>
          </a:xfrm>
        </p:grpSpPr>
        <p:grpSp>
          <p:nvGrpSpPr>
            <p:cNvPr id="603" name="Grouper 13"/>
            <p:cNvGrpSpPr/>
            <p:nvPr/>
          </p:nvGrpSpPr>
          <p:grpSpPr>
            <a:xfrm>
              <a:off x="900000" y="4148640"/>
              <a:ext cx="3213000" cy="2529000"/>
              <a:chOff x="900000" y="4148640"/>
              <a:chExt cx="3213000" cy="2529000"/>
            </a:xfrm>
          </p:grpSpPr>
          <p:pic>
            <p:nvPicPr>
              <p:cNvPr id="604" name="Image 5" descr="sensibility.eps"/>
              <p:cNvPicPr/>
              <p:nvPr/>
            </p:nvPicPr>
            <p:blipFill>
              <a:blip r:embed="rId3"/>
              <a:srcRect l="31806" t="65787" r="33056" b="0"/>
              <a:stretch/>
            </p:blipFill>
            <p:spPr>
              <a:xfrm>
                <a:off x="900000" y="4148640"/>
                <a:ext cx="3213000" cy="212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ZoneTexte 12"/>
              <p:cNvSpPr/>
              <p:nvPr/>
            </p:nvSpPr>
            <p:spPr>
              <a:xfrm>
                <a:off x="1838880" y="6309360"/>
                <a:ext cx="133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rge rat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ZoneTexte 20"/>
            <p:cNvSpPr/>
            <p:nvPr/>
          </p:nvSpPr>
          <p:spPr>
            <a:xfrm>
              <a:off x="3702600" y="5238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ZoneTexte 21"/>
            <p:cNvSpPr/>
            <p:nvPr/>
          </p:nvSpPr>
          <p:spPr>
            <a:xfrm>
              <a:off x="3702600" y="47966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ZoneTexte 22"/>
            <p:cNvSpPr/>
            <p:nvPr/>
          </p:nvSpPr>
          <p:spPr>
            <a:xfrm>
              <a:off x="3375360" y="407664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ensitivity to vehicle characteristic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10" name="Image 2" descr="sensibility.eps"/>
          <p:cNvPicPr/>
          <p:nvPr/>
        </p:nvPicPr>
        <p:blipFill>
          <a:blip r:embed="rId1"/>
          <a:srcRect l="33335" t="33611" r="0" b="32986"/>
          <a:stretch/>
        </p:blipFill>
        <p:spPr>
          <a:xfrm>
            <a:off x="395280" y="1557360"/>
            <a:ext cx="6095880" cy="2070000"/>
          </a:xfrm>
          <a:prstGeom prst="rect">
            <a:avLst/>
          </a:prstGeom>
          <a:ln w="0">
            <a:noFill/>
          </a:ln>
        </p:spPr>
      </p:pic>
      <p:pic>
        <p:nvPicPr>
          <p:cNvPr id="611" name="Image 3" descr="sensibility.eps"/>
          <p:cNvPicPr/>
          <p:nvPr/>
        </p:nvPicPr>
        <p:blipFill>
          <a:blip r:embed="rId2"/>
          <a:srcRect l="0" t="0" r="33613" b="65984"/>
          <a:stretch/>
        </p:blipFill>
        <p:spPr>
          <a:xfrm>
            <a:off x="420840" y="3984480"/>
            <a:ext cx="6070320" cy="2108520"/>
          </a:xfrm>
          <a:prstGeom prst="rect">
            <a:avLst/>
          </a:prstGeom>
          <a:ln w="0">
            <a:noFill/>
          </a:ln>
        </p:spPr>
      </p:pic>
      <p:sp>
        <p:nvSpPr>
          <p:cNvPr id="612" name="ZoneTexte 4"/>
          <p:cNvSpPr/>
          <p:nvPr/>
        </p:nvSpPr>
        <p:spPr>
          <a:xfrm>
            <a:off x="1055520" y="3573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5"/>
          <p:cNvSpPr/>
          <p:nvPr/>
        </p:nvSpPr>
        <p:spPr>
          <a:xfrm>
            <a:off x="4155120" y="3564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ZoneTexte 6"/>
          <p:cNvSpPr/>
          <p:nvPr/>
        </p:nvSpPr>
        <p:spPr>
          <a:xfrm>
            <a:off x="1122840" y="60181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oneTexte 7"/>
          <p:cNvSpPr/>
          <p:nvPr/>
        </p:nvSpPr>
        <p:spPr>
          <a:xfrm>
            <a:off x="3700800" y="587700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perform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ionary  lane-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oneTexte 8"/>
          <p:cNvSpPr/>
          <p:nvPr/>
        </p:nvSpPr>
        <p:spPr>
          <a:xfrm>
            <a:off x="291024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ZoneTexte 9"/>
          <p:cNvSpPr/>
          <p:nvPr/>
        </p:nvSpPr>
        <p:spPr>
          <a:xfrm>
            <a:off x="2910240" y="2050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"/>
          <p:cNvSpPr/>
          <p:nvPr/>
        </p:nvSpPr>
        <p:spPr>
          <a:xfrm>
            <a:off x="2583000" y="1332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ZoneTexte 11"/>
          <p:cNvSpPr/>
          <p:nvPr/>
        </p:nvSpPr>
        <p:spPr>
          <a:xfrm>
            <a:off x="595368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oneTexte 12"/>
          <p:cNvSpPr/>
          <p:nvPr/>
        </p:nvSpPr>
        <p:spPr>
          <a:xfrm>
            <a:off x="5953680" y="2050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3"/>
          <p:cNvSpPr/>
          <p:nvPr/>
        </p:nvSpPr>
        <p:spPr>
          <a:xfrm>
            <a:off x="5626080" y="1332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4"/>
          <p:cNvSpPr/>
          <p:nvPr/>
        </p:nvSpPr>
        <p:spPr>
          <a:xfrm>
            <a:off x="3054600" y="5435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ZoneTexte 15"/>
          <p:cNvSpPr/>
          <p:nvPr/>
        </p:nvSpPr>
        <p:spPr>
          <a:xfrm>
            <a:off x="3054600" y="499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6"/>
          <p:cNvSpPr/>
          <p:nvPr/>
        </p:nvSpPr>
        <p:spPr>
          <a:xfrm>
            <a:off x="2727360" y="4275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ZoneTexte 17"/>
          <p:cNvSpPr/>
          <p:nvPr/>
        </p:nvSpPr>
        <p:spPr>
          <a:xfrm>
            <a:off x="6026400" y="5165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ZoneTexte 18"/>
          <p:cNvSpPr/>
          <p:nvPr/>
        </p:nvSpPr>
        <p:spPr>
          <a:xfrm>
            <a:off x="6026400" y="472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ZoneTexte 19"/>
          <p:cNvSpPr/>
          <p:nvPr/>
        </p:nvSpPr>
        <p:spPr>
          <a:xfrm>
            <a:off x="5699160" y="414972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omparison with a traffic simulator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29" name="Image 2" descr="confrontation_simulation.eps"/>
          <p:cNvPicPr/>
          <p:nvPr/>
        </p:nvPicPr>
        <p:blipFill>
          <a:blip r:embed="rId1"/>
          <a:stretch/>
        </p:blipFill>
        <p:spPr>
          <a:xfrm>
            <a:off x="395280" y="1557360"/>
            <a:ext cx="8397720" cy="3465360"/>
          </a:xfrm>
          <a:prstGeom prst="rect">
            <a:avLst/>
          </a:prstGeom>
          <a:ln w="0">
            <a:noFill/>
          </a:ln>
        </p:spPr>
      </p:pic>
      <p:sp>
        <p:nvSpPr>
          <p:cNvPr id="630" name="ZoneTexte 3"/>
          <p:cNvSpPr/>
          <p:nvPr/>
        </p:nvSpPr>
        <p:spPr>
          <a:xfrm>
            <a:off x="5807160" y="522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s the relaxation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Experimental validation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33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3051A-7593-4131-88F7-F44848D65219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Experimental site (M6 – England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grpSp>
        <p:nvGrpSpPr>
          <p:cNvPr id="635" name="Grouper 1"/>
          <p:cNvGrpSpPr/>
          <p:nvPr/>
        </p:nvGrpSpPr>
        <p:grpSpPr>
          <a:xfrm>
            <a:off x="355680" y="3290760"/>
            <a:ext cx="4433760" cy="3351240"/>
            <a:chOff x="355680" y="3290760"/>
            <a:chExt cx="4433760" cy="3351240"/>
          </a:xfrm>
        </p:grpSpPr>
        <p:pic>
          <p:nvPicPr>
            <p:cNvPr id="636" name="Image 5" descr="Site.jpg"/>
            <p:cNvPicPr/>
            <p:nvPr/>
          </p:nvPicPr>
          <p:blipFill>
            <a:blip r:embed="rId1"/>
            <a:stretch/>
          </p:blipFill>
          <p:spPr>
            <a:xfrm>
              <a:off x="355680" y="3290760"/>
              <a:ext cx="4433760" cy="33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Ellipse 7"/>
            <p:cNvSpPr/>
            <p:nvPr/>
          </p:nvSpPr>
          <p:spPr>
            <a:xfrm rot="1789200">
              <a:off x="852120" y="4674960"/>
              <a:ext cx="3274920" cy="460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Image 5" descr="Fig7.eps"/>
          <p:cNvPicPr/>
          <p:nvPr/>
        </p:nvPicPr>
        <p:blipFill>
          <a:blip r:embed="rId2"/>
          <a:srcRect l="0" t="1644" r="0" b="72860"/>
          <a:stretch/>
        </p:blipFill>
        <p:spPr>
          <a:xfrm>
            <a:off x="2195640" y="1488960"/>
            <a:ext cx="6723000" cy="15084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er 9"/>
          <p:cNvGrpSpPr/>
          <p:nvPr/>
        </p:nvGrpSpPr>
        <p:grpSpPr>
          <a:xfrm>
            <a:off x="3547800" y="1412280"/>
            <a:ext cx="2732040" cy="1903320"/>
            <a:chOff x="3547800" y="1412280"/>
            <a:chExt cx="2732040" cy="1903320"/>
          </a:xfrm>
        </p:grpSpPr>
        <p:grpSp>
          <p:nvGrpSpPr>
            <p:cNvPr id="640" name="Grouper 4"/>
            <p:cNvGrpSpPr/>
            <p:nvPr/>
          </p:nvGrpSpPr>
          <p:grpSpPr>
            <a:xfrm>
              <a:off x="3547800" y="1417320"/>
              <a:ext cx="1169640" cy="1898280"/>
              <a:chOff x="3547800" y="1417320"/>
              <a:chExt cx="1169640" cy="1898280"/>
            </a:xfrm>
          </p:grpSpPr>
          <p:cxnSp>
            <p:nvCxnSpPr>
              <p:cNvPr id="641" name="Connecteur droit avec flèche 2"/>
              <p:cNvCxnSpPr/>
              <p:nvPr/>
            </p:nvCxnSpPr>
            <p:spPr>
              <a:xfrm flipV="1">
                <a:off x="4132080" y="1417320"/>
                <a:ext cx="1080" cy="1651680"/>
              </a:xfrm>
              <a:prstGeom prst="straightConnector1">
                <a:avLst/>
              </a:prstGeom>
              <a:ln w="25560">
                <a:solidFill>
                  <a:srgbClr val="1f497d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642" name="ZoneTexte 3"/>
              <p:cNvSpPr/>
              <p:nvPr/>
            </p:nvSpPr>
            <p:spPr>
              <a:xfrm>
                <a:off x="3547800" y="2947320"/>
                <a:ext cx="11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1f497d"/>
                    </a:solidFill>
                    <a:latin typeface="Arial"/>
                  </a:rPr>
                  <a:t>Upstr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er 6"/>
            <p:cNvGrpSpPr/>
            <p:nvPr/>
          </p:nvGrpSpPr>
          <p:grpSpPr>
            <a:xfrm>
              <a:off x="4818960" y="1412280"/>
              <a:ext cx="1460880" cy="1902240"/>
              <a:chOff x="4818960" y="1412280"/>
              <a:chExt cx="1460880" cy="1902240"/>
            </a:xfrm>
          </p:grpSpPr>
          <p:cxnSp>
            <p:nvCxnSpPr>
              <p:cNvPr id="644" name="Connecteur droit avec flèche 8"/>
              <p:cNvCxnSpPr/>
              <p:nvPr/>
            </p:nvCxnSpPr>
            <p:spPr>
              <a:xfrm flipV="1">
                <a:off x="5547960" y="1412280"/>
                <a:ext cx="1080" cy="1652040"/>
              </a:xfrm>
              <a:prstGeom prst="straightConnector1">
                <a:avLst/>
              </a:prstGeom>
              <a:ln w="25560">
                <a:solidFill>
                  <a:srgbClr val="1f497d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645" name="ZoneTexte 10"/>
              <p:cNvSpPr/>
              <p:nvPr/>
            </p:nvSpPr>
            <p:spPr>
              <a:xfrm>
                <a:off x="4818960" y="2946240"/>
                <a:ext cx="14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1f497d"/>
                    </a:solidFill>
                    <a:latin typeface="Arial"/>
                  </a:rPr>
                  <a:t>Downstr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6" name="Image 13" descr="Fig7.eps"/>
          <p:cNvPicPr/>
          <p:nvPr/>
        </p:nvPicPr>
        <p:blipFill>
          <a:blip r:embed="rId3"/>
          <a:srcRect l="0" t="26290" r="0" b="48287"/>
          <a:stretch/>
        </p:blipFill>
        <p:spPr>
          <a:xfrm>
            <a:off x="3851280" y="3716280"/>
            <a:ext cx="5041800" cy="1130400"/>
          </a:xfrm>
          <a:prstGeom prst="rect">
            <a:avLst/>
          </a:prstGeom>
          <a:ln w="0">
            <a:noFill/>
          </a:ln>
        </p:spPr>
      </p:pic>
      <p:sp>
        <p:nvSpPr>
          <p:cNvPr id="647" name="ZoneTexte 1"/>
          <p:cNvSpPr/>
          <p:nvPr/>
        </p:nvSpPr>
        <p:spPr>
          <a:xfrm>
            <a:off x="4885920" y="5013360"/>
            <a:ext cx="42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days of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periods (20 min) of heavy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Extended sketch of the model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49" name="Image 2" descr="illustration_merge_3lanes.eps"/>
          <p:cNvPicPr/>
          <p:nvPr/>
        </p:nvPicPr>
        <p:blipFill>
          <a:blip r:embed="rId1"/>
          <a:stretch/>
        </p:blipFill>
        <p:spPr>
          <a:xfrm>
            <a:off x="501480" y="1576440"/>
            <a:ext cx="8102880" cy="3797280"/>
          </a:xfrm>
          <a:prstGeom prst="rect">
            <a:avLst/>
          </a:prstGeom>
          <a:ln w="0">
            <a:noFill/>
          </a:ln>
        </p:spPr>
      </p:pic>
      <p:sp>
        <p:nvSpPr>
          <p:cNvPr id="650" name="ZoneTexte 3"/>
          <p:cNvSpPr/>
          <p:nvPr/>
        </p:nvSpPr>
        <p:spPr>
          <a:xfrm>
            <a:off x="7305840" y="4437000"/>
            <a:ext cx="1244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ZoneTexte 4"/>
          <p:cNvSpPr/>
          <p:nvPr/>
        </p:nvSpPr>
        <p:spPr>
          <a:xfrm>
            <a:off x="297000" y="5084640"/>
            <a:ext cx="578268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gh calib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D (per lane):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15 km/h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20 km/h,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45 veh/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.8 m/s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3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60 m ;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00a6a4"/>
                </a:solidFill>
                <a:latin typeface="Arial"/>
              </a:rPr>
              <a:t>Experimental result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53" name="Image 2" descr="empirical_validation.eps"/>
          <p:cNvPicPr/>
          <p:nvPr/>
        </p:nvPicPr>
        <p:blipFill>
          <a:blip r:embed="rId1"/>
          <a:stretch/>
        </p:blipFill>
        <p:spPr>
          <a:xfrm>
            <a:off x="395280" y="1546200"/>
            <a:ext cx="7453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56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82B24-A5EE-4CD2-A92E-274162016A5B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00a6a4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Combining different analytical formulae designed for local problems (local merge, discretionary lane-changing,…) leads to a global analytical model for multilane freeways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Fast (low computational cost) estimation can be obtained for the total effective capacity and the capacity per lane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The proposed framework can account for vehicle heterogeneity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2401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First experimental results are promising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Of course, this is only an estimate of the mean capacity value for a large time period (20 min). This approach is not able to estimate the short-term evolution of the flow (traffic dynamics)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59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DD2F6-002E-4E2A-ACEE-CD8310177203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Outlin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Presentation of the analytical framework for multilane freeways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Numerical results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nsibility to road parame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nsitivity to vehicle characteristic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mparison with traffic simul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Experimental validation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BC2C5-CC86-47BC-B29C-606F1DFE6870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6a9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324000" y="441000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lercq, L., Knoop, V., Marczak, F., Hoogendoorn, S. Capacity Drops at Merges: New Analytical Investigation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edings of the IEEE-ITSC2014 confer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ingdao, China, Octob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lercq, L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val, J.A., Chiabaut, 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Drops at Merges: an endogenous model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nsportation Research Part B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(9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302-131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The modelling Framework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05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84410-5414-43E7-95A2-A75D54B6CD8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ketch of the merg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CEF3A-6ADB-476D-9360-3E681F0C91E0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age 4" descr=""/>
          <p:cNvPicPr/>
          <p:nvPr/>
        </p:nvPicPr>
        <p:blipFill>
          <a:blip r:embed="rId2"/>
          <a:stretch/>
        </p:blipFill>
        <p:spPr>
          <a:xfrm>
            <a:off x="611280" y="2031840"/>
            <a:ext cx="7715160" cy="335916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er 11"/>
          <p:cNvGrpSpPr/>
          <p:nvPr/>
        </p:nvGrpSpPr>
        <p:grpSpPr>
          <a:xfrm>
            <a:off x="5214600" y="2997360"/>
            <a:ext cx="3617280" cy="2379240"/>
            <a:chOff x="5214600" y="2997360"/>
            <a:chExt cx="3617280" cy="2379240"/>
          </a:xfrm>
        </p:grpSpPr>
        <p:sp>
          <p:nvSpPr>
            <p:cNvPr id="511" name="Bouée 6"/>
            <p:cNvSpPr/>
            <p:nvPr/>
          </p:nvSpPr>
          <p:spPr>
            <a:xfrm>
              <a:off x="5419080" y="2997360"/>
              <a:ext cx="2177280" cy="1511640"/>
            </a:xfrm>
            <a:custGeom>
              <a:avLst/>
              <a:gdLst/>
              <a:ahLst/>
              <a:rect l="l" t="t" r="r" b="b"/>
              <a:pathLst>
                <a:path w="2177522" h="1512168">
                  <a:moveTo>
                    <a:pt x="0" y="756084"/>
                  </a:moveTo>
                  <a:cubicBezTo>
                    <a:pt x="0" y="338510"/>
                    <a:pt x="487455" y="0"/>
                    <a:pt x="1088761" y="0"/>
                  </a:cubicBezTo>
                  <a:cubicBezTo>
                    <a:pt x="1690067" y="0"/>
                    <a:pt x="2177522" y="338510"/>
                    <a:pt x="2177522" y="756084"/>
                  </a:cubicBezTo>
                  <a:cubicBezTo>
                    <a:pt x="2177522" y="1173658"/>
                    <a:pt x="1690067" y="1512168"/>
                    <a:pt x="1088761" y="1512168"/>
                  </a:cubicBezTo>
                  <a:cubicBezTo>
                    <a:pt x="487455" y="1512168"/>
                    <a:pt x="0" y="1173658"/>
                    <a:pt x="0" y="756084"/>
                  </a:cubicBezTo>
                  <a:close/>
                  <a:moveTo>
                    <a:pt x="104430" y="756084"/>
                  </a:moveTo>
                  <a:cubicBezTo>
                    <a:pt x="104430" y="1115983"/>
                    <a:pt x="545130" y="1407738"/>
                    <a:pt x="1088761" y="1407738"/>
                  </a:cubicBezTo>
                  <a:cubicBezTo>
                    <a:pt x="1632392" y="1407738"/>
                    <a:pt x="2073092" y="1115983"/>
                    <a:pt x="2073092" y="756084"/>
                  </a:cubicBezTo>
                  <a:cubicBezTo>
                    <a:pt x="2073092" y="396185"/>
                    <a:pt x="1632392" y="104430"/>
                    <a:pt x="1088761" y="104430"/>
                  </a:cubicBezTo>
                  <a:cubicBezTo>
                    <a:pt x="545130" y="104430"/>
                    <a:pt x="104430" y="396185"/>
                    <a:pt x="104430" y="756084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ZoneTexte 7"/>
            <p:cNvSpPr/>
            <p:nvPr/>
          </p:nvSpPr>
          <p:spPr>
            <a:xfrm>
              <a:off x="5214600" y="4916880"/>
              <a:ext cx="36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Mandatory lane-chang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ZoneTexte 9"/>
            <p:cNvSpPr/>
            <p:nvPr/>
          </p:nvSpPr>
          <p:spPr>
            <a:xfrm>
              <a:off x="7599240" y="4077000"/>
              <a:ext cx="307080" cy="3682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er 12"/>
          <p:cNvGrpSpPr/>
          <p:nvPr/>
        </p:nvGrpSpPr>
        <p:grpSpPr>
          <a:xfrm>
            <a:off x="614880" y="2031840"/>
            <a:ext cx="5469840" cy="1901880"/>
            <a:chOff x="614880" y="2031840"/>
            <a:chExt cx="5469840" cy="1901880"/>
          </a:xfrm>
        </p:grpSpPr>
        <p:sp>
          <p:nvSpPr>
            <p:cNvPr id="515" name="Bouée 5"/>
            <p:cNvSpPr/>
            <p:nvPr/>
          </p:nvSpPr>
          <p:spPr>
            <a:xfrm>
              <a:off x="3907080" y="2420640"/>
              <a:ext cx="2177640" cy="1513080"/>
            </a:xfrm>
            <a:custGeom>
              <a:avLst/>
              <a:gdLst/>
              <a:ahLst/>
              <a:rect l="l" t="t" r="r" b="b"/>
              <a:pathLst>
                <a:path w="2177522" h="1512168">
                  <a:moveTo>
                    <a:pt x="0" y="756084"/>
                  </a:moveTo>
                  <a:cubicBezTo>
                    <a:pt x="0" y="338510"/>
                    <a:pt x="487455" y="0"/>
                    <a:pt x="1088761" y="0"/>
                  </a:cubicBezTo>
                  <a:cubicBezTo>
                    <a:pt x="1690067" y="0"/>
                    <a:pt x="2177522" y="338510"/>
                    <a:pt x="2177522" y="756084"/>
                  </a:cubicBezTo>
                  <a:cubicBezTo>
                    <a:pt x="2177522" y="1173658"/>
                    <a:pt x="1690067" y="1512168"/>
                    <a:pt x="1088761" y="1512168"/>
                  </a:cubicBezTo>
                  <a:cubicBezTo>
                    <a:pt x="487455" y="1512168"/>
                    <a:pt x="0" y="1173658"/>
                    <a:pt x="0" y="756084"/>
                  </a:cubicBezTo>
                  <a:close/>
                  <a:moveTo>
                    <a:pt x="104430" y="756084"/>
                  </a:moveTo>
                  <a:cubicBezTo>
                    <a:pt x="104430" y="1115983"/>
                    <a:pt x="545130" y="1407738"/>
                    <a:pt x="1088761" y="1407738"/>
                  </a:cubicBezTo>
                  <a:cubicBezTo>
                    <a:pt x="1632392" y="1407738"/>
                    <a:pt x="2073092" y="1115983"/>
                    <a:pt x="2073092" y="756084"/>
                  </a:cubicBezTo>
                  <a:cubicBezTo>
                    <a:pt x="2073092" y="396185"/>
                    <a:pt x="1632392" y="104430"/>
                    <a:pt x="1088761" y="104430"/>
                  </a:cubicBezTo>
                  <a:cubicBezTo>
                    <a:pt x="545130" y="104430"/>
                    <a:pt x="104430" y="396185"/>
                    <a:pt x="104430" y="756084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ZoneTexte 8"/>
            <p:cNvSpPr/>
            <p:nvPr/>
          </p:nvSpPr>
          <p:spPr>
            <a:xfrm>
              <a:off x="614880" y="2031840"/>
              <a:ext cx="39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Discretianory lane-chang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ZoneTexte 10"/>
            <p:cNvSpPr/>
            <p:nvPr/>
          </p:nvSpPr>
          <p:spPr>
            <a:xfrm>
              <a:off x="5422320" y="2031840"/>
              <a:ext cx="307080" cy="3682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ZoneTexte 13"/>
          <p:cNvSpPr/>
          <p:nvPr/>
        </p:nvSpPr>
        <p:spPr>
          <a:xfrm>
            <a:off x="243000" y="554040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put together previous analytical results to fully describe the merge behavior in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914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Discretionary lane changing (1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Lane changing flow </a:t>
            </a:r>
            <a:r>
              <a:rPr b="0" i="1" lang="en-US" sz="2800" spc="-1" strike="noStrike">
                <a:solidFill>
                  <a:srgbClr val="0056a9"/>
                </a:solidFill>
                <a:latin typeface="Times New Roman"/>
                <a:ea typeface="Times New Roman"/>
              </a:rPr>
              <a:t>ϕ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triggers by the positive speed difference between lane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λ are respectively the supply and the demand derived from the triangular FD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2400" spc="-1" strike="noStrike">
                <a:solidFill>
                  <a:srgbClr val="0056a9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is the time for a lane-changing maneuver to complete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8E6E4-6192-4419-90DE-A73451B0D5EF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Image 4" descr=""/>
          <p:cNvPicPr/>
          <p:nvPr/>
        </p:nvPicPr>
        <p:blipFill>
          <a:blip r:embed="rId1"/>
          <a:stretch/>
        </p:blipFill>
        <p:spPr>
          <a:xfrm>
            <a:off x="287280" y="4638600"/>
            <a:ext cx="4500720" cy="1959120"/>
          </a:xfrm>
          <a:prstGeom prst="rect">
            <a:avLst/>
          </a:prstGeom>
          <a:ln w="0">
            <a:noFill/>
          </a:ln>
        </p:spPr>
      </p:pic>
      <p:pic>
        <p:nvPicPr>
          <p:cNvPr id="523" name="Image 11" descr=""/>
          <p:cNvPicPr/>
          <p:nvPr/>
        </p:nvPicPr>
        <p:blipFill>
          <a:blip r:embed="rId2"/>
          <a:srcRect l="25470" t="0" r="23746" b="0"/>
          <a:stretch/>
        </p:blipFill>
        <p:spPr>
          <a:xfrm>
            <a:off x="611280" y="2492280"/>
            <a:ext cx="5145120" cy="916200"/>
          </a:xfrm>
          <a:prstGeom prst="rect">
            <a:avLst/>
          </a:prstGeom>
          <a:ln w="0">
            <a:noFill/>
          </a:ln>
        </p:spPr>
      </p:pic>
      <p:sp>
        <p:nvSpPr>
          <p:cNvPr id="524" name="ZoneTexte 13"/>
          <p:cNvSpPr/>
          <p:nvPr/>
        </p:nvSpPr>
        <p:spPr>
          <a:xfrm>
            <a:off x="599436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val and Leclercq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914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Discretionary lane changing (2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Lanes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 j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re congested, so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μ(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=C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λ(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=λ(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It comes that: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7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670DD-A1D4-4EA7-99AF-E36EF2794F91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Image 4" descr=""/>
          <p:cNvPicPr/>
          <p:nvPr/>
        </p:nvPicPr>
        <p:blipFill>
          <a:blip r:embed="rId1"/>
          <a:stretch/>
        </p:blipFill>
        <p:spPr>
          <a:xfrm>
            <a:off x="324000" y="4622760"/>
            <a:ext cx="4535280" cy="1974960"/>
          </a:xfrm>
          <a:prstGeom prst="rect">
            <a:avLst/>
          </a:prstGeom>
          <a:ln w="0">
            <a:noFill/>
          </a:ln>
        </p:spPr>
      </p:pic>
      <p:pic>
        <p:nvPicPr>
          <p:cNvPr id="529" name="Image 2" descr=""/>
          <p:cNvPicPr/>
          <p:nvPr/>
        </p:nvPicPr>
        <p:blipFill>
          <a:blip r:embed="rId2"/>
          <a:srcRect l="26694" t="0" r="25676" b="0"/>
          <a:stretch/>
        </p:blipFill>
        <p:spPr>
          <a:xfrm>
            <a:off x="2913120" y="3187800"/>
            <a:ext cx="5619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apacity formulae for local merging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2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349F4-A92E-415D-AD9B-7045A71248FF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age 4" descr="Fig2p7.eps"/>
          <p:cNvPicPr/>
          <p:nvPr/>
        </p:nvPicPr>
        <p:blipFill>
          <a:blip r:embed="rId2"/>
          <a:stretch/>
        </p:blipFill>
        <p:spPr>
          <a:xfrm>
            <a:off x="447840" y="1484280"/>
            <a:ext cx="4268520" cy="3175200"/>
          </a:xfrm>
          <a:prstGeom prst="rect">
            <a:avLst/>
          </a:prstGeom>
          <a:ln w="0">
            <a:noFill/>
          </a:ln>
        </p:spPr>
      </p:pic>
      <p:cxnSp>
        <p:nvCxnSpPr>
          <p:cNvPr id="534" name="Connecteur droit avec flèche 6"/>
          <p:cNvCxnSpPr/>
          <p:nvPr/>
        </p:nvCxnSpPr>
        <p:spPr>
          <a:xfrm>
            <a:off x="5148000" y="1915920"/>
            <a:ext cx="3385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5" name="Connecteur droit avec flèche 8"/>
          <p:cNvCxnSpPr/>
          <p:nvPr/>
        </p:nvCxnSpPr>
        <p:spPr>
          <a:xfrm flipV="1">
            <a:off x="6587640" y="1915560"/>
            <a:ext cx="793080" cy="93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6" name="ZoneTexte 9"/>
          <p:cNvSpPr/>
          <p:nvPr/>
        </p:nvSpPr>
        <p:spPr>
          <a:xfrm>
            <a:off x="7052040" y="2421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ZoneTexte 10"/>
          <p:cNvSpPr/>
          <p:nvPr/>
        </p:nvSpPr>
        <p:spPr>
          <a:xfrm>
            <a:off x="7501680" y="1474920"/>
            <a:ext cx="94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er 13"/>
          <p:cNvGrpSpPr/>
          <p:nvPr/>
        </p:nvGrpSpPr>
        <p:grpSpPr>
          <a:xfrm>
            <a:off x="1190520" y="2997360"/>
            <a:ext cx="7774200" cy="2814480"/>
            <a:chOff x="1190520" y="2997360"/>
            <a:chExt cx="7774200" cy="2814480"/>
          </a:xfrm>
        </p:grpSpPr>
        <p:pic>
          <p:nvPicPr>
            <p:cNvPr id="539" name="Image 11" descr="Eq5.eps"/>
            <p:cNvPicPr/>
            <p:nvPr/>
          </p:nvPicPr>
          <p:blipFill>
            <a:blip r:embed="rId3"/>
            <a:stretch/>
          </p:blipFill>
          <p:spPr>
            <a:xfrm>
              <a:off x="1190520" y="4797360"/>
              <a:ext cx="647784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ZoneTexte 12"/>
            <p:cNvSpPr/>
            <p:nvPr/>
          </p:nvSpPr>
          <p:spPr>
            <a:xfrm>
              <a:off x="4859640" y="2997360"/>
              <a:ext cx="4105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effective capacity for a local merge only depends 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serting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itial spe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FD para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maximal accel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ZoneTexte 14"/>
          <p:cNvSpPr/>
          <p:nvPr/>
        </p:nvSpPr>
        <p:spPr>
          <a:xfrm>
            <a:off x="457200" y="580536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clercq et al, 2011), further refined in (Leclercq et al, 2014) presented at ITSC2014, Quingdao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Agregating the different component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7010280" y="6481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C792D-2390-4D2A-B1D3-14EAE6973122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Imag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329080" cy="231948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er 15"/>
          <p:cNvGrpSpPr/>
          <p:nvPr/>
        </p:nvGrpSpPr>
        <p:grpSpPr>
          <a:xfrm>
            <a:off x="4859280" y="1452600"/>
            <a:ext cx="3878280" cy="1512720"/>
            <a:chOff x="4859280" y="1452600"/>
            <a:chExt cx="3878280" cy="1512720"/>
          </a:xfrm>
        </p:grpSpPr>
        <p:sp>
          <p:nvSpPr>
            <p:cNvPr id="546" name="Bouée 5"/>
            <p:cNvSpPr/>
            <p:nvPr/>
          </p:nvSpPr>
          <p:spPr>
            <a:xfrm>
              <a:off x="4859280" y="2316960"/>
              <a:ext cx="504000" cy="504000"/>
            </a:xfrm>
            <a:custGeom>
              <a:avLst/>
              <a:gdLst/>
              <a:ahLst/>
              <a:rect l="l" t="t" r="r" b="b"/>
              <a:pathLst>
                <a:path w="504056" h="504056">
                  <a:moveTo>
                    <a:pt x="0" y="252028"/>
                  </a:moveTo>
                  <a:cubicBezTo>
                    <a:pt x="0" y="112837"/>
                    <a:pt x="112837" y="0"/>
                    <a:pt x="252028" y="0"/>
                  </a:cubicBezTo>
                  <a:cubicBezTo>
                    <a:pt x="391219" y="0"/>
                    <a:pt x="504056" y="112837"/>
                    <a:pt x="504056" y="252028"/>
                  </a:cubicBezTo>
                  <a:cubicBezTo>
                    <a:pt x="504056" y="391219"/>
                    <a:pt x="391219" y="504056"/>
                    <a:pt x="252028" y="504056"/>
                  </a:cubicBezTo>
                  <a:cubicBezTo>
                    <a:pt x="112837" y="504056"/>
                    <a:pt x="0" y="391219"/>
                    <a:pt x="0" y="252028"/>
                  </a:cubicBezTo>
                  <a:close/>
                  <a:moveTo>
                    <a:pt x="42557" y="252028"/>
                  </a:moveTo>
                  <a:cubicBezTo>
                    <a:pt x="42557" y="367716"/>
                    <a:pt x="136340" y="461499"/>
                    <a:pt x="252028" y="461499"/>
                  </a:cubicBezTo>
                  <a:cubicBezTo>
                    <a:pt x="367716" y="461499"/>
                    <a:pt x="461499" y="367716"/>
                    <a:pt x="461499" y="252028"/>
                  </a:cubicBezTo>
                  <a:cubicBezTo>
                    <a:pt x="461499" y="136340"/>
                    <a:pt x="367716" y="42557"/>
                    <a:pt x="252028" y="42557"/>
                  </a:cubicBezTo>
                  <a:cubicBezTo>
                    <a:pt x="136340" y="42557"/>
                    <a:pt x="42557" y="136340"/>
                    <a:pt x="42557" y="252028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Image 7" descr=""/>
            <p:cNvPicPr/>
            <p:nvPr/>
          </p:nvPicPr>
          <p:blipFill>
            <a:blip r:embed="rId2"/>
            <a:srcRect l="39074" t="0" r="39074" b="0"/>
            <a:stretch/>
          </p:blipFill>
          <p:spPr>
            <a:xfrm>
              <a:off x="6438600" y="1812600"/>
              <a:ext cx="18774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Image 8" descr=""/>
            <p:cNvPicPr/>
            <p:nvPr/>
          </p:nvPicPr>
          <p:blipFill>
            <a:blip r:embed="rId3"/>
            <a:srcRect l="41727" t="0" r="40839" b="0"/>
            <a:stretch/>
          </p:blipFill>
          <p:spPr>
            <a:xfrm>
              <a:off x="6473880" y="2244960"/>
              <a:ext cx="133812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ZoneTexte 9"/>
            <p:cNvSpPr/>
            <p:nvPr/>
          </p:nvSpPr>
          <p:spPr>
            <a:xfrm>
              <a:off x="7803360" y="2235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F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ZoneTexte 10"/>
            <p:cNvSpPr/>
            <p:nvPr/>
          </p:nvSpPr>
          <p:spPr>
            <a:xfrm>
              <a:off x="5671800" y="14526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city formula (1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Connecteur droit avec flèche 12"/>
            <p:cNvCxnSpPr>
              <a:stCxn id="546" idx="6"/>
            </p:cNvCxnSpPr>
            <p:nvPr/>
          </p:nvCxnSpPr>
          <p:spPr>
            <a:xfrm flipV="1">
              <a:off x="5362920" y="2248560"/>
              <a:ext cx="294840" cy="32040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sp>
          <p:nvSpPr>
            <p:cNvPr id="552" name="Rectangle 13"/>
            <p:cNvSpPr/>
            <p:nvPr/>
          </p:nvSpPr>
          <p:spPr>
            <a:xfrm>
              <a:off x="5657760" y="1452600"/>
              <a:ext cx="3079800" cy="1512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er 45"/>
          <p:cNvGrpSpPr/>
          <p:nvPr/>
        </p:nvGrpSpPr>
        <p:grpSpPr>
          <a:xfrm>
            <a:off x="3684600" y="2208240"/>
            <a:ext cx="5052960" cy="1941480"/>
            <a:chOff x="3684600" y="2208240"/>
            <a:chExt cx="5052960" cy="1941480"/>
          </a:xfrm>
        </p:grpSpPr>
        <p:grpSp>
          <p:nvGrpSpPr>
            <p:cNvPr id="554" name="Grouper 16"/>
            <p:cNvGrpSpPr/>
            <p:nvPr/>
          </p:nvGrpSpPr>
          <p:grpSpPr>
            <a:xfrm>
              <a:off x="3684600" y="2208240"/>
              <a:ext cx="5052960" cy="1941480"/>
              <a:chOff x="3684600" y="2208240"/>
              <a:chExt cx="5052960" cy="1941480"/>
            </a:xfrm>
          </p:grpSpPr>
          <p:sp>
            <p:nvSpPr>
              <p:cNvPr id="555" name="Bouée 17"/>
              <p:cNvSpPr/>
              <p:nvPr/>
            </p:nvSpPr>
            <p:spPr>
              <a:xfrm>
                <a:off x="3684600" y="2208240"/>
                <a:ext cx="887400" cy="932760"/>
              </a:xfrm>
              <a:custGeom>
                <a:avLst/>
                <a:gdLst/>
                <a:ahLst/>
                <a:rect l="l" t="t" r="r" b="b"/>
                <a:pathLst>
                  <a:path w="887760" h="932036">
                    <a:moveTo>
                      <a:pt x="0" y="466018"/>
                    </a:moveTo>
                    <a:cubicBezTo>
                      <a:pt x="0" y="208643"/>
                      <a:pt x="198732" y="0"/>
                      <a:pt x="443880" y="0"/>
                    </a:cubicBezTo>
                    <a:cubicBezTo>
                      <a:pt x="689028" y="0"/>
                      <a:pt x="887760" y="208643"/>
                      <a:pt x="887760" y="466018"/>
                    </a:cubicBezTo>
                    <a:cubicBezTo>
                      <a:pt x="887760" y="723393"/>
                      <a:pt x="689028" y="932036"/>
                      <a:pt x="443880" y="932036"/>
                    </a:cubicBezTo>
                    <a:cubicBezTo>
                      <a:pt x="198732" y="932036"/>
                      <a:pt x="0" y="723393"/>
                      <a:pt x="0" y="466018"/>
                    </a:cubicBezTo>
                    <a:close/>
                    <a:moveTo>
                      <a:pt x="11452" y="466018"/>
                    </a:moveTo>
                    <a:cubicBezTo>
                      <a:pt x="11452" y="717068"/>
                      <a:pt x="205057" y="920584"/>
                      <a:pt x="443880" y="920584"/>
                    </a:cubicBezTo>
                    <a:cubicBezTo>
                      <a:pt x="682703" y="920584"/>
                      <a:pt x="876308" y="717068"/>
                      <a:pt x="876308" y="466018"/>
                    </a:cubicBezTo>
                    <a:cubicBezTo>
                      <a:pt x="876308" y="214968"/>
                      <a:pt x="682703" y="11452"/>
                      <a:pt x="443880" y="11452"/>
                    </a:cubicBezTo>
                    <a:cubicBezTo>
                      <a:pt x="205057" y="11452"/>
                      <a:pt x="11452" y="214968"/>
                      <a:pt x="11452" y="466018"/>
                    </a:cubicBezTo>
                    <a:close/>
                  </a:path>
                </a:pathLst>
              </a:custGeom>
              <a:solidFill>
                <a:srgbClr val="c0504d"/>
              </a:solidFill>
              <a:ln w="9360">
                <a:solidFill>
                  <a:srgbClr val="c0504d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ZoneTexte 21"/>
              <p:cNvSpPr/>
              <p:nvPr/>
            </p:nvSpPr>
            <p:spPr>
              <a:xfrm>
                <a:off x="5673960" y="3213000"/>
                <a:ext cx="265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ganzo’s merge 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7" name="Connecteur droit avec flèche 22"/>
              <p:cNvCxnSpPr>
                <a:stCxn id="555" idx="6"/>
                <a:endCxn id="558" idx="1"/>
              </p:cNvCxnSpPr>
              <p:nvPr/>
            </p:nvCxnSpPr>
            <p:spPr>
              <a:xfrm>
                <a:off x="4571640" y="2674080"/>
                <a:ext cx="1086840" cy="100764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arrow" w="med"/>
              </a:ln>
            </p:spPr>
          </p:cxnSp>
          <p:sp>
            <p:nvSpPr>
              <p:cNvPr id="558" name="Rectangle 23"/>
              <p:cNvSpPr/>
              <p:nvPr/>
            </p:nvSpPr>
            <p:spPr>
              <a:xfrm>
                <a:off x="5658480" y="3213000"/>
                <a:ext cx="3079080" cy="93672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9" name="Image 29" descr=""/>
            <p:cNvPicPr/>
            <p:nvPr/>
          </p:nvPicPr>
          <p:blipFill>
            <a:blip r:embed="rId4"/>
            <a:srcRect l="44374" t="0" r="44887" b="0"/>
            <a:stretch/>
          </p:blipFill>
          <p:spPr>
            <a:xfrm>
              <a:off x="6707160" y="3584520"/>
              <a:ext cx="932040" cy="44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er 44"/>
          <p:cNvGrpSpPr/>
          <p:nvPr/>
        </p:nvGrpSpPr>
        <p:grpSpPr>
          <a:xfrm>
            <a:off x="3755880" y="1820880"/>
            <a:ext cx="4260960" cy="3984480"/>
            <a:chOff x="3755880" y="1820880"/>
            <a:chExt cx="4260960" cy="3984480"/>
          </a:xfrm>
        </p:grpSpPr>
        <p:grpSp>
          <p:nvGrpSpPr>
            <p:cNvPr id="561" name="Grouper 31"/>
            <p:cNvGrpSpPr/>
            <p:nvPr/>
          </p:nvGrpSpPr>
          <p:grpSpPr>
            <a:xfrm>
              <a:off x="3755880" y="1820880"/>
              <a:ext cx="4260960" cy="3984480"/>
              <a:chOff x="3755880" y="1820880"/>
              <a:chExt cx="4260960" cy="3984480"/>
            </a:xfrm>
          </p:grpSpPr>
          <p:sp>
            <p:nvSpPr>
              <p:cNvPr id="562" name="Bouée 32"/>
              <p:cNvSpPr/>
              <p:nvPr/>
            </p:nvSpPr>
            <p:spPr>
              <a:xfrm>
                <a:off x="3755880" y="1820880"/>
                <a:ext cx="599400" cy="599760"/>
              </a:xfrm>
              <a:custGeom>
                <a:avLst/>
                <a:gdLst/>
                <a:ahLst/>
                <a:rect l="l" t="t" r="r" b="b"/>
                <a:pathLst>
                  <a:path w="599728" h="599728">
                    <a:moveTo>
                      <a:pt x="0" y="299864"/>
                    </a:moveTo>
                    <a:cubicBezTo>
                      <a:pt x="0" y="134254"/>
                      <a:pt x="134254" y="0"/>
                      <a:pt x="299864" y="0"/>
                    </a:cubicBezTo>
                    <a:cubicBezTo>
                      <a:pt x="465474" y="0"/>
                      <a:pt x="599728" y="134254"/>
                      <a:pt x="599728" y="299864"/>
                    </a:cubicBezTo>
                    <a:cubicBezTo>
                      <a:pt x="599728" y="465474"/>
                      <a:pt x="465474" y="599728"/>
                      <a:pt x="299864" y="599728"/>
                    </a:cubicBezTo>
                    <a:cubicBezTo>
                      <a:pt x="134254" y="599728"/>
                      <a:pt x="0" y="465474"/>
                      <a:pt x="0" y="299864"/>
                    </a:cubicBezTo>
                    <a:close/>
                    <a:moveTo>
                      <a:pt x="50635" y="299864"/>
                    </a:moveTo>
                    <a:cubicBezTo>
                      <a:pt x="50635" y="437509"/>
                      <a:pt x="162219" y="549093"/>
                      <a:pt x="299864" y="549093"/>
                    </a:cubicBezTo>
                    <a:cubicBezTo>
                      <a:pt x="437509" y="549093"/>
                      <a:pt x="549093" y="437509"/>
                      <a:pt x="549093" y="299864"/>
                    </a:cubicBezTo>
                    <a:cubicBezTo>
                      <a:pt x="549093" y="162219"/>
                      <a:pt x="437509" y="50635"/>
                      <a:pt x="299864" y="50635"/>
                    </a:cubicBezTo>
                    <a:cubicBezTo>
                      <a:pt x="162219" y="50635"/>
                      <a:pt x="50635" y="162219"/>
                      <a:pt x="50635" y="299864"/>
                    </a:cubicBezTo>
                    <a:close/>
                  </a:path>
                </a:pathLst>
              </a:custGeom>
              <a:solidFill>
                <a:srgbClr val="c0504d"/>
              </a:solidFill>
              <a:ln w="9360">
                <a:solidFill>
                  <a:srgbClr val="c0504d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ZoneTexte 35"/>
              <p:cNvSpPr/>
              <p:nvPr/>
            </p:nvSpPr>
            <p:spPr>
              <a:xfrm>
                <a:off x="7083000" y="5076000"/>
                <a:ext cx="9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F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ZoneTexte 36"/>
              <p:cNvSpPr/>
              <p:nvPr/>
            </p:nvSpPr>
            <p:spPr>
              <a:xfrm>
                <a:off x="4951440" y="4293000"/>
                <a:ext cx="229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pacity formula (2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5" name="Connecteur droit avec flèche 37"/>
              <p:cNvCxnSpPr>
                <a:stCxn id="562" idx="4"/>
                <a:endCxn id="566" idx="1"/>
              </p:cNvCxnSpPr>
              <p:nvPr/>
            </p:nvCxnSpPr>
            <p:spPr>
              <a:xfrm>
                <a:off x="4055400" y="2420640"/>
                <a:ext cx="882720" cy="262944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arrow" w="med"/>
              </a:ln>
            </p:spPr>
          </p:cxnSp>
          <p:sp>
            <p:nvSpPr>
              <p:cNvPr id="566" name="Rectangle 38"/>
              <p:cNvSpPr/>
              <p:nvPr/>
            </p:nvSpPr>
            <p:spPr>
              <a:xfrm>
                <a:off x="4937760" y="4293000"/>
                <a:ext cx="3079080" cy="151236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7" name="Image 42" descr=""/>
            <p:cNvPicPr/>
            <p:nvPr/>
          </p:nvPicPr>
          <p:blipFill>
            <a:blip r:embed="rId5"/>
            <a:srcRect l="38223" t="0" r="39299" b="-4562"/>
            <a:stretch/>
          </p:blipFill>
          <p:spPr>
            <a:xfrm>
              <a:off x="5618160" y="4662360"/>
              <a:ext cx="171144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Image 43" descr=""/>
            <p:cNvPicPr/>
            <p:nvPr/>
          </p:nvPicPr>
          <p:blipFill>
            <a:blip r:embed="rId6"/>
            <a:srcRect l="38223" t="0" r="38411" b="15632"/>
            <a:stretch/>
          </p:blipFill>
          <p:spPr>
            <a:xfrm>
              <a:off x="5418360" y="5089320"/>
              <a:ext cx="167328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er 72"/>
          <p:cNvGrpSpPr/>
          <p:nvPr/>
        </p:nvGrpSpPr>
        <p:grpSpPr>
          <a:xfrm>
            <a:off x="707040" y="1814400"/>
            <a:ext cx="3602160" cy="3990960"/>
            <a:chOff x="707040" y="1814400"/>
            <a:chExt cx="3602160" cy="3990960"/>
          </a:xfrm>
        </p:grpSpPr>
        <p:sp>
          <p:nvSpPr>
            <p:cNvPr id="570" name="ZoneTexte 64"/>
            <p:cNvSpPr/>
            <p:nvPr/>
          </p:nvSpPr>
          <p:spPr>
            <a:xfrm>
              <a:off x="707040" y="4077360"/>
              <a:ext cx="36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cretionary lane-changing flow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er 71"/>
            <p:cNvGrpSpPr/>
            <p:nvPr/>
          </p:nvGrpSpPr>
          <p:grpSpPr>
            <a:xfrm>
              <a:off x="718200" y="1814400"/>
              <a:ext cx="3565440" cy="3990960"/>
              <a:chOff x="718200" y="1814400"/>
              <a:chExt cx="3565440" cy="3990960"/>
            </a:xfrm>
          </p:grpSpPr>
          <p:grpSp>
            <p:nvGrpSpPr>
              <p:cNvPr id="572" name="Grouper 49"/>
              <p:cNvGrpSpPr/>
              <p:nvPr/>
            </p:nvGrpSpPr>
            <p:grpSpPr>
              <a:xfrm>
                <a:off x="718200" y="1814400"/>
                <a:ext cx="3565440" cy="3990960"/>
                <a:chOff x="718200" y="1814400"/>
                <a:chExt cx="3565440" cy="3990960"/>
              </a:xfrm>
            </p:grpSpPr>
            <p:sp>
              <p:nvSpPr>
                <p:cNvPr id="573" name="Bouée 52"/>
                <p:cNvSpPr/>
                <p:nvPr/>
              </p:nvSpPr>
              <p:spPr>
                <a:xfrm>
                  <a:off x="2556000" y="1814400"/>
                  <a:ext cx="874800" cy="966960"/>
                </a:xfrm>
                <a:custGeom>
                  <a:avLst/>
                  <a:gdLst/>
                  <a:ahLst/>
                  <a:rect l="l" t="t" r="r" b="b"/>
                  <a:pathLst>
                    <a:path w="874960" h="902134">
                      <a:moveTo>
                        <a:pt x="0" y="451067"/>
                      </a:moveTo>
                      <a:cubicBezTo>
                        <a:pt x="0" y="201950"/>
                        <a:pt x="195866" y="0"/>
                        <a:pt x="437480" y="0"/>
                      </a:cubicBezTo>
                      <a:cubicBezTo>
                        <a:pt x="679094" y="0"/>
                        <a:pt x="874960" y="201950"/>
                        <a:pt x="874960" y="451067"/>
                      </a:cubicBezTo>
                      <a:cubicBezTo>
                        <a:pt x="874960" y="700184"/>
                        <a:pt x="679094" y="902134"/>
                        <a:pt x="437480" y="902134"/>
                      </a:cubicBezTo>
                      <a:cubicBezTo>
                        <a:pt x="195866" y="902134"/>
                        <a:pt x="0" y="700184"/>
                        <a:pt x="0" y="451067"/>
                      </a:cubicBezTo>
                      <a:close/>
                      <a:moveTo>
                        <a:pt x="32120" y="451067"/>
                      </a:moveTo>
                      <a:cubicBezTo>
                        <a:pt x="32120" y="682445"/>
                        <a:pt x="213606" y="870014"/>
                        <a:pt x="437480" y="870014"/>
                      </a:cubicBezTo>
                      <a:cubicBezTo>
                        <a:pt x="661354" y="870014"/>
                        <a:pt x="842840" y="682445"/>
                        <a:pt x="842840" y="451067"/>
                      </a:cubicBezTo>
                      <a:cubicBezTo>
                        <a:pt x="842840" y="219689"/>
                        <a:pt x="661354" y="32120"/>
                        <a:pt x="437480" y="32120"/>
                      </a:cubicBezTo>
                      <a:cubicBezTo>
                        <a:pt x="213606" y="32120"/>
                        <a:pt x="32120" y="219689"/>
                        <a:pt x="32120" y="451067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9360">
                  <a:solidFill>
                    <a:srgbClr val="c0504d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74" name="Connecteur droit avec flèche 55"/>
                <p:cNvCxnSpPr>
                  <a:stCxn id="573" idx="4"/>
                  <a:endCxn id="575" idx="0"/>
                </p:cNvCxnSpPr>
                <p:nvPr/>
              </p:nvCxnSpPr>
              <p:spPr>
                <a:xfrm flipH="1">
                  <a:off x="2500200" y="2781360"/>
                  <a:ext cx="492840" cy="1224720"/>
                </a:xfrm>
                <a:prstGeom prst="straightConnector1">
                  <a:avLst/>
                </a:prstGeom>
                <a:ln w="25560">
                  <a:solidFill>
                    <a:srgbClr val="c0504d"/>
                  </a:solidFill>
                  <a:miter/>
                  <a:tailEnd len="med" type="arrow" w="med"/>
                </a:ln>
              </p:spPr>
            </p:cxnSp>
            <p:sp>
              <p:nvSpPr>
                <p:cNvPr id="575" name="Rectangle 56"/>
                <p:cNvSpPr/>
                <p:nvPr/>
              </p:nvSpPr>
              <p:spPr>
                <a:xfrm>
                  <a:off x="718200" y="4005360"/>
                  <a:ext cx="3565440" cy="1800000"/>
                </a:xfrm>
                <a:prstGeom prst="rect">
                  <a:avLst/>
                </a:prstGeom>
                <a:noFill/>
                <a:ln w="9360">
                  <a:solidFill>
                    <a:srgbClr val="c0504d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6" name="Image 63" descr=""/>
              <p:cNvPicPr/>
              <p:nvPr/>
            </p:nvPicPr>
            <p:blipFill>
              <a:blip r:embed="rId7"/>
              <a:srcRect l="34681" t="0" r="35169" b="15632"/>
              <a:stretch/>
            </p:blipFill>
            <p:spPr>
              <a:xfrm>
                <a:off x="1332000" y="4509360"/>
                <a:ext cx="231444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Image 67" descr=""/>
              <p:cNvPicPr/>
              <p:nvPr/>
            </p:nvPicPr>
            <p:blipFill>
              <a:blip r:embed="rId8"/>
              <a:srcRect l="41145" t="0" r="40620" b="-8257"/>
              <a:stretch/>
            </p:blipFill>
            <p:spPr>
              <a:xfrm>
                <a:off x="1764000" y="5157360"/>
                <a:ext cx="1223640" cy="54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ZoneTexte 68"/>
              <p:cNvSpPr/>
              <p:nvPr/>
            </p:nvSpPr>
            <p:spPr>
              <a:xfrm>
                <a:off x="2989800" y="5157360"/>
                <a:ext cx="9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F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ZoneTexte 69"/>
          <p:cNvSpPr/>
          <p:nvPr/>
        </p:nvSpPr>
        <p:spPr>
          <a:xfrm>
            <a:off x="420840" y="5950080"/>
            <a:ext cx="42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f 4 equations with 4 unknow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Numerical results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2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C75AE-785D-4376-994C-DFFB6BDB09E9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8:04:46Z</dcterms:created>
  <dc:creator>Guillemette</dc:creator>
  <dc:description/>
  <dc:language>en-US</dc:language>
  <cp:lastModifiedBy>LECLERCQ ludovic</cp:lastModifiedBy>
  <cp:lastPrinted>2011-07-11T16:01:37Z</cp:lastPrinted>
  <dcterms:modified xsi:type="dcterms:W3CDTF">2014-10-08T09:22:29Z</dcterms:modified>
  <cp:revision>198</cp:revision>
  <dc:subject/>
  <dc:title>Diapositive 1</dc:title>
</cp:coreProperties>
</file>