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6B5-44CA-4C3D-978C-97C7546A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977-122E-43DB-9638-79138874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64F-FE4B-475F-90FE-254BDF7F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F2D-E35E-4BDC-88C6-B09708B3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428-D2C3-4211-873A-3404E5A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204-F778-434D-A268-3C4539F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18C-B5AD-441C-BED0-063F2DF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CD6-610B-4F5A-934D-A430D80E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87B-6C67-4804-A3CA-FCD22FF9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9D1-A295-40DE-8265-6FFF086E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546-9428-46AA-B3CC-18248C7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07A-17F3-4A22-9AC0-BF9BDCC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1A94-4230-45EC-9CD1-32C5ABD54523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851F-B484-4870-B5E8-410E75DE1DF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AB7-06A0-496B-AB5D-F03C59D505D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5080" y="1052280"/>
            <a:ext cx="748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A transportation programming model considering project interdependency and regional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11080" y="3269880"/>
            <a:ext cx="752184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20th International Symposium on Transportation and Traffic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ordwijk,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uly 18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684360" y="52592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Calibri"/>
              </a:rPr>
              <a:t>Kuancheng Huang* and Yi-Ming Ku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 rot="16200000">
            <a:off x="3731400" y="-769320"/>
            <a:ext cx="4572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9"/>
          <p:cNvSpPr/>
          <p:nvPr/>
        </p:nvSpPr>
        <p:spPr>
          <a:xfrm rot="16200000">
            <a:off x="5386320" y="1562040"/>
            <a:ext cx="4464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684360" y="56912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Calibri"/>
              </a:rPr>
              <a:t>Dept. of Transportation and Logistics Management</a:t>
            </a:r>
            <a:br>
              <a:rPr sz="2200"/>
            </a:br>
            <a:r>
              <a:rPr b="0" lang="de-DE" sz="2200" spc="-1" strike="noStrike">
                <a:solidFill>
                  <a:srgbClr val="000066"/>
                </a:solidFill>
                <a:latin typeface="Calibri"/>
              </a:rPr>
              <a:t>National Chiao Tung University, Taiw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46682" b="4169"/>
          <a:stretch/>
        </p:blipFill>
        <p:spPr>
          <a:xfrm>
            <a:off x="5730840" y="0"/>
            <a:ext cx="34131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BA0-2307-49EA-9EE8-286E3296AF7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er Programm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字方塊 7"/>
          <p:cNvSpPr/>
          <p:nvPr/>
        </p:nvSpPr>
        <p:spPr>
          <a:xfrm>
            <a:off x="1118520" y="2205000"/>
            <a:ext cx="56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2"/>
              <p:cNvSpPr txBox="1"/>
              <p:nvPr/>
            </p:nvSpPr>
            <p:spPr>
              <a:xfrm>
                <a:off x="2239920" y="2259000"/>
                <a:ext cx="1532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9"/>
              <p:cNvSpPr txBox="1"/>
              <p:nvPr/>
            </p:nvSpPr>
            <p:spPr>
              <a:xfrm>
                <a:off x="996840" y="1494000"/>
                <a:ext cx="2405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字方塊 20"/>
          <p:cNvSpPr/>
          <p:nvPr/>
        </p:nvSpPr>
        <p:spPr>
          <a:xfrm>
            <a:off x="3527640" y="1562040"/>
            <a:ext cx="53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Minimize negative benefit (Maximize benefi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900000" y="4797360"/>
                <a:ext cx="3198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0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2268360" y="3213000"/>
                <a:ext cx="30085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1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2268360" y="4098960"/>
                <a:ext cx="2482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文字方塊 20"/>
          <p:cNvSpPr/>
          <p:nvPr/>
        </p:nvSpPr>
        <p:spPr>
          <a:xfrm>
            <a:off x="3994920" y="22766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Budget constra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字方塊 20"/>
          <p:cNvSpPr/>
          <p:nvPr/>
        </p:nvSpPr>
        <p:spPr>
          <a:xfrm>
            <a:off x="5652000" y="2852640"/>
            <a:ext cx="302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Exclusive Relations, </a:t>
            </a:r>
            <a:r>
              <a:rPr b="0" i="1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e.g.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標楷體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字方塊 20"/>
          <p:cNvSpPr/>
          <p:nvPr/>
        </p:nvSpPr>
        <p:spPr>
          <a:xfrm>
            <a:off x="4284720" y="4726080"/>
            <a:ext cx="4392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Regional balance: project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j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 contributes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a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Times New Roman"/>
                <a:ea typeface="標楷體"/>
              </a:rPr>
              <a:t>ij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 to region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4481640" y="5589360"/>
            <a:ext cx="1395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字方塊 20"/>
          <p:cNvSpPr/>
          <p:nvPr/>
        </p:nvSpPr>
        <p:spPr>
          <a:xfrm>
            <a:off x="971640" y="59421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A modification to SCP (Set Covering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36"/>
          <p:cNvSpPr/>
          <p:nvPr/>
        </p:nvSpPr>
        <p:spPr>
          <a:xfrm>
            <a:off x="395280" y="4437000"/>
            <a:ext cx="453960" cy="44064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7"/>
          <p:cNvSpPr/>
          <p:nvPr/>
        </p:nvSpPr>
        <p:spPr>
          <a:xfrm>
            <a:off x="1763640" y="2060640"/>
            <a:ext cx="453960" cy="39888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37"/>
          <p:cNvSpPr/>
          <p:nvPr/>
        </p:nvSpPr>
        <p:spPr>
          <a:xfrm>
            <a:off x="179280" y="29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微軟正黑體"/>
              </a:rPr>
              <a:t>to be rela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30"/>
          <p:cNvSpPr/>
          <p:nvPr/>
        </p:nvSpPr>
        <p:spPr>
          <a:xfrm flipV="1">
            <a:off x="1403280" y="2565360"/>
            <a:ext cx="79236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971640" y="3573360"/>
            <a:ext cx="287280" cy="115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2"/>
              <p:cNvSpPr txBox="1"/>
              <p:nvPr/>
            </p:nvSpPr>
            <p:spPr>
              <a:xfrm>
                <a:off x="6732720" y="3294000"/>
                <a:ext cx="12985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(Relevance)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DD1-CFA2-4218-9FC4-821B95EBE4D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57360" y="2033640"/>
            <a:ext cx="6464160" cy="452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06640" y="1644480"/>
            <a:ext cx="409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A 51.03-km MRT line (140 billion NTD) connecting Taipei city center and the major int’l air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732720" y="4373640"/>
            <a:ext cx="2187360" cy="99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apital 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Economic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0.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5967360" y="2349360"/>
            <a:ext cx="2610000" cy="99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Heavily Populated Suburb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0.7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906640" y="4554360"/>
            <a:ext cx="1979640" cy="129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irport (Aerotropol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85B3-61A5-4912-86C6-9492EC8A79F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grangian Relaxed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971640" y="4140360"/>
                <a:ext cx="251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1015920" y="2259000"/>
                <a:ext cx="5172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πG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971640" y="3139920"/>
                <a:ext cx="3002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文字方塊 20"/>
          <p:cNvSpPr/>
          <p:nvPr/>
        </p:nvSpPr>
        <p:spPr>
          <a:xfrm>
            <a:off x="4935600" y="2979720"/>
            <a:ext cx="293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Exclusive Relation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e.g.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  <a:ea typeface="標楷體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5"/>
              <p:cNvSpPr txBox="1"/>
              <p:nvPr/>
            </p:nvSpPr>
            <p:spPr>
              <a:xfrm>
                <a:off x="5832360" y="3429000"/>
                <a:ext cx="1295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文字方塊 20"/>
          <p:cNvSpPr/>
          <p:nvPr/>
        </p:nvSpPr>
        <p:spPr>
          <a:xfrm>
            <a:off x="4859280" y="4948200"/>
            <a:ext cx="4283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標楷體"/>
              </a:rPr>
              <a:t>Constraints similar to those of the classic assignment problem (AP), which holds the Total Uni-modularity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1"/>
              <p:cNvSpPr txBox="1"/>
              <p:nvPr/>
            </p:nvSpPr>
            <p:spPr>
              <a:xfrm>
                <a:off x="971640" y="4932360"/>
                <a:ext cx="2436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文字方塊 20"/>
          <p:cNvSpPr/>
          <p:nvPr/>
        </p:nvSpPr>
        <p:spPr>
          <a:xfrm>
            <a:off x="431640" y="5454720"/>
            <a:ext cx="410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標楷體"/>
              </a:rPr>
              <a:t>Linearly relax the LR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522360" y="4373640"/>
            <a:ext cx="332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4076640" y="1403280"/>
                <a:ext cx="34848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π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3762360" y="1898280"/>
            <a:ext cx="98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3D61-A060-41AB-BFAF-7C2F7D484B6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字方塊 1"/>
          <p:cNvSpPr/>
          <p:nvPr/>
        </p:nvSpPr>
        <p:spPr>
          <a:xfrm>
            <a:off x="6804000" y="0"/>
            <a:ext cx="234000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olution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402000" y="6084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Flowchart of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392720" y="3068640"/>
            <a:ext cx="4095720" cy="1574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9B47-97A7-451C-8AF9-3EBBD908AFC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sibl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ignificance constraint (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violated, add the unselected option based on th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ascending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der until Constraint (5) is satis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udget constraint (6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violated, remove the selected options (a) based on th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“descending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der and (b) under the condition of satisfying Constraint (5), until the overall budget is under the lim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there is a slack for Constraint (6), further add the option with the most negative Lagrangian co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until the budget is fully uti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For STEP 1 and STEP 3, an option is added only if th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utually exclusive constraint (7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viol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5516640" y="1179360"/>
                <a:ext cx="3584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π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Oval 7"/>
          <p:cNvSpPr/>
          <p:nvPr/>
        </p:nvSpPr>
        <p:spPr>
          <a:xfrm>
            <a:off x="4716360" y="1989000"/>
            <a:ext cx="367200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C2B1-0006-476B-96AE-4FE485D0CFD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grangian Multiplier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351640" cy="3600360"/>
          </a:xfrm>
          <a:prstGeom prst="rect">
            <a:avLst/>
          </a:prstGeom>
          <a:ln w="0">
            <a:noFill/>
          </a:ln>
        </p:spPr>
      </p:pic>
      <p:sp>
        <p:nvSpPr>
          <p:cNvPr id="176" name="文字方塊 20"/>
          <p:cNvSpPr/>
          <p:nvPr/>
        </p:nvSpPr>
        <p:spPr>
          <a:xfrm>
            <a:off x="395640" y="160344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標楷體"/>
              </a:rPr>
              <a:t>Sub-gradient Method (</a:t>
            </a:r>
            <a:r>
              <a:rPr b="0" lang="nn-NO" sz="2400" spc="-1" strike="noStrike">
                <a:solidFill>
                  <a:srgbClr val="0000cc"/>
                </a:solidFill>
                <a:latin typeface="Calibri"/>
                <a:ea typeface="標楷體"/>
              </a:rPr>
              <a:t>Held &amp; Karp, 1970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字方塊 1"/>
          <p:cNvSpPr/>
          <p:nvPr/>
        </p:nvSpPr>
        <p:spPr>
          <a:xfrm>
            <a:off x="6372360" y="0"/>
            <a:ext cx="2771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thematical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546-E5DD-486F-B693-2FCD5368CC3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lustrativ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rcRect l="0" t="0" r="855" b="7531"/>
          <a:stretch/>
        </p:blipFill>
        <p:spPr>
          <a:xfrm>
            <a:off x="468360" y="134136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181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字方塊 20"/>
          <p:cNvSpPr/>
          <p:nvPr/>
        </p:nvSpPr>
        <p:spPr>
          <a:xfrm>
            <a:off x="5357520" y="630864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Imposing coverag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字方塊 20"/>
          <p:cNvSpPr/>
          <p:nvPr/>
        </p:nvSpPr>
        <p:spPr>
          <a:xfrm>
            <a:off x="1037520" y="630864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enefit maximization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1280" y="1714680"/>
            <a:ext cx="2340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International Airport MR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0" y="1413000"/>
            <a:ext cx="30592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International Airport RWY #1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39640" y="2276640"/>
            <a:ext cx="14749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National Freeway #4 Exten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0" y="290052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National Freeway #6 Ex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32000" y="465300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Highway #9 Phase III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97720" y="3843360"/>
            <a:ext cx="164628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Highway #11 Pacific Coast Highway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392720" y="2876400"/>
            <a:ext cx="133164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National Freeway #6 Ex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4572000" y="1989000"/>
            <a:ext cx="187164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Local Railway MRT Transformation (Section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248000" y="5781600"/>
            <a:ext cx="201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Local Railway MRT Transformation (Section I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4175280" y="3260880"/>
            <a:ext cx="147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West Coast Highway Improv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7848720" y="2889360"/>
            <a:ext cx="131436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Highway #.9 Mountain Section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492360" y="3740040"/>
            <a:ext cx="187020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Calibri"/>
              </a:rPr>
              <a:t>Chiayi City Local Railway Overhead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6938-E5E9-41D1-9F22-9531922EB76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the Illustrativ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rcRect l="6645" t="37012" r="12883" b="19414"/>
          <a:stretch/>
        </p:blipFill>
        <p:spPr>
          <a:xfrm>
            <a:off x="297000" y="2033640"/>
            <a:ext cx="8596080" cy="3375000"/>
          </a:xfrm>
          <a:prstGeom prst="rect">
            <a:avLst/>
          </a:prstGeom>
          <a:ln w="0">
            <a:noFill/>
          </a:ln>
        </p:spPr>
      </p:pic>
      <p:sp>
        <p:nvSpPr>
          <p:cNvPr id="199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7586640" y="2303640"/>
            <a:ext cx="1349280" cy="99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5202360" y="1494000"/>
            <a:ext cx="37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ice for compromis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99DA-6C49-473C-8A60-583BB0E8649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tical Test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rcRect l="13607" t="37277" r="12160" b="13102"/>
          <a:stretch/>
        </p:blipFill>
        <p:spPr>
          <a:xfrm>
            <a:off x="385920" y="1224000"/>
            <a:ext cx="8424720" cy="4005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2"/>
          <a:srcRect l="3319" t="18293" r="75374" b="64732"/>
          <a:stretch/>
        </p:blipFill>
        <p:spPr>
          <a:xfrm>
            <a:off x="746280" y="5319720"/>
            <a:ext cx="2295360" cy="1300320"/>
          </a:xfrm>
          <a:prstGeom prst="rect">
            <a:avLst/>
          </a:prstGeom>
          <a:ln w="0">
            <a:noFill/>
          </a:ln>
        </p:spPr>
      </p:pic>
      <p:sp>
        <p:nvSpPr>
          <p:cNvPr id="206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字方塊 20"/>
          <p:cNvSpPr/>
          <p:nvPr/>
        </p:nvSpPr>
        <p:spPr>
          <a:xfrm>
            <a:off x="2906640" y="5607000"/>
            <a:ext cx="17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標楷體"/>
              </a:rPr>
              <a:t>Significance Level Set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字方塊 20"/>
          <p:cNvSpPr/>
          <p:nvPr/>
        </p:nvSpPr>
        <p:spPr>
          <a:xfrm>
            <a:off x="5786280" y="5634000"/>
            <a:ext cx="175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  <a:ea typeface="標楷體"/>
              </a:rPr>
              <a:t>Project Inter-depen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C31-F210-4443-8B24-4F279964DC3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Hypothetical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字方塊 1"/>
          <p:cNvSpPr/>
          <p:nvPr/>
        </p:nvSpPr>
        <p:spPr>
          <a:xfrm>
            <a:off x="6516720" y="0"/>
            <a:ext cx="2627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umerical Experi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179280" y="1665360"/>
          <a:ext cx="7197840" cy="187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65360"/>
                    <a:ext cx="7197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8"/>
          <p:cNvGraphicFramePr/>
          <p:nvPr/>
        </p:nvGraphicFramePr>
        <p:xfrm>
          <a:off x="324000" y="3789360"/>
          <a:ext cx="8510400" cy="1871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789360"/>
                    <a:ext cx="85104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10"/>
          <p:cNvSpPr/>
          <p:nvPr/>
        </p:nvSpPr>
        <p:spPr>
          <a:xfrm>
            <a:off x="4210200" y="562464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30 test problems of each problem sc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4032360" y="3473280"/>
            <a:ext cx="1349280" cy="2295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3473280"/>
            <a:ext cx="1349280" cy="2295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4AB-7C24-4231-BC2D-19CA1E8D7F3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Background a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EBE-0F32-4AEF-9AC6-120574C5FA5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P model addressing two practical TP features: project interdependency and regional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Two Things You Shouldn't Watch Being Made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ausage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gisla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 (Mark Twa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grangian-relaxed solution algorithm to derive a promising approximate solution and a tight bound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Research Ext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ulti-stage model to address the issue of 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ochastic model for the issue of uncertai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ulti-objective model, given the diversified stakehol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字方塊 3"/>
          <p:cNvSpPr/>
          <p:nvPr/>
        </p:nvSpPr>
        <p:spPr>
          <a:xfrm>
            <a:off x="7596360" y="0"/>
            <a:ext cx="154764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795C-849D-4064-84A9-5F124015883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Figure 2 PNG"/>
          <p:cNvPicPr/>
          <p:nvPr/>
        </p:nvPicPr>
        <p:blipFill>
          <a:blip r:embed="rId1"/>
          <a:stretch/>
        </p:blipFill>
        <p:spPr>
          <a:xfrm>
            <a:off x="1332000" y="1341360"/>
            <a:ext cx="3768480" cy="5335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Programming (T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字方塊 1"/>
          <p:cNvSpPr/>
          <p:nvPr/>
        </p:nvSpPr>
        <p:spPr>
          <a:xfrm>
            <a:off x="7451640" y="0"/>
            <a:ext cx="169236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0" descr="Z:\newtek\_backgrounds_1.02\Tim\_powerpoint templates\infrastructure of transportation\bus.jpg"/>
          <p:cNvPicPr/>
          <p:nvPr/>
        </p:nvPicPr>
        <p:blipFill>
          <a:blip r:embed="rId2"/>
          <a:stretch/>
        </p:blipFill>
        <p:spPr>
          <a:xfrm>
            <a:off x="611280" y="530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Z:\newtek\_backgrounds_1.02\Tim\_powerpoint templates\infrastructure of transportation\cityscape.jpg"/>
          <p:cNvPicPr/>
          <p:nvPr/>
        </p:nvPicPr>
        <p:blipFill>
          <a:blip r:embed="rId3"/>
          <a:stretch/>
        </p:blipFill>
        <p:spPr>
          <a:xfrm>
            <a:off x="5003640" y="1341360"/>
            <a:ext cx="11052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Z:\newtek\_backgrounds_1.02\Tim\_powerpoint templates\infrastructure of transportation\night-traffic.jpg"/>
          <p:cNvPicPr/>
          <p:nvPr/>
        </p:nvPicPr>
        <p:blipFill>
          <a:blip r:embed="rId4"/>
          <a:stretch/>
        </p:blipFill>
        <p:spPr>
          <a:xfrm>
            <a:off x="1116000" y="1413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Z:\newtek\_backgrounds_1.02\Tim\_powerpoint templates\infrastructure of transportation\overpass.jpg"/>
          <p:cNvPicPr/>
          <p:nvPr/>
        </p:nvPicPr>
        <p:blipFill>
          <a:blip r:embed="rId5"/>
          <a:stretch/>
        </p:blipFill>
        <p:spPr>
          <a:xfrm>
            <a:off x="468360" y="2708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Z:\newtek\_backgrounds_1.02\Tim\_powerpoint templates\infrastructure of transportation\train.jpg"/>
          <p:cNvPicPr/>
          <p:nvPr/>
        </p:nvPicPr>
        <p:blipFill>
          <a:blip r:embed="rId6"/>
          <a:stretch/>
        </p:blipFill>
        <p:spPr>
          <a:xfrm>
            <a:off x="4572000" y="2997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8"/>
          <p:cNvSpPr/>
          <p:nvPr/>
        </p:nvSpPr>
        <p:spPr>
          <a:xfrm>
            <a:off x="4356000" y="4437000"/>
            <a:ext cx="38894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iven a fixed budget, how to select the projects to be implem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805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25 transportation projects in Taiwan with a cost larger than 1 billion NTD in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EB3-5ABE-4EA0-AEB9-721A61D126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97000" y="5300640"/>
            <a:ext cx="308592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benefit of project 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apsack Problem (KP)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486px-Knapsack_svg"/>
          <p:cNvPicPr/>
          <p:nvPr/>
        </p:nvPicPr>
        <p:blipFill>
          <a:blip r:embed="rId1"/>
          <a:stretch/>
        </p:blipFill>
        <p:spPr>
          <a:xfrm>
            <a:off x="1692360" y="1808280"/>
            <a:ext cx="4629240" cy="4010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356000" y="1916280"/>
            <a:ext cx="18003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(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24360" y="5805360"/>
            <a:ext cx="273672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cost of project 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2000" y="3257640"/>
            <a:ext cx="2987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ssue I: Project Inter-depend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859280" y="4989600"/>
            <a:ext cx="3889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Issue II: Regional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字方塊 1"/>
          <p:cNvSpPr/>
          <p:nvPr/>
        </p:nvSpPr>
        <p:spPr>
          <a:xfrm>
            <a:off x="7451640" y="0"/>
            <a:ext cx="169236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Political Infl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stri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eiv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most fu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… (Spanish data for the period 1964–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umbent’s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vo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gin is 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vo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eded to win an additional s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al and regional governments are controlled by the sam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ar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ar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y a pivotal role in the legisl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投影片編號版面配置區 3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9753-77B5-4B3F-A263-B684458FE73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7700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Solé-Ollé, A. (2013), Inter-regional redistribution through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investment: tactical or programmatic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Public Choice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156:229–25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086-3E4E-4ECD-82EC-0C7ECD2C397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 Works w/ Dependent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6640" y="3557520"/>
            <a:ext cx="3168720" cy="1800360"/>
            <a:chOff x="836640" y="3557520"/>
            <a:chExt cx="3168720" cy="1800360"/>
          </a:xfrm>
        </p:grpSpPr>
        <p:sp>
          <p:nvSpPr>
            <p:cNvPr id="81" name=""/>
            <p:cNvSpPr/>
            <p:nvPr/>
          </p:nvSpPr>
          <p:spPr>
            <a:xfrm>
              <a:off x="1486080" y="3557520"/>
              <a:ext cx="1798560" cy="1800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6640" y="377352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65720" y="377352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111640" y="3780000"/>
            <a:ext cx="2457720" cy="1458720"/>
            <a:chOff x="5111640" y="3780000"/>
            <a:chExt cx="2457720" cy="1458720"/>
          </a:xfrm>
        </p:grpSpPr>
        <p:sp>
          <p:nvSpPr>
            <p:cNvPr id="85" name=""/>
            <p:cNvSpPr/>
            <p:nvPr/>
          </p:nvSpPr>
          <p:spPr>
            <a:xfrm>
              <a:off x="5111640" y="379728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29360" y="3780000"/>
              <a:ext cx="144000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2360" y="3984840"/>
              <a:ext cx="404640" cy="1079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41280" y="536400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p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536400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ubstitu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99760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cc"/>
                </a:solidFill>
                <a:latin typeface="Calibri"/>
              </a:rPr>
              <a:t>Teng &amp; Tzeng (1996)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A multiobjective programming approach for selecting non-independent transportation investment alternative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TR-B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30: 291-3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37000" y="1569960"/>
            <a:ext cx="3148920" cy="1441440"/>
            <a:chOff x="2637000" y="1569960"/>
            <a:chExt cx="3148920" cy="1441440"/>
          </a:xfrm>
        </p:grpSpPr>
        <p:sp>
          <p:nvSpPr>
            <p:cNvPr id="92" name=""/>
            <p:cNvSpPr/>
            <p:nvPr/>
          </p:nvSpPr>
          <p:spPr>
            <a:xfrm>
              <a:off x="2637000" y="156996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6280" y="1569960"/>
              <a:ext cx="1439640" cy="14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041640" y="3062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6280" y="1628280"/>
            <a:ext cx="82296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the multi-objective context and project-interdependent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verage benefit/c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tio of project port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evance to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network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uthorities’ prefer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signed importance ra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tal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level of conges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social i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# of people who bene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the problem by Genetic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EF0-585B-4442-A68E-F6D69AAB67C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estra and Gutiérrez (200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0" y="315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95008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Li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et al.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 (2012), New Methodology for Transportation Investment Decisions with Consideration of Project Interdependencies, </a:t>
            </a:r>
            <a:r>
              <a:rPr b="0" i="1" lang="en-US" sz="2200" spc="-1" strike="noStrike">
                <a:solidFill>
                  <a:srgbClr val="0000cc"/>
                </a:solidFill>
                <a:latin typeface="Calibri"/>
              </a:rPr>
              <a:t>TRR</a:t>
            </a:r>
            <a:r>
              <a:rPr b="0" lang="en-US" sz="2200" spc="-1" strike="noStrike">
                <a:solidFill>
                  <a:srgbClr val="0000cc"/>
                </a:solidFill>
                <a:latin typeface="Calibri"/>
              </a:rPr>
              <a:t>, 2285:36-4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FC5E-8EAD-4F63-B994-DBD485FF635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project: the overall benefit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(or cos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different from the sum of the individual benefits (or costs) of the basic pro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Inter-depend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橢圓 16"/>
          <p:cNvSpPr/>
          <p:nvPr/>
        </p:nvSpPr>
        <p:spPr>
          <a:xfrm>
            <a:off x="1243080" y="4316400"/>
            <a:ext cx="718920" cy="64764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橢圓 17"/>
          <p:cNvSpPr/>
          <p:nvPr/>
        </p:nvSpPr>
        <p:spPr>
          <a:xfrm>
            <a:off x="2251080" y="431640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橢圓 19"/>
          <p:cNvSpPr/>
          <p:nvPr/>
        </p:nvSpPr>
        <p:spPr>
          <a:xfrm>
            <a:off x="3475080" y="4243320"/>
            <a:ext cx="934920" cy="792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橢圓 20"/>
          <p:cNvSpPr/>
          <p:nvPr/>
        </p:nvSpPr>
        <p:spPr>
          <a:xfrm>
            <a:off x="1243080" y="4316400"/>
            <a:ext cx="718920" cy="64764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橢圓 21"/>
          <p:cNvSpPr/>
          <p:nvPr/>
        </p:nvSpPr>
        <p:spPr>
          <a:xfrm>
            <a:off x="2251080" y="431640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微軟正黑體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5472000" y="4238640"/>
                <a:ext cx="12877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L 0.25208 7.40741E-006 E">
                                      <p:cBhvr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14184 4.07407E-006 E">
                                      <p:cBhvr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DC4E-0306-41D9-9886-9FDE36A0870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exclusive relations (beyond the issue of joint pro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one single initiative, the various versions (e.g., a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one-l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two-l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ansion of a highway sec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ultiple initiatives, the corresponding options (e.g.,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ublic bus term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commuter parking fac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annot be selected simultaneously (e.g., utilizing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the same piece of 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Exclusive Re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字方塊 1"/>
          <p:cNvSpPr/>
          <p:nvPr/>
        </p:nvSpPr>
        <p:spPr>
          <a:xfrm>
            <a:off x="5508720" y="0"/>
            <a:ext cx="3635280" cy="398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terature Review &amp;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54:37Z</dcterms:created>
  <dc:creator>JyhKjj</dc:creator>
  <dc:description/>
  <dc:language>en-US</dc:language>
  <cp:lastModifiedBy>user</cp:lastModifiedBy>
  <cp:lastPrinted>2012-06-20T01:32:44Z</cp:lastPrinted>
  <dcterms:modified xsi:type="dcterms:W3CDTF">2013-07-18T06:21:56Z</dcterms:modified>
  <cp:revision>371</cp:revision>
  <dc:subject/>
  <dc:title>PowerPoint 簡報</dc:title>
</cp:coreProperties>
</file>