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8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10234613" cy="7102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B27-A63B-41D4-852D-56A20DBE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730-654A-4F86-9C3D-58BA629B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D2F-F268-456A-B3AE-6FDE9C95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D91-9B76-4970-834B-036A0A5B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800-3E19-40F1-BFDC-306D63F1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142-0CA0-4FEF-A01E-D6C7904E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7A9-77FC-4E59-81C9-6AE16EF3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803-DCEC-45A5-8133-E479D226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4E0-3300-4F96-8A65-AE1164A2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782-C8A1-4598-99B3-B98E8FD3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3D1-3ECC-4425-AAC0-7B24596C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176-20BD-496C-AE40-AFD1B761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7A8A-F232-489D-9EF6-0B8239DD5C22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0C92-6038-43EC-8082-AEC5EDE23C0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0DF4-0B45-4CD7-A1C1-CBDF5E7382A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5080" y="1052280"/>
            <a:ext cx="7488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A transportation programming model considering project interdependency and regional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11080" y="3269880"/>
            <a:ext cx="752184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20th International Symposium on Transportation and Traffic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ordwijk, the Nether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July 18,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3"/>
          <p:cNvSpPr/>
          <p:nvPr/>
        </p:nvSpPr>
        <p:spPr>
          <a:xfrm>
            <a:off x="684360" y="525924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Calibri"/>
              </a:rPr>
              <a:t>Kuancheng Huang* and Yi-Ming Ku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7"/>
          <p:cNvSpPr/>
          <p:nvPr/>
        </p:nvSpPr>
        <p:spPr>
          <a:xfrm rot="16200000">
            <a:off x="3731400" y="-769320"/>
            <a:ext cx="4572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9"/>
          <p:cNvSpPr/>
          <p:nvPr/>
        </p:nvSpPr>
        <p:spPr>
          <a:xfrm rot="16200000">
            <a:off x="5386320" y="1562040"/>
            <a:ext cx="4464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684360" y="5691240"/>
            <a:ext cx="81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66"/>
                </a:solidFill>
                <a:latin typeface="Calibri"/>
              </a:rPr>
              <a:t>Dept. of Transportation and Logistics Management</a:t>
            </a:r>
            <a:br>
              <a:rPr sz="2200"/>
            </a:br>
            <a:r>
              <a:rPr b="0" lang="de-DE" sz="2200" spc="-1" strike="noStrike">
                <a:solidFill>
                  <a:srgbClr val="000066"/>
                </a:solidFill>
                <a:latin typeface="Calibri"/>
              </a:rPr>
              <a:t>National Chiao Tung University, Taiw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46682" b="4169"/>
          <a:stretch/>
        </p:blipFill>
        <p:spPr>
          <a:xfrm>
            <a:off x="5730840" y="0"/>
            <a:ext cx="34131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982E-FEBA-4DB5-A460-AD791816295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er Programm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字方塊 7"/>
          <p:cNvSpPr/>
          <p:nvPr/>
        </p:nvSpPr>
        <p:spPr>
          <a:xfrm>
            <a:off x="1118520" y="2205000"/>
            <a:ext cx="56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.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2"/>
              <p:cNvSpPr txBox="1"/>
              <p:nvPr/>
            </p:nvSpPr>
            <p:spPr>
              <a:xfrm>
                <a:off x="2239920" y="2259000"/>
                <a:ext cx="15321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9"/>
              <p:cNvSpPr txBox="1"/>
              <p:nvPr/>
            </p:nvSpPr>
            <p:spPr>
              <a:xfrm>
                <a:off x="996840" y="1494000"/>
                <a:ext cx="2405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imize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2" name="文字方塊 1"/>
          <p:cNvSpPr/>
          <p:nvPr/>
        </p:nvSpPr>
        <p:spPr>
          <a:xfrm>
            <a:off x="6372360" y="0"/>
            <a:ext cx="277164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thematical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字方塊 20"/>
          <p:cNvSpPr/>
          <p:nvPr/>
        </p:nvSpPr>
        <p:spPr>
          <a:xfrm>
            <a:off x="3527640" y="1562040"/>
            <a:ext cx="536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標楷體"/>
              </a:rPr>
              <a:t>Minimize negative benefit (Maximize benefi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6"/>
              <p:cNvSpPr txBox="1"/>
              <p:nvPr/>
            </p:nvSpPr>
            <p:spPr>
              <a:xfrm>
                <a:off x="900000" y="4797360"/>
                <a:ext cx="3198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19"/>
          <p:cNvSpPr/>
          <p:nvPr/>
        </p:nvSpPr>
        <p:spPr>
          <a:xfrm>
            <a:off x="0" y="307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8"/>
              <p:cNvSpPr txBox="1"/>
              <p:nvPr/>
            </p:nvSpPr>
            <p:spPr>
              <a:xfrm>
                <a:off x="2268360" y="3213000"/>
                <a:ext cx="30085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　　</m:t>
                        </m:r>
                        <m:r>
                          <m:t xml:space="preserve">∀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7" name="Rectangle 21"/>
          <p:cNvSpPr/>
          <p:nvPr/>
        </p:nvSpPr>
        <p:spPr>
          <a:xfrm>
            <a:off x="0" y="311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2268360" y="4098960"/>
                <a:ext cx="2482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文字方塊 20"/>
          <p:cNvSpPr/>
          <p:nvPr/>
        </p:nvSpPr>
        <p:spPr>
          <a:xfrm>
            <a:off x="3994920" y="2276640"/>
            <a:ext cx="21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標楷體"/>
              </a:rPr>
              <a:t>Budget constra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字方塊 20"/>
          <p:cNvSpPr/>
          <p:nvPr/>
        </p:nvSpPr>
        <p:spPr>
          <a:xfrm>
            <a:off x="5652000" y="2852640"/>
            <a:ext cx="302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標楷體"/>
              </a:rPr>
              <a:t>Exclusive Relations, </a:t>
            </a:r>
            <a:r>
              <a:rPr b="0" i="1" lang="en-US" sz="2200" spc="-1" strike="noStrike">
                <a:solidFill>
                  <a:srgbClr val="0000cc"/>
                </a:solidFill>
                <a:latin typeface="Times New Roman"/>
                <a:ea typeface="標楷體"/>
              </a:rPr>
              <a:t>e.g.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標楷體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字方塊 20"/>
          <p:cNvSpPr/>
          <p:nvPr/>
        </p:nvSpPr>
        <p:spPr>
          <a:xfrm>
            <a:off x="4284720" y="4726080"/>
            <a:ext cx="43927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Regional balance: project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j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 contributes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a</a:t>
            </a:r>
            <a:r>
              <a:rPr b="0" i="1" lang="en-US" sz="2600" spc="-1" strike="noStrike" baseline="-25000">
                <a:solidFill>
                  <a:srgbClr val="ff0000"/>
                </a:solidFill>
                <a:latin typeface="Times New Roman"/>
                <a:ea typeface="標楷體"/>
              </a:rPr>
              <a:t>ij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 to region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i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25"/>
          <p:cNvSpPr/>
          <p:nvPr/>
        </p:nvSpPr>
        <p:spPr>
          <a:xfrm flipV="1">
            <a:off x="4481640" y="5589360"/>
            <a:ext cx="139536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字方塊 20"/>
          <p:cNvSpPr/>
          <p:nvPr/>
        </p:nvSpPr>
        <p:spPr>
          <a:xfrm>
            <a:off x="971640" y="594216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A modification to SCP (Set Covering Prob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36"/>
          <p:cNvSpPr/>
          <p:nvPr/>
        </p:nvSpPr>
        <p:spPr>
          <a:xfrm>
            <a:off x="395280" y="4437000"/>
            <a:ext cx="453960" cy="440640"/>
          </a:xfrm>
          <a:prstGeom prst="rect">
            <a:avLst/>
          </a:prstGeom>
          <a:solidFill>
            <a:srgbClr val="ffcc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λ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軟正黑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37"/>
          <p:cNvSpPr/>
          <p:nvPr/>
        </p:nvSpPr>
        <p:spPr>
          <a:xfrm>
            <a:off x="1763640" y="2060640"/>
            <a:ext cx="453960" cy="398880"/>
          </a:xfrm>
          <a:prstGeom prst="rect">
            <a:avLst/>
          </a:prstGeom>
          <a:solidFill>
            <a:srgbClr val="ffcc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137"/>
          <p:cNvSpPr/>
          <p:nvPr/>
        </p:nvSpPr>
        <p:spPr>
          <a:xfrm>
            <a:off x="179280" y="2997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微軟正黑體"/>
              </a:rPr>
              <a:t>to be relax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30"/>
          <p:cNvSpPr/>
          <p:nvPr/>
        </p:nvSpPr>
        <p:spPr>
          <a:xfrm flipV="1">
            <a:off x="1403280" y="2565360"/>
            <a:ext cx="79236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971640" y="3573360"/>
            <a:ext cx="287280" cy="1150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2"/>
              <p:cNvSpPr txBox="1"/>
              <p:nvPr/>
            </p:nvSpPr>
            <p:spPr>
              <a:xfrm>
                <a:off x="6732720" y="3294000"/>
                <a:ext cx="129852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ce (Relevance)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投影片編號版面配置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94B4-4C13-4462-8904-429946FC775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57360" y="2033640"/>
            <a:ext cx="6464160" cy="4529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06640" y="1644480"/>
            <a:ext cx="409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A 51.03-km MRT line (140 billion NTD) connecting Taipei city center and the major int’l air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6732720" y="4373640"/>
            <a:ext cx="2187360" cy="99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Capital 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Economic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0.2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5967360" y="2349360"/>
            <a:ext cx="2610000" cy="99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Heavily Populated Suburb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0.7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2906640" y="4554360"/>
            <a:ext cx="1979640" cy="129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irport (Aerotropol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1.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3CAB-34F2-4188-953F-868D5B60AE0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grangian Relaxed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2"/>
              <p:cNvSpPr txBox="1"/>
              <p:nvPr/>
            </p:nvSpPr>
            <p:spPr>
              <a:xfrm>
                <a:off x="971640" y="4140360"/>
                <a:ext cx="2511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1015920" y="2259000"/>
                <a:ext cx="51721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,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Λ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πG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971640" y="3139920"/>
                <a:ext cx="30020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　　</m:t>
                        </m:r>
                        <m:r>
                          <m:t xml:space="preserve">∀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2" name="文字方塊 20"/>
          <p:cNvSpPr/>
          <p:nvPr/>
        </p:nvSpPr>
        <p:spPr>
          <a:xfrm>
            <a:off x="4935600" y="2979720"/>
            <a:ext cx="293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alibri"/>
                <a:ea typeface="標楷體"/>
              </a:rPr>
              <a:t>Exclusive Relations, </a:t>
            </a:r>
            <a:r>
              <a:rPr b="0" i="1" lang="en-US" sz="2200" spc="-1" strike="noStrike">
                <a:solidFill>
                  <a:srgbClr val="0000cc"/>
                </a:solidFill>
                <a:latin typeface="Calibri"/>
                <a:ea typeface="標楷體"/>
              </a:rPr>
              <a:t>e.g.</a:t>
            </a:r>
            <a:r>
              <a:rPr b="0" lang="en-US" sz="2200" spc="-1" strike="noStrike">
                <a:solidFill>
                  <a:srgbClr val="0000cc"/>
                </a:solidFill>
                <a:latin typeface="Calibri"/>
                <a:ea typeface="標楷體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5"/>
              <p:cNvSpPr txBox="1"/>
              <p:nvPr/>
            </p:nvSpPr>
            <p:spPr>
              <a:xfrm>
                <a:off x="5832360" y="3429000"/>
                <a:ext cx="1295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文字方塊 20"/>
          <p:cNvSpPr/>
          <p:nvPr/>
        </p:nvSpPr>
        <p:spPr>
          <a:xfrm>
            <a:off x="4859280" y="4948200"/>
            <a:ext cx="42832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標楷體"/>
              </a:rPr>
              <a:t>Constraints similar to those of the classic assignment problem (AP), which holds the Total Uni-modularity proper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21"/>
              <p:cNvSpPr txBox="1"/>
              <p:nvPr/>
            </p:nvSpPr>
            <p:spPr>
              <a:xfrm>
                <a:off x="971640" y="4932360"/>
                <a:ext cx="2436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文字方塊 20"/>
          <p:cNvSpPr/>
          <p:nvPr/>
        </p:nvSpPr>
        <p:spPr>
          <a:xfrm>
            <a:off x="431640" y="5454720"/>
            <a:ext cx="410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標楷體"/>
              </a:rPr>
              <a:t>Linearly relax the LR prob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文字方塊 1"/>
          <p:cNvSpPr/>
          <p:nvPr/>
        </p:nvSpPr>
        <p:spPr>
          <a:xfrm>
            <a:off x="6372360" y="0"/>
            <a:ext cx="277164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thematical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522360" y="4373640"/>
            <a:ext cx="3328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4076640" y="1403280"/>
                <a:ext cx="34848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,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π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3762360" y="1898280"/>
            <a:ext cx="98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93EC-5DB2-4611-9B12-F3A294B18F3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字方塊 1"/>
          <p:cNvSpPr/>
          <p:nvPr/>
        </p:nvSpPr>
        <p:spPr>
          <a:xfrm>
            <a:off x="6804000" y="0"/>
            <a:ext cx="234000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olution Algorith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3402000" y="6084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Calibri"/>
              </a:rPr>
              <a:t>Flowchart of Algorit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4392720" y="3068640"/>
            <a:ext cx="4095720" cy="1574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FE82-0EDD-4F84-9C8C-63E5BD15BB2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sible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17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th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ignificance constraint (5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violated, add the unselected option based on the Lagrangian cos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“ascending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der until Constraint (5) is satisf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th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udget constraint (6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violated, remove the selected options (a) based on the Lagrangian cos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“descending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der and (b) under the condition of satisfying Constraint (5), until the overall budget is under the lim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there is a slack for Constraint (6), further add the option with the most negative Lagrangian cos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until the budget is fully util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For STEP 1 and STEP 3, an option is added only if th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mutually exclusive constraint (7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not viola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字方塊 1"/>
          <p:cNvSpPr/>
          <p:nvPr/>
        </p:nvSpPr>
        <p:spPr>
          <a:xfrm>
            <a:off x="6372360" y="0"/>
            <a:ext cx="277164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thematical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5516640" y="1179360"/>
                <a:ext cx="35845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,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π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Oval 7"/>
          <p:cNvSpPr/>
          <p:nvPr/>
        </p:nvSpPr>
        <p:spPr>
          <a:xfrm>
            <a:off x="4716360" y="1989000"/>
            <a:ext cx="367200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013A-1818-43B7-8EE1-5B213882F53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grangian Multiplier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351640" cy="3600360"/>
          </a:xfrm>
          <a:prstGeom prst="rect">
            <a:avLst/>
          </a:prstGeom>
          <a:ln w="0">
            <a:noFill/>
          </a:ln>
        </p:spPr>
      </p:pic>
      <p:sp>
        <p:nvSpPr>
          <p:cNvPr id="176" name="文字方塊 20"/>
          <p:cNvSpPr/>
          <p:nvPr/>
        </p:nvSpPr>
        <p:spPr>
          <a:xfrm>
            <a:off x="395640" y="160344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alibri"/>
                <a:ea typeface="標楷體"/>
              </a:rPr>
              <a:t>Sub-gradient Method (</a:t>
            </a:r>
            <a:r>
              <a:rPr b="0" lang="nn-NO" sz="2400" spc="-1" strike="noStrike">
                <a:solidFill>
                  <a:srgbClr val="0000cc"/>
                </a:solidFill>
                <a:latin typeface="Calibri"/>
                <a:ea typeface="標楷體"/>
              </a:rPr>
              <a:t>Held &amp; Karp, 1970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文字方塊 1"/>
          <p:cNvSpPr/>
          <p:nvPr/>
        </p:nvSpPr>
        <p:spPr>
          <a:xfrm>
            <a:off x="6372360" y="0"/>
            <a:ext cx="277164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thematical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468F-F1C0-415A-8F64-C4D5F979CC8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llustrativ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rcRect l="0" t="0" r="855" b="7531"/>
          <a:stretch/>
        </p:blipFill>
        <p:spPr>
          <a:xfrm>
            <a:off x="468360" y="1341360"/>
            <a:ext cx="8280360" cy="4969080"/>
          </a:xfrm>
          <a:prstGeom prst="rect">
            <a:avLst/>
          </a:prstGeom>
          <a:ln w="0">
            <a:noFill/>
          </a:ln>
        </p:spPr>
      </p:pic>
      <p:sp>
        <p:nvSpPr>
          <p:cNvPr id="181" name="文字方塊 1"/>
          <p:cNvSpPr/>
          <p:nvPr/>
        </p:nvSpPr>
        <p:spPr>
          <a:xfrm>
            <a:off x="6516720" y="0"/>
            <a:ext cx="2627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umerical Experi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文字方塊 20"/>
          <p:cNvSpPr/>
          <p:nvPr/>
        </p:nvSpPr>
        <p:spPr>
          <a:xfrm>
            <a:off x="5357520" y="6308640"/>
            <a:ext cx="33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Imposing coverage constra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文字方塊 20"/>
          <p:cNvSpPr/>
          <p:nvPr/>
        </p:nvSpPr>
        <p:spPr>
          <a:xfrm>
            <a:off x="1037520" y="6308640"/>
            <a:ext cx="30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Benefit maximization o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71280" y="1714680"/>
            <a:ext cx="2340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International Airport MRT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0" y="1413000"/>
            <a:ext cx="305928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International Airport RWY #1 Improv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539640" y="2276640"/>
            <a:ext cx="147492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National Freeway #4 Exten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0" y="2900520"/>
            <a:ext cx="147636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National Freeway #6 Ext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132000" y="4653000"/>
            <a:ext cx="147636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Highway #9 Phase III Improv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97720" y="3843360"/>
            <a:ext cx="164628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Calibri"/>
              </a:rPr>
              <a:t>Highway #11 Pacific Coast Highway Improv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4392720" y="2876400"/>
            <a:ext cx="133164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Calibri"/>
              </a:rPr>
              <a:t>National Freeway #6 Ext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4572000" y="1989000"/>
            <a:ext cx="187164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Calibri"/>
              </a:rPr>
              <a:t>Local Railway MRT Transformation (Section 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248000" y="5781600"/>
            <a:ext cx="201636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Calibri"/>
              </a:rPr>
              <a:t>Local Railway MRT Transformation (Section I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4175280" y="3260880"/>
            <a:ext cx="147636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Calibri"/>
              </a:rPr>
              <a:t>West Coast Highway Improv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7848720" y="2889360"/>
            <a:ext cx="131436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Calibri"/>
              </a:rPr>
              <a:t>Highway #.9 Mountain Section Improv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3492360" y="3740040"/>
            <a:ext cx="187020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Calibri"/>
              </a:rPr>
              <a:t>Chiayi City Local Railway Overhead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AE1D-C7C8-4F12-B2A3-09D0E06913E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of the Illustrativ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1"/>
          <a:srcRect l="6645" t="37012" r="12883" b="19414"/>
          <a:stretch/>
        </p:blipFill>
        <p:spPr>
          <a:xfrm>
            <a:off x="297000" y="2033640"/>
            <a:ext cx="8596080" cy="3375000"/>
          </a:xfrm>
          <a:prstGeom prst="rect">
            <a:avLst/>
          </a:prstGeom>
          <a:ln w="0">
            <a:noFill/>
          </a:ln>
        </p:spPr>
      </p:pic>
      <p:sp>
        <p:nvSpPr>
          <p:cNvPr id="199" name="文字方塊 1"/>
          <p:cNvSpPr/>
          <p:nvPr/>
        </p:nvSpPr>
        <p:spPr>
          <a:xfrm>
            <a:off x="6516720" y="0"/>
            <a:ext cx="2627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umerical Experi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7586640" y="2303640"/>
            <a:ext cx="1349280" cy="99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5202360" y="1494000"/>
            <a:ext cx="37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ice for compromising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0099-E88B-40FF-A941-74BA7119F5E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othetical Test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rcRect l="13607" t="37277" r="12160" b="13102"/>
          <a:stretch/>
        </p:blipFill>
        <p:spPr>
          <a:xfrm>
            <a:off x="385920" y="1224000"/>
            <a:ext cx="8424720" cy="4005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"/>
          <p:cNvPicPr/>
          <p:nvPr/>
        </p:nvPicPr>
        <p:blipFill>
          <a:blip r:embed="rId2"/>
          <a:srcRect l="3319" t="18293" r="75374" b="64732"/>
          <a:stretch/>
        </p:blipFill>
        <p:spPr>
          <a:xfrm>
            <a:off x="746280" y="5319720"/>
            <a:ext cx="2295360" cy="1300320"/>
          </a:xfrm>
          <a:prstGeom prst="rect">
            <a:avLst/>
          </a:prstGeom>
          <a:ln w="0">
            <a:noFill/>
          </a:ln>
        </p:spPr>
      </p:pic>
      <p:sp>
        <p:nvSpPr>
          <p:cNvPr id="206" name="文字方塊 1"/>
          <p:cNvSpPr/>
          <p:nvPr/>
        </p:nvSpPr>
        <p:spPr>
          <a:xfrm>
            <a:off x="6516720" y="0"/>
            <a:ext cx="2627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umerical Experi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文字方塊 20"/>
          <p:cNvSpPr/>
          <p:nvPr/>
        </p:nvSpPr>
        <p:spPr>
          <a:xfrm>
            <a:off x="2906640" y="5607000"/>
            <a:ext cx="175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alibri"/>
                <a:ea typeface="標楷體"/>
              </a:rPr>
              <a:t>Significance Level Set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字方塊 20"/>
          <p:cNvSpPr/>
          <p:nvPr/>
        </p:nvSpPr>
        <p:spPr>
          <a:xfrm>
            <a:off x="5786280" y="5634000"/>
            <a:ext cx="175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alibri"/>
                <a:ea typeface="標楷體"/>
              </a:rPr>
              <a:t>Project Inter-depend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33C1-447A-48F0-B0F7-BAF14EF4F02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of Hypothetical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字方塊 1"/>
          <p:cNvSpPr/>
          <p:nvPr/>
        </p:nvSpPr>
        <p:spPr>
          <a:xfrm>
            <a:off x="6516720" y="0"/>
            <a:ext cx="2627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umerical Experi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Object 6"/>
          <p:cNvGraphicFramePr/>
          <p:nvPr/>
        </p:nvGraphicFramePr>
        <p:xfrm>
          <a:off x="179280" y="1665360"/>
          <a:ext cx="7197840" cy="18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65360"/>
                    <a:ext cx="7197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9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Object 8"/>
          <p:cNvGraphicFramePr/>
          <p:nvPr/>
        </p:nvGraphicFramePr>
        <p:xfrm>
          <a:off x="324000" y="3789360"/>
          <a:ext cx="8510400" cy="1871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789360"/>
                    <a:ext cx="85104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 Box 10"/>
          <p:cNvSpPr/>
          <p:nvPr/>
        </p:nvSpPr>
        <p:spPr>
          <a:xfrm>
            <a:off x="4210200" y="5624640"/>
            <a:ext cx="48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Calibri"/>
              </a:rPr>
              <a:t>30 test problems of each problem sc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4032360" y="3473280"/>
            <a:ext cx="1349280" cy="2295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6372360" y="3473280"/>
            <a:ext cx="1349280" cy="2295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6807-F979-47AA-902F-FDC8573BF56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ut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 Background and 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 Algorit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15AB-6810-4D98-84E5-3BAE5CE4BC2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P model addressing two practical TP features: project interdependency and regional bal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Two Things You Shouldn't Watch Being Made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ausage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egislation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 (Mark Twa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grangian-relaxed solution algorithm to derive a promising approximate solution and a tight bound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Research Exten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ulti-stage model to address the issue of consis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ochastic model for the issue of uncertai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ulti-objective model, given the diversified stakehold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字方塊 3"/>
          <p:cNvSpPr/>
          <p:nvPr/>
        </p:nvSpPr>
        <p:spPr>
          <a:xfrm>
            <a:off x="7596360" y="0"/>
            <a:ext cx="154764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951D-B99B-431D-894F-E7F0DA5EAB0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Figure 2 PNG"/>
          <p:cNvPicPr/>
          <p:nvPr/>
        </p:nvPicPr>
        <p:blipFill>
          <a:blip r:embed="rId1"/>
          <a:stretch/>
        </p:blipFill>
        <p:spPr>
          <a:xfrm>
            <a:off x="1332000" y="1341360"/>
            <a:ext cx="3768480" cy="5335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Programming (T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字方塊 1"/>
          <p:cNvSpPr/>
          <p:nvPr/>
        </p:nvSpPr>
        <p:spPr>
          <a:xfrm>
            <a:off x="7451640" y="0"/>
            <a:ext cx="169236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0" descr="Z:\newtek\_backgrounds_1.02\Tim\_powerpoint templates\infrastructure of transportation\bus.jpg"/>
          <p:cNvPicPr/>
          <p:nvPr/>
        </p:nvPicPr>
        <p:blipFill>
          <a:blip r:embed="rId2"/>
          <a:stretch/>
        </p:blipFill>
        <p:spPr>
          <a:xfrm>
            <a:off x="611280" y="5300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Z:\newtek\_backgrounds_1.02\Tim\_powerpoint templates\infrastructure of transportation\cityscape.jpg"/>
          <p:cNvPicPr/>
          <p:nvPr/>
        </p:nvPicPr>
        <p:blipFill>
          <a:blip r:embed="rId3"/>
          <a:stretch/>
        </p:blipFill>
        <p:spPr>
          <a:xfrm>
            <a:off x="5003640" y="1341360"/>
            <a:ext cx="110520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Z:\newtek\_backgrounds_1.02\Tim\_powerpoint templates\infrastructure of transportation\night-traffic.jpg"/>
          <p:cNvPicPr/>
          <p:nvPr/>
        </p:nvPicPr>
        <p:blipFill>
          <a:blip r:embed="rId4"/>
          <a:stretch/>
        </p:blipFill>
        <p:spPr>
          <a:xfrm>
            <a:off x="1116000" y="1413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Z:\newtek\_backgrounds_1.02\Tim\_powerpoint templates\infrastructure of transportation\overpass.jpg"/>
          <p:cNvPicPr/>
          <p:nvPr/>
        </p:nvPicPr>
        <p:blipFill>
          <a:blip r:embed="rId5"/>
          <a:stretch/>
        </p:blipFill>
        <p:spPr>
          <a:xfrm>
            <a:off x="468360" y="270828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Z:\newtek\_backgrounds_1.02\Tim\_powerpoint templates\infrastructure of transportation\train.jpg"/>
          <p:cNvPicPr/>
          <p:nvPr/>
        </p:nvPicPr>
        <p:blipFill>
          <a:blip r:embed="rId6"/>
          <a:stretch/>
        </p:blipFill>
        <p:spPr>
          <a:xfrm>
            <a:off x="4572000" y="2997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8"/>
          <p:cNvSpPr/>
          <p:nvPr/>
        </p:nvSpPr>
        <p:spPr>
          <a:xfrm>
            <a:off x="4356000" y="4437000"/>
            <a:ext cx="388944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Given a fixed budget, how to select the projects to be implemen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80536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Calibri"/>
              </a:rPr>
              <a:t>25 transportation projects in Taiwan with a cost larger than 1 billion NTD in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460F-0E4F-4D2C-B3B7-C0AB202A85D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97000" y="5300640"/>
            <a:ext cx="3085920" cy="4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benefit of project j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napsack Problem (KP)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486px-Knapsack_svg"/>
          <p:cNvPicPr/>
          <p:nvPr/>
        </p:nvPicPr>
        <p:blipFill>
          <a:blip r:embed="rId1"/>
          <a:stretch/>
        </p:blipFill>
        <p:spPr>
          <a:xfrm>
            <a:off x="1692360" y="1808280"/>
            <a:ext cx="4629240" cy="4010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4356000" y="1916280"/>
            <a:ext cx="18003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(budg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924360" y="5805360"/>
            <a:ext cx="2736720" cy="4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cost of project j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2000" y="3257640"/>
            <a:ext cx="29876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ssue I: Project Inter-depend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859280" y="4989600"/>
            <a:ext cx="38894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ssue II: Regional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字方塊 1"/>
          <p:cNvSpPr/>
          <p:nvPr/>
        </p:nvSpPr>
        <p:spPr>
          <a:xfrm>
            <a:off x="7451640" y="0"/>
            <a:ext cx="169236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of Political Infl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stri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eiving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most fu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… (Spanish data for the period 1964–200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cumbent’s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vo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rgin is 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w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vot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needed to win an additional se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entral and regional governments are controlled by the same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par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part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lay a pivotal role in the legisla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投影片編號版面配置區 3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CA56-54CF-40DD-B65E-420410901BB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5877000"/>
            <a:ext cx="828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Solé-Ollé, A. (2013), Inter-regional redistribution through infra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investment: tactical or programmatic, </a:t>
            </a:r>
            <a:r>
              <a:rPr b="0" i="1" lang="en-US" sz="2200" spc="-1" strike="noStrike">
                <a:solidFill>
                  <a:srgbClr val="0000cc"/>
                </a:solidFill>
                <a:latin typeface="Calibri"/>
              </a:rPr>
              <a:t>Public Choice</a:t>
            </a: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, 156:229–25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字方塊 1"/>
          <p:cNvSpPr/>
          <p:nvPr/>
        </p:nvSpPr>
        <p:spPr>
          <a:xfrm>
            <a:off x="5508720" y="0"/>
            <a:ext cx="3635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terature Review &amp; 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09D7-6E4E-4BAE-83F3-6ACE46432E5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 Works w/ Dependent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字方塊 1"/>
          <p:cNvSpPr/>
          <p:nvPr/>
        </p:nvSpPr>
        <p:spPr>
          <a:xfrm>
            <a:off x="5508720" y="0"/>
            <a:ext cx="3635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terature Review &amp; 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36640" y="3557520"/>
            <a:ext cx="3168720" cy="1800360"/>
            <a:chOff x="836640" y="3557520"/>
            <a:chExt cx="3168720" cy="1800360"/>
          </a:xfrm>
        </p:grpSpPr>
        <p:sp>
          <p:nvSpPr>
            <p:cNvPr id="81" name=""/>
            <p:cNvSpPr/>
            <p:nvPr/>
          </p:nvSpPr>
          <p:spPr>
            <a:xfrm>
              <a:off x="1486080" y="3557520"/>
              <a:ext cx="1798560" cy="1800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6640" y="3773520"/>
              <a:ext cx="1440000" cy="14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65720" y="3773520"/>
              <a:ext cx="1439640" cy="14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111640" y="3780000"/>
            <a:ext cx="2457720" cy="1458720"/>
            <a:chOff x="5111640" y="3780000"/>
            <a:chExt cx="2457720" cy="1458720"/>
          </a:xfrm>
        </p:grpSpPr>
        <p:sp>
          <p:nvSpPr>
            <p:cNvPr id="85" name=""/>
            <p:cNvSpPr/>
            <p:nvPr/>
          </p:nvSpPr>
          <p:spPr>
            <a:xfrm>
              <a:off x="5111640" y="3797280"/>
              <a:ext cx="1440000" cy="14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29360" y="3780000"/>
              <a:ext cx="1440000" cy="14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02360" y="3984840"/>
              <a:ext cx="404640" cy="1079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241280" y="536400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mplement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536400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ubstitu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997600"/>
            <a:ext cx="88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cc"/>
                </a:solidFill>
                <a:latin typeface="Calibri"/>
              </a:rPr>
              <a:t>Teng &amp; Tzeng (1996)</a:t>
            </a: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, A multiobjective programming approach for selecting non-independent transportation investment alternatives, </a:t>
            </a:r>
            <a:r>
              <a:rPr b="0" i="1" lang="en-US" sz="2200" spc="-1" strike="noStrike">
                <a:solidFill>
                  <a:srgbClr val="0000cc"/>
                </a:solidFill>
                <a:latin typeface="Calibri"/>
              </a:rPr>
              <a:t>TR-B</a:t>
            </a: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, 30: 291-3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637000" y="1569960"/>
            <a:ext cx="3148920" cy="1441440"/>
            <a:chOff x="2637000" y="1569960"/>
            <a:chExt cx="3148920" cy="1441440"/>
          </a:xfrm>
        </p:grpSpPr>
        <p:sp>
          <p:nvSpPr>
            <p:cNvPr id="92" name=""/>
            <p:cNvSpPr/>
            <p:nvPr/>
          </p:nvSpPr>
          <p:spPr>
            <a:xfrm>
              <a:off x="2637000" y="1569960"/>
              <a:ext cx="1439640" cy="14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6280" y="1569960"/>
              <a:ext cx="1439640" cy="14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041640" y="306216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76280" y="1628280"/>
            <a:ext cx="822960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the multi-objective context and project-interdependent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average benefit/co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atio of project portfol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levance to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network conne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authorities’ preferen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ssigned importance ran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otal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level of conges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re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social impa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# of people who bene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 the problem by Genetic Algorit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241B-6B29-42BC-82E5-49E5D3EA0BB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estra and Gutiérrez (200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0" y="315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字方塊 1"/>
          <p:cNvSpPr/>
          <p:nvPr/>
        </p:nvSpPr>
        <p:spPr>
          <a:xfrm>
            <a:off x="5508720" y="0"/>
            <a:ext cx="3635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terature Review &amp; 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950080"/>
            <a:ext cx="88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Li </a:t>
            </a:r>
            <a:r>
              <a:rPr b="0" i="1" lang="en-US" sz="2200" spc="-1" strike="noStrike">
                <a:solidFill>
                  <a:srgbClr val="0000cc"/>
                </a:solidFill>
                <a:latin typeface="Calibri"/>
              </a:rPr>
              <a:t>et al.</a:t>
            </a: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 (2012), New Methodology for Transportation Investment Decisions with Consideration of Project Interdependencies, </a:t>
            </a:r>
            <a:r>
              <a:rPr b="0" i="1" lang="en-US" sz="2200" spc="-1" strike="noStrike">
                <a:solidFill>
                  <a:srgbClr val="0000cc"/>
                </a:solidFill>
                <a:latin typeface="Calibri"/>
              </a:rPr>
              <a:t>TRR</a:t>
            </a: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, 2285:36-4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BAAC-3D8C-40D2-A417-1167CAF6115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c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 project: the overall benefit 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(or cost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different from the sum of the individual benefits (or costs) of the basic proj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Inter-depend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橢圓 16"/>
          <p:cNvSpPr/>
          <p:nvPr/>
        </p:nvSpPr>
        <p:spPr>
          <a:xfrm>
            <a:off x="1243080" y="4316400"/>
            <a:ext cx="718920" cy="647640"/>
          </a:xfrm>
          <a:prstGeom prst="ellips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微軟正黑體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橢圓 17"/>
          <p:cNvSpPr/>
          <p:nvPr/>
        </p:nvSpPr>
        <p:spPr>
          <a:xfrm>
            <a:off x="2251080" y="4316400"/>
            <a:ext cx="71928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微軟正黑體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橢圓 19"/>
          <p:cNvSpPr/>
          <p:nvPr/>
        </p:nvSpPr>
        <p:spPr>
          <a:xfrm>
            <a:off x="3475080" y="4243320"/>
            <a:ext cx="934920" cy="79236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微軟正黑體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橢圓 20"/>
          <p:cNvSpPr/>
          <p:nvPr/>
        </p:nvSpPr>
        <p:spPr>
          <a:xfrm>
            <a:off x="1243080" y="4316400"/>
            <a:ext cx="718920" cy="647640"/>
          </a:xfrm>
          <a:prstGeom prst="ellips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微軟正黑體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橢圓 21"/>
          <p:cNvSpPr/>
          <p:nvPr/>
        </p:nvSpPr>
        <p:spPr>
          <a:xfrm>
            <a:off x="2251080" y="4316400"/>
            <a:ext cx="71928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微軟正黑體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2"/>
              <p:cNvSpPr txBox="1"/>
              <p:nvPr/>
            </p:nvSpPr>
            <p:spPr>
              <a:xfrm>
                <a:off x="5472000" y="4238640"/>
                <a:ext cx="128772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文字方塊 1"/>
          <p:cNvSpPr/>
          <p:nvPr/>
        </p:nvSpPr>
        <p:spPr>
          <a:xfrm>
            <a:off x="5508720" y="0"/>
            <a:ext cx="3635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terature Review &amp; 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6 L 0.25208 7.40741E-006 E">
                                      <p:cBhvr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L 0.14184 4.07407E-006 E">
                                      <p:cBhvr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0E85-E7EB-4BF0-9648-0C97A9B8E4C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trins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 exclusive relations (beyond the issue of joint proj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one single initiative, the various versions (e.g., a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one-l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two-l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pansion of a highway sect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multiple initiatives, the corresponding options (e.g.,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public bus termi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commuter parking fac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annot be selected simultaneously (e.g., utilizing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the same piece of l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Exclusive Rel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字方塊 1"/>
          <p:cNvSpPr/>
          <p:nvPr/>
        </p:nvSpPr>
        <p:spPr>
          <a:xfrm>
            <a:off x="5508720" y="0"/>
            <a:ext cx="3635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terature Review &amp; 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6:54:37Z</dcterms:created>
  <dc:creator>JyhKjj</dc:creator>
  <dc:description/>
  <dc:language>en-US</dc:language>
  <cp:lastModifiedBy>user</cp:lastModifiedBy>
  <cp:lastPrinted>2012-06-20T01:32:44Z</cp:lastPrinted>
  <dcterms:modified xsi:type="dcterms:W3CDTF">2013-07-18T06:21:56Z</dcterms:modified>
  <cp:revision>371</cp:revision>
  <dc:subject/>
  <dc:title>PowerPoint 簡報</dc:title>
</cp:coreProperties>
</file>