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6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7.gif" ContentType="image/gif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dt" idx="1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B5E0-C95F-47F9-A225-9279E1944840}" type="datetime">
              <a:rPr b="0" lang="it-IT" sz="13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ftr" idx="1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 type="sldNum" idx="1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8A3A-21B3-45CD-B4E0-69C5C290E86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flict-free schedule = no positive length cycles and all potential conflicts are solved (alternative arcs are selecte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vi dire che per avere un approccio microscopico proponiamo un modello basato sull’alternative grap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tratta di un modello più dettagliato di quello di Bianco ma cmq basato sul job shop schedu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0CD2-3A02-4129-AE8F-044DC1D38B36}" type="slidenum">
              <a:rPr b="0" lang="it-IT" sz="13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wever, the main objective of real-time routing decisions is typically to </a:t>
            </a:r>
            <a:r>
              <a:rPr b="0" i="1" lang="it-IT" sz="1200" spc="-1" strike="noStrike">
                <a:solidFill>
                  <a:srgbClr val="ff0000"/>
                </a:solidFill>
                <a:latin typeface="Arial"/>
              </a:rPr>
              <a:t>balance the use of alternative runways</a:t>
            </a: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ff0000"/>
                </a:solidFill>
                <a:latin typeface="Arial"/>
              </a:rPr>
              <a:t>and airways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hile that of real-time scheduling is the </a:t>
            </a:r>
            <a:r>
              <a:rPr b="0" i="1" lang="it-IT" sz="1200" spc="-1" strike="noStrike">
                <a:solidFill>
                  <a:srgbClr val="ff0000"/>
                </a:solidFill>
                <a:latin typeface="Arial"/>
              </a:rPr>
              <a:t>delay minimiza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05ED-48C5-4086-AE66-458AC5E5BCB9}" type="slidenum">
              <a:rPr b="0" lang="it-IT" sz="13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on so se mettere la observation. Sono indeciso perché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un lato spiega come rendiamo il modello dina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ll’altro non è poi messa negli esperimenti (per motivi di tempo mi pare abbiamo deciso di escluderlo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B0EF-B858-4677-A9E7-6FD2B8B40FBF}" type="slidenum">
              <a:rPr b="0" lang="it-IT" sz="13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pproccio mi permette di: 1) scomporre il problema in sottoproblemi (multi stage appro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) tener conto di nuove informazioni/misure del tempo stimato di ingresso nella T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A7DD-8445-4D9A-8E85-74EA077A5712}" type="slidenum">
              <a:rPr b="0" lang="it-IT" sz="13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0C00-C1F3-48AA-87B8-CCE0DE82C4D8}" type="slidenum">
              <a:rPr b="0" lang="it-IT" sz="13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ttaggio sperimentale + proprietà delle implicazioni statiche e dinam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dicating Standard Itinerary (IFR) = num passe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FT: Short-Term Forecast (September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ween towers, usa economy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22C6-6C67-4F0A-956A-EA0747B3B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834B-18F2-49C9-AF50-1BE8B9DECA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09B3-34D8-49D9-9CBE-7BAB3B04F43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78B2-9946-4E12-B64F-AC3996D0312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59FB-34DE-4B0A-A5A3-CA800ABE72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C6A0-E570-4DB5-AC60-97863FB42DB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0EF4-F627-4AF9-9E7E-AADD5F15A4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9DC4-6A5D-45CF-B485-DF7533E272E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B2D5-7B0C-48CE-977B-3BB8664EF5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18EB-88D0-473C-91A4-E8287E28C10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3D11-D6B1-45B0-8A4A-264A786AA7A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7FB94-5991-4910-9EE1-DB2CD9C63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6EE7-6B62-410C-BD2C-087CB7371D2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E07C7-602B-481C-94F4-8F5A4D5253D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5B591-4ACF-4581-943A-3775D2EFF84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CD3C51-FF71-4282-A9DB-35516AA35ED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A7C6D-C803-4E5F-881B-2143EBBCEB0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88019-DC92-4E84-BBAA-3BBC1254FD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AB3B6F-C50B-4B79-AA5A-C3AB1CD546C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B1DD17-E9D2-4988-9365-0328C83DA83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F23555-D084-4977-BC8B-E28F03400A0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F9975A-40C1-4BFC-BC0A-31A222B7831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D89FC-3A67-47CB-B8BF-0A5E7293A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BB2D-15A7-4A46-B8F3-FA70CAD8163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61A0A5-6562-4781-8C11-42F0F411024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15F6C-7C0C-44C0-B5DB-E5D38E436D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56E0A-4A89-4A8F-8974-6E72B349853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A3A75-87AC-4558-B286-26A25F15F53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4EF24-40BA-4E49-8DC4-D8C68FB8540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D4293-95F1-4E6F-93FE-F94BB70E863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21DDB-1C67-4F48-9900-3C0EB24B1C1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F2AC6-408A-49DC-BD76-6EF5774E771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E0AB8-B107-4A12-9D52-4FC5D641A43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C8773-F186-47F3-A659-FE42E3443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F51E-B5FF-4846-9610-78DB16F4386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04D88-42C7-4D37-838E-1EB7036225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9A541-E650-4923-A87F-83A9DAA7A3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F20BF-E980-4A24-98A8-19DD3D5BDC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A0F4-37D4-440D-9610-962DAF9634C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4E46-0529-4003-9B9C-D36258671B4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B124-5FCA-48AC-809F-449CD351F7B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D31D7-D15C-40A9-98F3-73D4070AED5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3EC6-09DA-4289-9C7B-FD0924958FC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3325-3E51-4E41-9808-2645134C40C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4C044-734D-4D0A-AE69-307673CA6C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529A-9ED4-4CED-A89C-A59C3CC2A29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91FA-C34E-49FC-8F06-3EF282DC1B5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39A3-E9E8-4FF7-87B8-8CE9D3F37CD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0ADB-18DE-47D8-98EA-CEE3D58CBA3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93AE8-0610-49E6-9E6B-6B9BE6826B2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74AC-1084-4AD9-B28C-6890CCDA195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57AEB4-A3C7-4AAD-968B-028C4152FED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CBEF40-03C9-41C3-ADDB-7D38DA2963D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8FC0FD-E6AA-406A-BC3B-13BD8D06946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30DF1-E966-4559-B00F-9A081B61943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6F605-82E7-4864-9370-BE477E2CA2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146D-ED54-4251-9B5E-BDE7AC489A2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99E30-53CB-400C-961C-FC7EA128A06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3DD9F-738A-4F12-8FC9-3A2BBA9C81D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9296B-394D-482E-8A4A-CE647AD77DF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5D865-B08D-4E9F-96EE-EDC425235A2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B35C6-3CA5-40F0-BD64-F3E2C856E7A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3C109-467D-42C7-B224-0D9A1CE153E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4A4CB-917B-41D9-876A-C33C8601132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49D27-A75B-419C-9C46-E86771AA78D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7B27D-0CA4-4F69-928C-DFFA252E9EF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1FBF5-7383-4367-8DC6-29E0DBB263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B042-789D-4824-A95D-E99F7363937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C839A-408D-4651-9531-DE314FEA7EB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F7615-B84B-4BFB-8046-C297B3453B3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E7B26-3C7C-4305-AD0A-A0EBF84DA9B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15ADA-5008-4BD1-AA71-A999C5C21D8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91480-BCF6-4FA9-BAF9-283E7B559F4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DDA4E-F881-423A-AFBA-ED78F6F04C1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09A9B-2B6A-4DDC-9C8B-AB724308CE8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30AE15-0D43-49F8-87B8-D34C6AACCD0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EDEE6-D9BF-411C-92F4-D4096BDB78C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A1091-1626-440E-9DC6-A8E4D7D246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6393-8676-4A49-AA08-FF30DC9C2A4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5A1A-56EF-4C3C-B337-CC5211C0B89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79439-161E-4EE2-8572-F76BB0C839C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0577-68B9-4D84-BC8E-36013F8DF06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2C298-FE97-426D-B17C-49DE9936AE8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5AF60-5C70-462D-A565-6111E7AED00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BFA7D-88BA-4B8E-BF54-FF0FDC5D0A8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402A-E0C4-4000-BD65-33FBBE70743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FEC9-E4D9-45E8-9879-C8AD4DA0474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44CD5-B098-4CB0-AF06-83B4A559C29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DBB83-BF9B-4857-8731-F60A74ED07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F847-F48F-4B9C-9B21-84C916C274E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1D21-7699-4321-8C4A-43627CF9E80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8A345-88EE-4254-9470-C6B4DFC674B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280920-8414-47B7-B69F-A91A716FDA6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8A2C7E-F8CA-4905-8610-B92A8CD0FEA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36BA9E-6B9F-4CDC-9FA4-A1F6E6EE29F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B07FEA-8D42-45FB-BC23-8408E31D458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668FDC-ED55-4A51-94D5-85C2BEE362A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F89AD6-5DBA-4788-A795-2B8F06E7138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6D83EC-053F-4D1B-B366-8CC033ABFAE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5501D9-C245-4333-836E-1D69A093D8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C004-B5ED-4F79-A0B3-8E471E1F11C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2D50A1-4843-437D-8778-73718E9B6B3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EE31C2-0455-41C0-8E2B-01DCC7C42B8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0531CA-9B24-4828-9918-05D4FC6C3ED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C5E57-B796-4423-A766-9A0512BBA39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24BAD-C496-4B36-BE61-0421FF77BAF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F57FC-FF9D-4236-A103-9255C400C20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622D9-417C-4257-8BC4-C2A801DEB6B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26097-E69B-4288-96E5-D6C142926EA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D0DB9-DAFE-438F-ADAF-FF5D43F2564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D5A61-9CFB-4F1E-A6A0-2661D8D54B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B1FD-14CC-46ED-867C-2C8A5B952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C37FD-6C53-4336-866F-C573A4C689D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0B5A7-F7C9-4A77-AF6B-0159FA6AAA8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59380-2AEC-457B-9764-85A85E14B65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98C18-4CD9-4A87-A221-C48E1475B3C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8369A-5BA5-4BB0-BE90-D0E39E99E8F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10004-7036-4817-9079-C69105C827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EC16-131F-48BD-A8E0-B60F7623C9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8642-B39D-4810-BBE8-70489E0618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5E04-992E-434C-A5C6-128A586BD8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6435-F319-419F-A2F3-43A745B730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AFD-8F9C-4C42-B485-F39AE2B219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9E2-DFA2-46D1-B399-FCC95E2CB5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2C8-0B8C-4542-88AD-5297515A1B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DA1-9B7E-4B1C-89C6-10CFC5F95F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322-0F52-477F-B8EA-1E3988CD44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52FC-C058-4B1E-A89C-392C746245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CC3-42CF-4C5C-8653-5365C1FED2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EF8-C0DB-49F9-9E06-05F51FD335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7B1-56EC-4482-A4B7-8552262D3E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B6E-0FCC-4EB8-815E-7727E93551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0BD-9635-4A5E-878E-497672D327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68C-184D-4B1B-8D80-0BA850EA8B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DFA-D54F-4657-BAED-07C23B6BBC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025F-8E29-4695-8395-9396CDA2A8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D25C-88E6-4AA4-804F-772AA284DA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4FB1-CCB6-4269-A258-F21FAD3F78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6BE5-A58B-4973-8D9F-D29342C8F4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C7B53-E8CC-4E39-AAC6-00A7E7746A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1CB3E-E28F-4757-8A49-58AE62552A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CAAE4-4BE4-40A2-B788-AB794A57EB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77C6A-19D0-4C76-ACA3-6CC42999BAE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76864-1074-40AF-B631-DA8F6E96FFD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697C4-ABF3-40B4-BCD5-013EB81B82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13932-751D-4116-85DB-51FDCB98A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87A6-E376-4CD7-B5CB-C26E4CA6C9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C2A18-575B-4499-AEC2-79F4764232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D773E-7BBA-49E0-8E1B-79D357A74C3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8BF83-3E4C-40D0-96E3-DB78C70FC0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913BA-D369-4A0C-9383-74684BD065C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80CDA-D0FF-493A-A8DF-7E3B43C6BF5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541CE-F8EB-40F6-912C-1A5B43D7D5A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F6A16-C169-46D9-BB44-9DAF7969588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7F226-CEEF-4397-B746-8CB690211BB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EDAA9-39EE-4C20-B1B9-B9778D50591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5DB05-85AE-497B-952F-DCD730466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23BA-E1A4-4014-B47D-21628CEAE25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BF8C7-C997-4009-81D6-1B8EF34495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8CE72-7E56-4CFC-82ED-C18F77A89E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675A0-A525-4AB3-A31D-6C8B04E59DC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9DD89-C5ED-44F3-BC23-5A410ECBA0F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11C30-7832-40B1-97D7-53842DA1278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BBCFC-8ED0-49BF-BC05-B6A605CDC90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52DDD-454C-4029-B8C0-85835F7E92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29A5-F639-4690-BA8B-9B3D6E3945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5099-CA83-4800-9F0F-5CC6A9A294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64D5-FB6D-4EAB-BE43-D3F995D0F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F049-F72A-442B-B7B2-4BB657D9B129}" type="slidenum">
              <a:rPr b="0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7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5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6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387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Num" idx="7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D2F8-0F4D-4CDB-A792-0AADB3A005DB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9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0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431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Num" idx="8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80C1-B710-4F1C-A98B-B4FE8EC4A925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73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74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475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Num" idx="9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D5EE-7080-4370-9CE3-3FF8D818000D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17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18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519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Num" idx="10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ADE9-962C-4DAE-A393-D18EDA796E51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563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Num" idx="11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992D-74FA-4E0F-AAE5-D5D3C8E04BC3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05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06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607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Num" idx="12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5C43-F599-4F30-B316-6FC2467B7F74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49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50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651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Num" idx="13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3C6B-A740-4321-833E-1D030FA0007E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93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94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695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Num" idx="14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8BF4-DA49-45DC-9F97-67653B3B4252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2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E0E8-8B68-4DED-9618-0835E97BB334}" type="slidenum">
              <a:rPr b="0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4800600" y="1144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Ingegneria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Num" idx="3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7772-8240-4CFC-898A-5417859EE134}" type="slidenum">
              <a:rPr b="0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48" descr="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97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49" descr=""/>
          <p:cNvPicPr/>
          <p:nvPr/>
        </p:nvPicPr>
        <p:blipFill>
          <a:blip r:embed="rId3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50"/>
          <p:cNvSpPr/>
          <p:nvPr/>
        </p:nvSpPr>
        <p:spPr>
          <a:xfrm>
            <a:off x="0" y="6486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Ingegneria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973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0" y="648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Informatica e Automazione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48" descr="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97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49" descr=""/>
          <p:cNvPicPr/>
          <p:nvPr/>
        </p:nvPicPr>
        <p:blipFill>
          <a:blip r:embed="rId3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050"/>
          <p:cNvSpPr/>
          <p:nvPr/>
        </p:nvSpPr>
        <p:spPr>
          <a:xfrm>
            <a:off x="0" y="6486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Informatica e Automazione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255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Num" idx="4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D3C4-405E-448F-A066-2C75786925AB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7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8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299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Num" idx="5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7BF8-9085-4B71-A304-6C08AE886B7C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1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2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343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Num" idx="6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D3EF-7E6A-4E53-A8D1-B3CE9300CC1B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37418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10"/>
          <p:cNvSpPr/>
          <p:nvPr/>
        </p:nvSpPr>
        <p:spPr>
          <a:xfrm>
            <a:off x="25560" y="984240"/>
            <a:ext cx="910908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Rolling Horizon Approach For Aircraft Scheduling In The Terminal Control Area Of Busy </a:t>
            </a:r>
            <a:r>
              <a:rPr b="1" lang="it-IT" sz="3200" spc="-1" strike="noStrike">
                <a:solidFill>
                  <a:srgbClr val="c00000"/>
                </a:solidFill>
                <a:latin typeface="Times New Roman"/>
              </a:rPr>
              <a:t>Airports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Andrea D’Ariano, ROMA TRE University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44" name="Segnaposto numero diapositiva 2"/>
          <p:cNvSpPr/>
          <p:nvPr/>
        </p:nvSpPr>
        <p:spPr>
          <a:xfrm>
            <a:off x="8078760" y="6576840"/>
            <a:ext cx="10652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B403-4D81-4327-9CA4-245AF23B4C6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45" name="Segnaposto data 1"/>
          <p:cNvSpPr/>
          <p:nvPr/>
        </p:nvSpPr>
        <p:spPr>
          <a:xfrm>
            <a:off x="109440" y="652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ISTTT, </a:t>
            </a:r>
            <a:fld id="{F1B6D20C-FF99-4F5B-A9B3-6F1C1CBAC6E9}" type="datetime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2"/>
          <p:cNvSpPr/>
          <p:nvPr/>
        </p:nvSpPr>
        <p:spPr>
          <a:xfrm>
            <a:off x="331920" y="1407960"/>
            <a:ext cx="778176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120600" y="3781440"/>
            <a:ext cx="893304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quality of a schedule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is measured in terms of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maximum delay minimizatio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(limiting the delay caused by potential conflicts)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Fixed constraint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model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feasible timing for each aircraft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on its specific route, plus constraints on each resource of its route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Alternative constraint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represent the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aircraft ordering decision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t air segments and runways, plus decisions on holding circle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feasible schedul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is an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event graph with no positive length cycle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812" name="Picture 10" descr=""/>
          <p:cNvPicPr/>
          <p:nvPr/>
        </p:nvPicPr>
        <p:blipFill>
          <a:blip r:embed="rId1"/>
          <a:stretch/>
        </p:blipFill>
        <p:spPr>
          <a:xfrm>
            <a:off x="444600" y="1224000"/>
            <a:ext cx="8286480" cy="2529000"/>
          </a:xfrm>
          <a:prstGeom prst="rect">
            <a:avLst/>
          </a:prstGeom>
          <a:ln w="0">
            <a:noFill/>
          </a:ln>
        </p:spPr>
      </p:pic>
      <p:sp>
        <p:nvSpPr>
          <p:cNvPr id="813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AC92-A338-425E-A0B4-4F36AFEC0E6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814" name="Picture 10" descr=""/>
          <p:cNvPicPr/>
          <p:nvPr/>
        </p:nvPicPr>
        <p:blipFill>
          <a:blip r:embed="rId2"/>
          <a:stretch/>
        </p:blipFill>
        <p:spPr>
          <a:xfrm>
            <a:off x="6540480" y="679320"/>
            <a:ext cx="2552760" cy="161460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4"/>
          <p:cNvSpPr/>
          <p:nvPr/>
        </p:nvSpPr>
        <p:spPr>
          <a:xfrm>
            <a:off x="38160" y="663480"/>
            <a:ext cx="9093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Alternative Graph (AG) Model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16" name="Rettangolo 18"/>
          <p:cNvSpPr/>
          <p:nvPr/>
        </p:nvSpPr>
        <p:spPr>
          <a:xfrm>
            <a:off x="3790800" y="13111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Times New Roman"/>
              </a:rPr>
              <a:t>Mascis &amp; Pacciarelli 2002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olo 26"/>
          <p:cNvSpPr/>
          <p:nvPr/>
        </p:nvSpPr>
        <p:spPr>
          <a:xfrm>
            <a:off x="324000" y="84456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818" name="Gruppo 1"/>
          <p:cNvGrpSpPr/>
          <p:nvPr/>
        </p:nvGrpSpPr>
        <p:grpSpPr>
          <a:xfrm>
            <a:off x="611640" y="3164040"/>
            <a:ext cx="7921080" cy="1223640"/>
            <a:chOff x="611640" y="3164040"/>
            <a:chExt cx="7921080" cy="1223640"/>
          </a:xfrm>
        </p:grpSpPr>
        <p:sp>
          <p:nvSpPr>
            <p:cNvPr id="819" name="Ovale 138"/>
            <p:cNvSpPr/>
            <p:nvPr/>
          </p:nvSpPr>
          <p:spPr>
            <a:xfrm>
              <a:off x="1187280" y="3164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20" name="Ovale 145"/>
            <p:cNvSpPr/>
            <p:nvPr/>
          </p:nvSpPr>
          <p:spPr>
            <a:xfrm>
              <a:off x="684360" y="39416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21" name="Ovale 146"/>
            <p:cNvSpPr/>
            <p:nvPr/>
          </p:nvSpPr>
          <p:spPr>
            <a:xfrm>
              <a:off x="8101080" y="3956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822" name="Connettore 2 176"/>
            <p:cNvCxnSpPr>
              <a:stCxn id="820" idx="0"/>
              <a:endCxn id="819" idx="2"/>
            </p:cNvCxnSpPr>
            <p:nvPr/>
          </p:nvCxnSpPr>
          <p:spPr>
            <a:xfrm flipV="1">
              <a:off x="900000" y="3378960"/>
              <a:ext cx="288000" cy="562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823" name="CasellaDiTesto 150"/>
            <p:cNvSpPr/>
            <p:nvPr/>
          </p:nvSpPr>
          <p:spPr>
            <a:xfrm>
              <a:off x="696240" y="345132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24" name="Ovale 196"/>
            <p:cNvSpPr/>
            <p:nvPr/>
          </p:nvSpPr>
          <p:spPr>
            <a:xfrm rot="18117600">
              <a:off x="670680" y="3456360"/>
              <a:ext cx="658800" cy="504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825" name="Rectangle 13"/>
          <p:cNvSpPr/>
          <p:nvPr/>
        </p:nvSpPr>
        <p:spPr>
          <a:xfrm>
            <a:off x="393120" y="5013360"/>
            <a:ext cx="44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Release dat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α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α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 expected entry time of aircraft A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6" name="Rectangle 3519"/>
          <p:cNvSpPr/>
          <p:nvPr/>
        </p:nvSpPr>
        <p:spPr>
          <a:xfrm>
            <a:off x="5200560" y="72720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7" name="Rectangle 3516"/>
          <p:cNvSpPr/>
          <p:nvPr/>
        </p:nvSpPr>
        <p:spPr>
          <a:xfrm>
            <a:off x="6588720" y="80496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8" name="Rectangle 3517"/>
          <p:cNvSpPr/>
          <p:nvPr/>
        </p:nvSpPr>
        <p:spPr>
          <a:xfrm>
            <a:off x="7521840" y="9223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9" name="Rectangle 3518"/>
          <p:cNvSpPr/>
          <p:nvPr/>
        </p:nvSpPr>
        <p:spPr>
          <a:xfrm>
            <a:off x="3482640" y="8557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0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1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2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3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4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5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6" name="Rectangle 3545"/>
          <p:cNvSpPr/>
          <p:nvPr/>
        </p:nvSpPr>
        <p:spPr>
          <a:xfrm>
            <a:off x="7664400" y="2455920"/>
            <a:ext cx="3747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837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838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39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40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841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842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43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44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845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846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47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48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849" name="Line 3572"/>
          <p:cNvSpPr/>
          <p:nvPr/>
        </p:nvSpPr>
        <p:spPr>
          <a:xfrm>
            <a:off x="8039160" y="2519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0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1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2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3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4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5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6" name="AutoShape 3525"/>
          <p:cNvSpPr/>
          <p:nvPr/>
        </p:nvSpPr>
        <p:spPr>
          <a:xfrm>
            <a:off x="5897520" y="25113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7" name="AutoShape 3525"/>
          <p:cNvSpPr/>
          <p:nvPr/>
        </p:nvSpPr>
        <p:spPr>
          <a:xfrm>
            <a:off x="5897520" y="13161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8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9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0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1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2" name="Line 3572"/>
          <p:cNvSpPr/>
          <p:nvPr/>
        </p:nvSpPr>
        <p:spPr>
          <a:xfrm>
            <a:off x="8039160" y="16066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3" name="AutoShape 3527"/>
          <p:cNvSpPr/>
          <p:nvPr/>
        </p:nvSpPr>
        <p:spPr>
          <a:xfrm rot="4098000">
            <a:off x="4105080" y="1477800"/>
            <a:ext cx="706680" cy="503280"/>
          </a:xfrm>
          <a:prstGeom prst="parallelogram">
            <a:avLst>
              <a:gd name="adj" fmla="val 1116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4" name="AutoShape 3527"/>
          <p:cNvSpPr/>
          <p:nvPr/>
        </p:nvSpPr>
        <p:spPr>
          <a:xfrm rot="4098000">
            <a:off x="4095000" y="2080080"/>
            <a:ext cx="728640" cy="511200"/>
          </a:xfrm>
          <a:prstGeom prst="parallelogram">
            <a:avLst>
              <a:gd name="adj" fmla="val 1109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5" name="CasellaDiTesto 229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6" name="CasellaDiTesto 230"/>
          <p:cNvSpPr/>
          <p:nvPr/>
        </p:nvSpPr>
        <p:spPr>
          <a:xfrm>
            <a:off x="4376160" y="16207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7" name="CasellaDiTesto 231"/>
          <p:cNvSpPr/>
          <p:nvPr/>
        </p:nvSpPr>
        <p:spPr>
          <a:xfrm>
            <a:off x="617904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8" name="CasellaDiTesto 232"/>
          <p:cNvSpPr/>
          <p:nvPr/>
        </p:nvSpPr>
        <p:spPr>
          <a:xfrm>
            <a:off x="6090120" y="232416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9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0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1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2" name="Rectangle 169"/>
          <p:cNvSpPr/>
          <p:nvPr/>
        </p:nvSpPr>
        <p:spPr>
          <a:xfrm>
            <a:off x="3421440" y="1052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3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A8FD-01FA-448B-8741-DA3855D9E71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itolo 26"/>
          <p:cNvSpPr/>
          <p:nvPr/>
        </p:nvSpPr>
        <p:spPr>
          <a:xfrm>
            <a:off x="250920" y="7048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5" name="Rectangle 13"/>
          <p:cNvSpPr/>
          <p:nvPr/>
        </p:nvSpPr>
        <p:spPr>
          <a:xfrm>
            <a:off x="402480" y="5084640"/>
            <a:ext cx="20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ntry due date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= - α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6" name="Rectangle 3519"/>
          <p:cNvSpPr/>
          <p:nvPr/>
        </p:nvSpPr>
        <p:spPr>
          <a:xfrm>
            <a:off x="527688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7" name="Rectangle 3516"/>
          <p:cNvSpPr/>
          <p:nvPr/>
        </p:nvSpPr>
        <p:spPr>
          <a:xfrm>
            <a:off x="6614280" y="87012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8" name="Rectangle 3517"/>
          <p:cNvSpPr/>
          <p:nvPr/>
        </p:nvSpPr>
        <p:spPr>
          <a:xfrm>
            <a:off x="75981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9" name="Rectangle 3518"/>
          <p:cNvSpPr/>
          <p:nvPr/>
        </p:nvSpPr>
        <p:spPr>
          <a:xfrm>
            <a:off x="3468600" y="826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0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1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2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3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4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5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6" name="Rectangle 3545"/>
          <p:cNvSpPr/>
          <p:nvPr/>
        </p:nvSpPr>
        <p:spPr>
          <a:xfrm>
            <a:off x="7664400" y="2455920"/>
            <a:ext cx="3747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887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888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89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90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891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892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93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94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895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896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97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98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899" name="Line 3572"/>
          <p:cNvSpPr/>
          <p:nvPr/>
        </p:nvSpPr>
        <p:spPr>
          <a:xfrm>
            <a:off x="8039160" y="2519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0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1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2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3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4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5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6" name="AutoShape 3525"/>
          <p:cNvSpPr/>
          <p:nvPr/>
        </p:nvSpPr>
        <p:spPr>
          <a:xfrm>
            <a:off x="5897520" y="25113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7" name="AutoShape 3525"/>
          <p:cNvSpPr/>
          <p:nvPr/>
        </p:nvSpPr>
        <p:spPr>
          <a:xfrm>
            <a:off x="5897520" y="13161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8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9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0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1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2" name="Line 3572"/>
          <p:cNvSpPr/>
          <p:nvPr/>
        </p:nvSpPr>
        <p:spPr>
          <a:xfrm>
            <a:off x="8039160" y="16066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3" name="AutoShape 3527"/>
          <p:cNvSpPr/>
          <p:nvPr/>
        </p:nvSpPr>
        <p:spPr>
          <a:xfrm rot="4098000">
            <a:off x="4105080" y="1477800"/>
            <a:ext cx="706680" cy="503280"/>
          </a:xfrm>
          <a:prstGeom prst="parallelogram">
            <a:avLst>
              <a:gd name="adj" fmla="val 1116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4" name="AutoShape 3527"/>
          <p:cNvSpPr/>
          <p:nvPr/>
        </p:nvSpPr>
        <p:spPr>
          <a:xfrm rot="4098000">
            <a:off x="4095360" y="2080800"/>
            <a:ext cx="727200" cy="511200"/>
          </a:xfrm>
          <a:prstGeom prst="parallelogram">
            <a:avLst>
              <a:gd name="adj" fmla="val 110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5" name="CasellaDiTesto 229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6" name="CasellaDiTesto 230"/>
          <p:cNvSpPr/>
          <p:nvPr/>
        </p:nvSpPr>
        <p:spPr>
          <a:xfrm>
            <a:off x="4376160" y="16225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7" name="CasellaDiTesto 231"/>
          <p:cNvSpPr/>
          <p:nvPr/>
        </p:nvSpPr>
        <p:spPr>
          <a:xfrm>
            <a:off x="617904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8" name="CasellaDiTesto 232"/>
          <p:cNvSpPr/>
          <p:nvPr/>
        </p:nvSpPr>
        <p:spPr>
          <a:xfrm>
            <a:off x="6115680" y="229860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9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20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21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22" name="Rectangle 169"/>
          <p:cNvSpPr/>
          <p:nvPr/>
        </p:nvSpPr>
        <p:spPr>
          <a:xfrm>
            <a:off x="3421440" y="105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923" name="Gruppo 3"/>
          <p:cNvGrpSpPr/>
          <p:nvPr/>
        </p:nvGrpSpPr>
        <p:grpSpPr>
          <a:xfrm>
            <a:off x="684360" y="3164040"/>
            <a:ext cx="7848360" cy="1223640"/>
            <a:chOff x="684360" y="3164040"/>
            <a:chExt cx="7848360" cy="1223640"/>
          </a:xfrm>
        </p:grpSpPr>
        <p:sp>
          <p:nvSpPr>
            <p:cNvPr id="924" name="Ovale 138"/>
            <p:cNvSpPr/>
            <p:nvPr/>
          </p:nvSpPr>
          <p:spPr>
            <a:xfrm>
              <a:off x="1187280" y="3164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25" name="Ovale 145"/>
            <p:cNvSpPr/>
            <p:nvPr/>
          </p:nvSpPr>
          <p:spPr>
            <a:xfrm>
              <a:off x="684360" y="39416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26" name="Ovale 146"/>
            <p:cNvSpPr/>
            <p:nvPr/>
          </p:nvSpPr>
          <p:spPr>
            <a:xfrm>
              <a:off x="8101080" y="3956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927" name="Connettore 2 176"/>
            <p:cNvCxnSpPr>
              <a:stCxn id="925" idx="0"/>
              <a:endCxn id="924" idx="2"/>
            </p:cNvCxnSpPr>
            <p:nvPr/>
          </p:nvCxnSpPr>
          <p:spPr>
            <a:xfrm flipV="1">
              <a:off x="900000" y="3378960"/>
              <a:ext cx="288000" cy="562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928" name="CasellaDiTesto 150"/>
            <p:cNvSpPr/>
            <p:nvPr/>
          </p:nvSpPr>
          <p:spPr>
            <a:xfrm>
              <a:off x="691560" y="345132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929" name="Connettore 2 2"/>
            <p:cNvCxnSpPr>
              <a:stCxn id="924" idx="5"/>
              <a:endCxn id="926" idx="2"/>
            </p:cNvCxnSpPr>
            <p:nvPr/>
          </p:nvCxnSpPr>
          <p:spPr>
            <a:xfrm>
              <a:off x="1555200" y="3531960"/>
              <a:ext cx="6545880" cy="640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930" name="CasellaDiTesto 153"/>
            <p:cNvSpPr/>
            <p:nvPr/>
          </p:nvSpPr>
          <p:spPr>
            <a:xfrm>
              <a:off x="2885040" y="374328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β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931" name="Ovale 60"/>
          <p:cNvSpPr/>
          <p:nvPr/>
        </p:nvSpPr>
        <p:spPr>
          <a:xfrm rot="18117600">
            <a:off x="2758320" y="3661200"/>
            <a:ext cx="65880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2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1088-E048-433D-B82D-6A2E1300CFA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3"/>
          <p:cNvSpPr/>
          <p:nvPr/>
        </p:nvSpPr>
        <p:spPr>
          <a:xfrm>
            <a:off x="611280" y="4680000"/>
            <a:ext cx="65926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(A4, A1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No holding circle (holding time = 0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(A1, A4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Yes holding circle (holding time = </a:t>
            </a:r>
            <a:r>
              <a:rPr b="1" lang="el-GR" sz="2000" spc="-1" strike="noStrike">
                <a:solidFill>
                  <a:srgbClr val="292929"/>
                </a:solidFill>
                <a:latin typeface="Times New Roman"/>
              </a:rPr>
              <a:t>δ</a:t>
            </a: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4" name="Titolo 26"/>
          <p:cNvSpPr/>
          <p:nvPr/>
        </p:nvSpPr>
        <p:spPr>
          <a:xfrm>
            <a:off x="324000" y="704880"/>
            <a:ext cx="308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5" name="Rectangle 3519"/>
          <p:cNvSpPr/>
          <p:nvPr/>
        </p:nvSpPr>
        <p:spPr>
          <a:xfrm>
            <a:off x="527688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6" name="Rectangle 3516"/>
          <p:cNvSpPr/>
          <p:nvPr/>
        </p:nvSpPr>
        <p:spPr>
          <a:xfrm>
            <a:off x="6639480" y="87012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7" name="Rectangle 3517"/>
          <p:cNvSpPr/>
          <p:nvPr/>
        </p:nvSpPr>
        <p:spPr>
          <a:xfrm>
            <a:off x="75981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8" name="Rectangle 3518"/>
          <p:cNvSpPr/>
          <p:nvPr/>
        </p:nvSpPr>
        <p:spPr>
          <a:xfrm>
            <a:off x="3468600" y="826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9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0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1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2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3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4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5" name="Rectangle 3545"/>
          <p:cNvSpPr/>
          <p:nvPr/>
        </p:nvSpPr>
        <p:spPr>
          <a:xfrm>
            <a:off x="7664400" y="2455920"/>
            <a:ext cx="3747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946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947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48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49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950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951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52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53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954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955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56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57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958" name="Line 3572"/>
          <p:cNvSpPr/>
          <p:nvPr/>
        </p:nvSpPr>
        <p:spPr>
          <a:xfrm>
            <a:off x="8039160" y="2519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59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0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1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2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3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4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5" name="AutoShape 3525"/>
          <p:cNvSpPr/>
          <p:nvPr/>
        </p:nvSpPr>
        <p:spPr>
          <a:xfrm>
            <a:off x="5897520" y="25113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6" name="AutoShape 3525"/>
          <p:cNvSpPr/>
          <p:nvPr/>
        </p:nvSpPr>
        <p:spPr>
          <a:xfrm>
            <a:off x="5897520" y="13161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7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8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9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0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1" name="Line 3572"/>
          <p:cNvSpPr/>
          <p:nvPr/>
        </p:nvSpPr>
        <p:spPr>
          <a:xfrm>
            <a:off x="8039160" y="16066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2" name="AutoShape 3527"/>
          <p:cNvSpPr/>
          <p:nvPr/>
        </p:nvSpPr>
        <p:spPr>
          <a:xfrm rot="4098000">
            <a:off x="4105080" y="1477800"/>
            <a:ext cx="706680" cy="503280"/>
          </a:xfrm>
          <a:prstGeom prst="parallelogram">
            <a:avLst>
              <a:gd name="adj" fmla="val 1116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3" name="AutoShape 3527"/>
          <p:cNvSpPr/>
          <p:nvPr/>
        </p:nvSpPr>
        <p:spPr>
          <a:xfrm rot="4098000">
            <a:off x="4095360" y="2080800"/>
            <a:ext cx="727200" cy="511200"/>
          </a:xfrm>
          <a:prstGeom prst="parallelogram">
            <a:avLst>
              <a:gd name="adj" fmla="val 110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4" name="CasellaDiTesto 101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5" name="CasellaDiTesto 102"/>
          <p:cNvSpPr/>
          <p:nvPr/>
        </p:nvSpPr>
        <p:spPr>
          <a:xfrm>
            <a:off x="4376160" y="16225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6" name="CasellaDiTesto 103"/>
          <p:cNvSpPr/>
          <p:nvPr/>
        </p:nvSpPr>
        <p:spPr>
          <a:xfrm>
            <a:off x="617904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7" name="CasellaDiTesto 104"/>
          <p:cNvSpPr/>
          <p:nvPr/>
        </p:nvSpPr>
        <p:spPr>
          <a:xfrm>
            <a:off x="6140880" y="229860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8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9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80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81" name="Rectangle 169"/>
          <p:cNvSpPr/>
          <p:nvPr/>
        </p:nvSpPr>
        <p:spPr>
          <a:xfrm>
            <a:off x="3421440" y="105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982" name="Connettore 2 2"/>
          <p:cNvCxnSpPr/>
          <p:nvPr/>
        </p:nvCxnSpPr>
        <p:spPr>
          <a:xfrm>
            <a:off x="3765600" y="1267920"/>
            <a:ext cx="30240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983" name="Gruppo 6"/>
          <p:cNvGrpSpPr/>
          <p:nvPr/>
        </p:nvGrpSpPr>
        <p:grpSpPr>
          <a:xfrm>
            <a:off x="684360" y="2709720"/>
            <a:ext cx="7848360" cy="1677960"/>
            <a:chOff x="684360" y="2709720"/>
            <a:chExt cx="7848360" cy="1677960"/>
          </a:xfrm>
        </p:grpSpPr>
        <p:sp>
          <p:nvSpPr>
            <p:cNvPr id="984" name="Ovale 138"/>
            <p:cNvSpPr/>
            <p:nvPr/>
          </p:nvSpPr>
          <p:spPr>
            <a:xfrm>
              <a:off x="1187280" y="3162240"/>
              <a:ext cx="431640" cy="433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85" name="Ovale 139"/>
            <p:cNvSpPr/>
            <p:nvPr/>
          </p:nvSpPr>
          <p:spPr>
            <a:xfrm>
              <a:off x="2273400" y="3162240"/>
              <a:ext cx="431640" cy="433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4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86" name="Ovale 145"/>
            <p:cNvSpPr/>
            <p:nvPr/>
          </p:nvSpPr>
          <p:spPr>
            <a:xfrm>
              <a:off x="684360" y="39416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292929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87" name="Ovale 146"/>
            <p:cNvSpPr/>
            <p:nvPr/>
          </p:nvSpPr>
          <p:spPr>
            <a:xfrm>
              <a:off x="8101080" y="3956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292929"/>
                  </a:solidFill>
                  <a:latin typeface="Times New Roman"/>
                </a:rPr>
                <a:t>*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988" name="Connettore 7 147"/>
            <p:cNvCxnSpPr>
              <a:stCxn id="984" idx="7"/>
              <a:endCxn id="985" idx="1"/>
            </p:cNvCxnSpPr>
            <p:nvPr/>
          </p:nvCxnSpPr>
          <p:spPr>
            <a:xfrm flipH="1" flipV="1" rot="5400000">
              <a:off x="1945080" y="283608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89" name="Connettore 7 148"/>
            <p:cNvCxnSpPr>
              <a:stCxn id="985" idx="3"/>
              <a:endCxn id="984" idx="5"/>
            </p:cNvCxnSpPr>
            <p:nvPr/>
          </p:nvCxnSpPr>
          <p:spPr>
            <a:xfrm rot="5400000">
              <a:off x="1945440" y="3141360"/>
              <a:ext cx="13320" cy="781560"/>
            </a:xfrm>
            <a:prstGeom prst="curvedConnector5">
              <a:avLst>
                <a:gd name="adj1" fmla="val 697222"/>
                <a:gd name="adj2" fmla="val 50000"/>
                <a:gd name="adj3" fmla="val 697222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90" name="Connettore 2 176"/>
            <p:cNvCxnSpPr>
              <a:stCxn id="986" idx="0"/>
              <a:endCxn id="984" idx="2"/>
            </p:cNvCxnSpPr>
            <p:nvPr/>
          </p:nvCxnSpPr>
          <p:spPr>
            <a:xfrm flipV="1">
              <a:off x="900000" y="3378960"/>
              <a:ext cx="288000" cy="562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91" name="Connettore 2 180"/>
            <p:cNvCxnSpPr>
              <a:stCxn id="984" idx="4"/>
              <a:endCxn id="987" idx="1"/>
            </p:cNvCxnSpPr>
            <p:nvPr/>
          </p:nvCxnSpPr>
          <p:spPr>
            <a:xfrm>
              <a:off x="1403280" y="3595320"/>
              <a:ext cx="6760080" cy="424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2" name="CasellaDiTesto 150"/>
            <p:cNvSpPr/>
            <p:nvPr/>
          </p:nvSpPr>
          <p:spPr>
            <a:xfrm>
              <a:off x="696240" y="345060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993" name="Connettore 7 193"/>
            <p:cNvCxnSpPr/>
            <p:nvPr/>
          </p:nvCxnSpPr>
          <p:spPr>
            <a:xfrm flipH="1" flipV="1" rot="5400000">
              <a:off x="1971360" y="260280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cxnSp>
          <p:nvCxnSpPr>
            <p:cNvPr id="994" name="Connettore 7 194"/>
            <p:cNvCxnSpPr>
              <a:stCxn id="985" idx="4"/>
              <a:endCxn id="984" idx="4"/>
            </p:cNvCxnSpPr>
            <p:nvPr/>
          </p:nvCxnSpPr>
          <p:spPr>
            <a:xfrm rot="5400000">
              <a:off x="1945800" y="305244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sp>
          <p:nvSpPr>
            <p:cNvPr id="995" name="Ovale 5"/>
            <p:cNvSpPr/>
            <p:nvPr/>
          </p:nvSpPr>
          <p:spPr>
            <a:xfrm>
              <a:off x="1042920" y="2709720"/>
              <a:ext cx="1833480" cy="1368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96" name="CasellaDiTesto 153"/>
            <p:cNvSpPr/>
            <p:nvPr/>
          </p:nvSpPr>
          <p:spPr>
            <a:xfrm>
              <a:off x="2889000" y="374292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β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99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1846-4C2E-495F-B217-A5BEDEF42F6A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98" name="Rectangle 70"/>
          <p:cNvSpPr/>
          <p:nvPr/>
        </p:nvSpPr>
        <p:spPr>
          <a:xfrm>
            <a:off x="1809360" y="2679840"/>
            <a:ext cx="3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l-GR" sz="1400" spc="-1" strike="noStrike">
                <a:solidFill>
                  <a:srgbClr val="292929"/>
                </a:solidFill>
                <a:latin typeface="Times New Roman"/>
              </a:rPr>
              <a:t>δ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99" name="Rectangle 71"/>
          <p:cNvSpPr/>
          <p:nvPr/>
        </p:nvSpPr>
        <p:spPr>
          <a:xfrm>
            <a:off x="183312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0" name="Rectangle 72"/>
          <p:cNvSpPr/>
          <p:nvPr/>
        </p:nvSpPr>
        <p:spPr>
          <a:xfrm>
            <a:off x="1789920" y="3352680"/>
            <a:ext cx="3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-</a:t>
            </a:r>
            <a:r>
              <a:rPr b="1" lang="el-GR" sz="1400" spc="-1" strike="noStrike">
                <a:solidFill>
                  <a:srgbClr val="292929"/>
                </a:solidFill>
                <a:latin typeface="Times New Roman"/>
              </a:rPr>
              <a:t>δ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1" name="Rectangle 73"/>
          <p:cNvSpPr/>
          <p:nvPr/>
        </p:nvSpPr>
        <p:spPr>
          <a:xfrm>
            <a:off x="1850400" y="3789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itolo 26"/>
          <p:cNvSpPr/>
          <p:nvPr/>
        </p:nvSpPr>
        <p:spPr>
          <a:xfrm>
            <a:off x="250920" y="7048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3" name="Ovale 138"/>
          <p:cNvSpPr/>
          <p:nvPr/>
        </p:nvSpPr>
        <p:spPr>
          <a:xfrm>
            <a:off x="1187280" y="31640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4" name="Ovale 139"/>
          <p:cNvSpPr/>
          <p:nvPr/>
        </p:nvSpPr>
        <p:spPr>
          <a:xfrm>
            <a:off x="227340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5" name="Ovale 141"/>
          <p:cNvSpPr/>
          <p:nvPr/>
        </p:nvSpPr>
        <p:spPr>
          <a:xfrm>
            <a:off x="335448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0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6" name="Ovale 145"/>
          <p:cNvSpPr/>
          <p:nvPr/>
        </p:nvSpPr>
        <p:spPr>
          <a:xfrm>
            <a:off x="684360" y="3941640"/>
            <a:ext cx="43164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7" name="Ovale 146"/>
          <p:cNvSpPr/>
          <p:nvPr/>
        </p:nvSpPr>
        <p:spPr>
          <a:xfrm>
            <a:off x="8101080" y="3956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*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08" name="Connettore 7 147"/>
          <p:cNvCxnSpPr>
            <a:stCxn id="1003" idx="7"/>
            <a:endCxn id="1004" idx="1"/>
          </p:cNvCxnSpPr>
          <p:nvPr/>
        </p:nvCxnSpPr>
        <p:spPr>
          <a:xfrm flipH="1" flipV="1" rot="5400000">
            <a:off x="1945800" y="283644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09" name="Connettore 7 148"/>
          <p:cNvCxnSpPr>
            <a:stCxn id="1004" idx="3"/>
            <a:endCxn id="1003" idx="5"/>
          </p:cNvCxnSpPr>
          <p:nvPr/>
        </p:nvCxnSpPr>
        <p:spPr>
          <a:xfrm rot="5400000">
            <a:off x="1945800" y="3141360"/>
            <a:ext cx="13320" cy="781920"/>
          </a:xfrm>
          <a:prstGeom prst="curvedConnector5">
            <a:avLst>
              <a:gd name="adj1" fmla="val 697222"/>
              <a:gd name="adj2" fmla="val 49976"/>
              <a:gd name="adj3" fmla="val 69722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10" name="Connettore 7 149"/>
          <p:cNvCxnSpPr/>
          <p:nvPr/>
        </p:nvCxnSpPr>
        <p:spPr>
          <a:xfrm flipH="1" flipV="1" rot="5400000">
            <a:off x="3023280" y="284796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11" name="Connettore 7 150"/>
          <p:cNvCxnSpPr/>
          <p:nvPr/>
        </p:nvCxnSpPr>
        <p:spPr>
          <a:xfrm rot="5400000">
            <a:off x="3022920" y="315324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12" name="Connettore 2 176"/>
          <p:cNvCxnSpPr>
            <a:stCxn id="1006" idx="0"/>
            <a:endCxn id="1003" idx="2"/>
          </p:cNvCxnSpPr>
          <p:nvPr/>
        </p:nvCxnSpPr>
        <p:spPr>
          <a:xfrm flipV="1">
            <a:off x="900000" y="3378960"/>
            <a:ext cx="288000" cy="56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13" name="Connettore 2 180"/>
          <p:cNvCxnSpPr>
            <a:stCxn id="1003" idx="4"/>
            <a:endCxn id="1007" idx="1"/>
          </p:cNvCxnSpPr>
          <p:nvPr/>
        </p:nvCxnSpPr>
        <p:spPr>
          <a:xfrm>
            <a:off x="1402920" y="3595320"/>
            <a:ext cx="676044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4" name="CasellaDiTesto 150"/>
          <p:cNvSpPr/>
          <p:nvPr/>
        </p:nvSpPr>
        <p:spPr>
          <a:xfrm>
            <a:off x="696240" y="3451320"/>
            <a:ext cx="3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15" name="CasellaDiTesto 153"/>
          <p:cNvSpPr/>
          <p:nvPr/>
        </p:nvSpPr>
        <p:spPr>
          <a:xfrm>
            <a:off x="4254480" y="380520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16" name="Connettore 7 193"/>
          <p:cNvCxnSpPr/>
          <p:nvPr/>
        </p:nvCxnSpPr>
        <p:spPr>
          <a:xfrm flipH="1" flipV="1" rot="5400000">
            <a:off x="1970640" y="2604240"/>
            <a:ext cx="13320" cy="1086840"/>
          </a:xfrm>
          <a:prstGeom prst="curvedConnector5">
            <a:avLst>
              <a:gd name="adj1" fmla="val 1800000"/>
              <a:gd name="adj2" fmla="val 50000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017" name="Connettore 7 194"/>
          <p:cNvCxnSpPr>
            <a:stCxn id="1004" idx="4"/>
            <a:endCxn id="1003" idx="4"/>
          </p:cNvCxnSpPr>
          <p:nvPr/>
        </p:nvCxnSpPr>
        <p:spPr>
          <a:xfrm rot="5400000">
            <a:off x="1945440" y="3052800"/>
            <a:ext cx="1368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1018" name="Ovale 196"/>
          <p:cNvSpPr/>
          <p:nvPr/>
        </p:nvSpPr>
        <p:spPr>
          <a:xfrm>
            <a:off x="2163600" y="2709720"/>
            <a:ext cx="183204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19" name="Rectangle 13"/>
          <p:cNvSpPr/>
          <p:nvPr/>
        </p:nvSpPr>
        <p:spPr>
          <a:xfrm>
            <a:off x="605520" y="4869000"/>
            <a:ext cx="43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Time window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for the travel time in each air segment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[min travel time; max travel time]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0" name="Rectangle 3519"/>
          <p:cNvSpPr/>
          <p:nvPr/>
        </p:nvSpPr>
        <p:spPr>
          <a:xfrm>
            <a:off x="527688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1" name="Rectangle 3516"/>
          <p:cNvSpPr/>
          <p:nvPr/>
        </p:nvSpPr>
        <p:spPr>
          <a:xfrm>
            <a:off x="6614280" y="83196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2" name="Rectangle 3517"/>
          <p:cNvSpPr/>
          <p:nvPr/>
        </p:nvSpPr>
        <p:spPr>
          <a:xfrm>
            <a:off x="75981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3" name="Rectangle 3518"/>
          <p:cNvSpPr/>
          <p:nvPr/>
        </p:nvSpPr>
        <p:spPr>
          <a:xfrm>
            <a:off x="3468600" y="826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4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5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6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7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8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9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30" name="Rectangle 3545"/>
          <p:cNvSpPr/>
          <p:nvPr/>
        </p:nvSpPr>
        <p:spPr>
          <a:xfrm>
            <a:off x="7664400" y="2455920"/>
            <a:ext cx="3747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031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1032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33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34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035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1036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37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38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039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1040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41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42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043" name="Line 3572"/>
          <p:cNvSpPr/>
          <p:nvPr/>
        </p:nvSpPr>
        <p:spPr>
          <a:xfrm>
            <a:off x="8039160" y="2519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4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5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6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7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8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9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0" name="AutoShape 3525"/>
          <p:cNvSpPr/>
          <p:nvPr/>
        </p:nvSpPr>
        <p:spPr>
          <a:xfrm>
            <a:off x="5897520" y="25113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1" name="AutoShape 3525"/>
          <p:cNvSpPr/>
          <p:nvPr/>
        </p:nvSpPr>
        <p:spPr>
          <a:xfrm>
            <a:off x="5897520" y="13161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2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3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4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5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6" name="Line 3572"/>
          <p:cNvSpPr/>
          <p:nvPr/>
        </p:nvSpPr>
        <p:spPr>
          <a:xfrm>
            <a:off x="8039160" y="16066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7" name="AutoShape 3527"/>
          <p:cNvSpPr/>
          <p:nvPr/>
        </p:nvSpPr>
        <p:spPr>
          <a:xfrm rot="4098000">
            <a:off x="4105080" y="1477800"/>
            <a:ext cx="706680" cy="503280"/>
          </a:xfrm>
          <a:prstGeom prst="parallelogram">
            <a:avLst>
              <a:gd name="adj" fmla="val 1116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8" name="AutoShape 3527"/>
          <p:cNvSpPr/>
          <p:nvPr/>
        </p:nvSpPr>
        <p:spPr>
          <a:xfrm rot="4098000">
            <a:off x="4095360" y="2080800"/>
            <a:ext cx="727200" cy="511200"/>
          </a:xfrm>
          <a:prstGeom prst="parallelogram">
            <a:avLst>
              <a:gd name="adj" fmla="val 110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9" name="CasellaDiTesto 229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0" name="CasellaDiTesto 230"/>
          <p:cNvSpPr/>
          <p:nvPr/>
        </p:nvSpPr>
        <p:spPr>
          <a:xfrm>
            <a:off x="4376160" y="16225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1" name="CasellaDiTesto 231"/>
          <p:cNvSpPr/>
          <p:nvPr/>
        </p:nvSpPr>
        <p:spPr>
          <a:xfrm>
            <a:off x="617904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2" name="CasellaDiTesto 232"/>
          <p:cNvSpPr/>
          <p:nvPr/>
        </p:nvSpPr>
        <p:spPr>
          <a:xfrm>
            <a:off x="6153840" y="227340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3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4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5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6" name="Rectangle 169"/>
          <p:cNvSpPr/>
          <p:nvPr/>
        </p:nvSpPr>
        <p:spPr>
          <a:xfrm>
            <a:off x="3421440" y="105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67" name="Connettore 2 237"/>
          <p:cNvCxnSpPr/>
          <p:nvPr/>
        </p:nvCxnSpPr>
        <p:spPr>
          <a:xfrm>
            <a:off x="3693600" y="1269720"/>
            <a:ext cx="117252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68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3B4F-5FDC-418F-96EF-C71D449A341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9" name="Rectangle 72"/>
          <p:cNvSpPr/>
          <p:nvPr/>
        </p:nvSpPr>
        <p:spPr>
          <a:xfrm>
            <a:off x="2770920" y="28321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mi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0" name="Rectangle 73"/>
          <p:cNvSpPr/>
          <p:nvPr/>
        </p:nvSpPr>
        <p:spPr>
          <a:xfrm>
            <a:off x="2703960" y="335268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- max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3516"/>
          <p:cNvSpPr/>
          <p:nvPr/>
        </p:nvSpPr>
        <p:spPr>
          <a:xfrm>
            <a:off x="6563520" y="73008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2" name="Rectangle 3517"/>
          <p:cNvSpPr/>
          <p:nvPr/>
        </p:nvSpPr>
        <p:spPr>
          <a:xfrm>
            <a:off x="75981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3" name="Rectangle 3518"/>
          <p:cNvSpPr/>
          <p:nvPr/>
        </p:nvSpPr>
        <p:spPr>
          <a:xfrm>
            <a:off x="3468600" y="81288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4" name="Rectangle 3519"/>
          <p:cNvSpPr/>
          <p:nvPr/>
        </p:nvSpPr>
        <p:spPr>
          <a:xfrm>
            <a:off x="527544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5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6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7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8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9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80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81" name="Rectangle 3545"/>
          <p:cNvSpPr/>
          <p:nvPr/>
        </p:nvSpPr>
        <p:spPr>
          <a:xfrm>
            <a:off x="7664400" y="2455920"/>
            <a:ext cx="3747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082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1083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84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85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086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1087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88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89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090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1091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92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93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094" name="Line 3572"/>
          <p:cNvSpPr/>
          <p:nvPr/>
        </p:nvSpPr>
        <p:spPr>
          <a:xfrm>
            <a:off x="8039160" y="2519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5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6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7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8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9" name="Rectangle 3522"/>
          <p:cNvSpPr/>
          <p:nvPr/>
        </p:nvSpPr>
        <p:spPr>
          <a:xfrm>
            <a:off x="5127480" y="1971720"/>
            <a:ext cx="1376640" cy="12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0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1" name="AutoShape 3525"/>
          <p:cNvSpPr/>
          <p:nvPr/>
        </p:nvSpPr>
        <p:spPr>
          <a:xfrm>
            <a:off x="5897520" y="25113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2" name="AutoShape 3525"/>
          <p:cNvSpPr/>
          <p:nvPr/>
        </p:nvSpPr>
        <p:spPr>
          <a:xfrm>
            <a:off x="5897520" y="13161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3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4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5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6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7" name="Line 3572"/>
          <p:cNvSpPr/>
          <p:nvPr/>
        </p:nvSpPr>
        <p:spPr>
          <a:xfrm>
            <a:off x="8039160" y="16066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8" name="AutoShape 3527"/>
          <p:cNvSpPr/>
          <p:nvPr/>
        </p:nvSpPr>
        <p:spPr>
          <a:xfrm rot="4098000">
            <a:off x="4105080" y="1477800"/>
            <a:ext cx="706680" cy="503280"/>
          </a:xfrm>
          <a:prstGeom prst="parallelogram">
            <a:avLst>
              <a:gd name="adj" fmla="val 1116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9" name="AutoShape 3527"/>
          <p:cNvSpPr/>
          <p:nvPr/>
        </p:nvSpPr>
        <p:spPr>
          <a:xfrm rot="4098000">
            <a:off x="4095360" y="2080800"/>
            <a:ext cx="727200" cy="511200"/>
          </a:xfrm>
          <a:prstGeom prst="parallelogram">
            <a:avLst>
              <a:gd name="adj" fmla="val 110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0" name="CasellaDiTesto 101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1" name="CasellaDiTesto 102"/>
          <p:cNvSpPr/>
          <p:nvPr/>
        </p:nvSpPr>
        <p:spPr>
          <a:xfrm>
            <a:off x="4376160" y="16225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2" name="CasellaDiTesto 103"/>
          <p:cNvSpPr/>
          <p:nvPr/>
        </p:nvSpPr>
        <p:spPr>
          <a:xfrm>
            <a:off x="617760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3" name="CasellaDiTesto 104"/>
          <p:cNvSpPr/>
          <p:nvPr/>
        </p:nvSpPr>
        <p:spPr>
          <a:xfrm>
            <a:off x="6126840" y="228600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4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5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6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7" name="Freeform 166"/>
          <p:cNvSpPr/>
          <p:nvPr/>
        </p:nvSpPr>
        <p:spPr>
          <a:xfrm>
            <a:off x="3720960" y="1254240"/>
            <a:ext cx="4577040" cy="55404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4141" h="502">
                <a:moveTo>
                  <a:pt x="0" y="0"/>
                </a:moveTo>
                <a:lnTo>
                  <a:pt x="2426" y="8"/>
                </a:lnTo>
                <a:lnTo>
                  <a:pt x="2663" y="502"/>
                </a:lnTo>
                <a:lnTo>
                  <a:pt x="3395" y="502"/>
                </a:lnTo>
                <a:lnTo>
                  <a:pt x="3514" y="145"/>
                </a:lnTo>
                <a:lnTo>
                  <a:pt x="4141" y="14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8" name="Rectangle 168"/>
          <p:cNvSpPr/>
          <p:nvPr/>
        </p:nvSpPr>
        <p:spPr>
          <a:xfrm>
            <a:off x="8298000" y="1197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9" name="Rectangle 169"/>
          <p:cNvSpPr/>
          <p:nvPr/>
        </p:nvSpPr>
        <p:spPr>
          <a:xfrm>
            <a:off x="3421440" y="105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0" name="Titolo 26"/>
          <p:cNvSpPr/>
          <p:nvPr/>
        </p:nvSpPr>
        <p:spPr>
          <a:xfrm>
            <a:off x="250920" y="7048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1" name="Ovale 138"/>
          <p:cNvSpPr/>
          <p:nvPr/>
        </p:nvSpPr>
        <p:spPr>
          <a:xfrm>
            <a:off x="1187280" y="31640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2" name="Ovale 139"/>
          <p:cNvSpPr/>
          <p:nvPr/>
        </p:nvSpPr>
        <p:spPr>
          <a:xfrm>
            <a:off x="227340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3" name="Ovale 140"/>
          <p:cNvSpPr/>
          <p:nvPr/>
        </p:nvSpPr>
        <p:spPr>
          <a:xfrm>
            <a:off x="550872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5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4" name="Ovale 141"/>
          <p:cNvSpPr/>
          <p:nvPr/>
        </p:nvSpPr>
        <p:spPr>
          <a:xfrm>
            <a:off x="335448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0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5" name="Ovale 142"/>
          <p:cNvSpPr/>
          <p:nvPr/>
        </p:nvSpPr>
        <p:spPr>
          <a:xfrm>
            <a:off x="442764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3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6" name="Ovale 143"/>
          <p:cNvSpPr/>
          <p:nvPr/>
        </p:nvSpPr>
        <p:spPr>
          <a:xfrm>
            <a:off x="774072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7" name="Ovale 144"/>
          <p:cNvSpPr/>
          <p:nvPr/>
        </p:nvSpPr>
        <p:spPr>
          <a:xfrm>
            <a:off x="6588000" y="31640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6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8" name="Ovale 145"/>
          <p:cNvSpPr/>
          <p:nvPr/>
        </p:nvSpPr>
        <p:spPr>
          <a:xfrm>
            <a:off x="684360" y="3941640"/>
            <a:ext cx="43164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9" name="Ovale 146"/>
          <p:cNvSpPr/>
          <p:nvPr/>
        </p:nvSpPr>
        <p:spPr>
          <a:xfrm>
            <a:off x="8101080" y="3956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*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130" name="Connettore 7 147"/>
          <p:cNvCxnSpPr>
            <a:stCxn id="1121" idx="7"/>
            <a:endCxn id="1122" idx="1"/>
          </p:cNvCxnSpPr>
          <p:nvPr/>
        </p:nvCxnSpPr>
        <p:spPr>
          <a:xfrm flipH="1" flipV="1" rot="5400000">
            <a:off x="1945800" y="283644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1" name="Connettore 7 148"/>
          <p:cNvCxnSpPr>
            <a:stCxn id="1122" idx="3"/>
            <a:endCxn id="1121" idx="5"/>
          </p:cNvCxnSpPr>
          <p:nvPr/>
        </p:nvCxnSpPr>
        <p:spPr>
          <a:xfrm rot="5400000">
            <a:off x="1945800" y="3141360"/>
            <a:ext cx="13320" cy="781920"/>
          </a:xfrm>
          <a:prstGeom prst="curvedConnector5">
            <a:avLst>
              <a:gd name="adj1" fmla="val 697222"/>
              <a:gd name="adj2" fmla="val 49976"/>
              <a:gd name="adj3" fmla="val 69722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2" name="Connettore 7 149"/>
          <p:cNvCxnSpPr/>
          <p:nvPr/>
        </p:nvCxnSpPr>
        <p:spPr>
          <a:xfrm flipH="1" flipV="1" rot="5400000">
            <a:off x="3023280" y="284796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3" name="Connettore 7 150"/>
          <p:cNvCxnSpPr/>
          <p:nvPr/>
        </p:nvCxnSpPr>
        <p:spPr>
          <a:xfrm rot="5400000">
            <a:off x="3022920" y="315324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4" name="Connettore 7 151"/>
          <p:cNvCxnSpPr/>
          <p:nvPr/>
        </p:nvCxnSpPr>
        <p:spPr>
          <a:xfrm flipH="1" flipV="1" rot="5400000">
            <a:off x="4103640" y="284256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5" name="Connettore 7 152"/>
          <p:cNvCxnSpPr/>
          <p:nvPr/>
        </p:nvCxnSpPr>
        <p:spPr>
          <a:xfrm rot="5400000">
            <a:off x="4103280" y="314784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6" name="Connettore 7 153"/>
          <p:cNvCxnSpPr/>
          <p:nvPr/>
        </p:nvCxnSpPr>
        <p:spPr>
          <a:xfrm flipH="1" flipV="1" rot="5400000">
            <a:off x="5177520" y="284328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7" name="Connettore 7 154"/>
          <p:cNvCxnSpPr/>
          <p:nvPr/>
        </p:nvCxnSpPr>
        <p:spPr>
          <a:xfrm rot="5400000">
            <a:off x="5177160" y="314856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8" name="Connettore 7 155"/>
          <p:cNvCxnSpPr/>
          <p:nvPr/>
        </p:nvCxnSpPr>
        <p:spPr>
          <a:xfrm flipH="1" flipV="1" rot="5400000">
            <a:off x="6251400" y="284256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9" name="Connettore 7 156"/>
          <p:cNvCxnSpPr/>
          <p:nvPr/>
        </p:nvCxnSpPr>
        <p:spPr>
          <a:xfrm rot="5400000">
            <a:off x="6251040" y="314784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0" name="Connettore 2 157"/>
          <p:cNvCxnSpPr>
            <a:stCxn id="1127" idx="6"/>
            <a:endCxn id="1126" idx="2"/>
          </p:cNvCxnSpPr>
          <p:nvPr/>
        </p:nvCxnSpPr>
        <p:spPr>
          <a:xfrm>
            <a:off x="7020000" y="337932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1" name="Connettore 2 176"/>
          <p:cNvCxnSpPr>
            <a:stCxn id="1128" idx="0"/>
            <a:endCxn id="1121" idx="2"/>
          </p:cNvCxnSpPr>
          <p:nvPr/>
        </p:nvCxnSpPr>
        <p:spPr>
          <a:xfrm flipV="1">
            <a:off x="900000" y="3378960"/>
            <a:ext cx="288000" cy="56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2" name="Connettore 2 179"/>
          <p:cNvCxnSpPr>
            <a:stCxn id="1127" idx="5"/>
            <a:endCxn id="1129" idx="0"/>
          </p:cNvCxnSpPr>
          <p:nvPr/>
        </p:nvCxnSpPr>
        <p:spPr>
          <a:xfrm>
            <a:off x="6956280" y="3531960"/>
            <a:ext cx="136116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3" name="Connettore 2 180"/>
          <p:cNvCxnSpPr>
            <a:stCxn id="1121" idx="4"/>
            <a:endCxn id="1129" idx="1"/>
          </p:cNvCxnSpPr>
          <p:nvPr/>
        </p:nvCxnSpPr>
        <p:spPr>
          <a:xfrm>
            <a:off x="1402920" y="3595320"/>
            <a:ext cx="676044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4" name="CasellaDiTesto 150"/>
          <p:cNvSpPr/>
          <p:nvPr/>
        </p:nvSpPr>
        <p:spPr>
          <a:xfrm>
            <a:off x="696240" y="3451320"/>
            <a:ext cx="3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45" name="CasellaDiTesto 153"/>
          <p:cNvSpPr/>
          <p:nvPr/>
        </p:nvSpPr>
        <p:spPr>
          <a:xfrm>
            <a:off x="2889360" y="374328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46" name="CasellaDiTesto 154"/>
          <p:cNvSpPr/>
          <p:nvPr/>
        </p:nvSpPr>
        <p:spPr>
          <a:xfrm>
            <a:off x="7534080" y="3441600"/>
            <a:ext cx="3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γ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147" name="Connettore 7 193"/>
          <p:cNvCxnSpPr/>
          <p:nvPr/>
        </p:nvCxnSpPr>
        <p:spPr>
          <a:xfrm flipH="1" flipV="1" rot="5400000">
            <a:off x="1970640" y="2604240"/>
            <a:ext cx="13320" cy="1086840"/>
          </a:xfrm>
          <a:prstGeom prst="curvedConnector5">
            <a:avLst>
              <a:gd name="adj1" fmla="val 1800000"/>
              <a:gd name="adj2" fmla="val 50000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148" name="Connettore 7 194"/>
          <p:cNvCxnSpPr>
            <a:stCxn id="1122" idx="4"/>
            <a:endCxn id="1121" idx="4"/>
          </p:cNvCxnSpPr>
          <p:nvPr/>
        </p:nvCxnSpPr>
        <p:spPr>
          <a:xfrm rot="5400000">
            <a:off x="1945440" y="3052800"/>
            <a:ext cx="1368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1149" name="Ovale 196"/>
          <p:cNvSpPr/>
          <p:nvPr/>
        </p:nvSpPr>
        <p:spPr>
          <a:xfrm rot="1138800">
            <a:off x="6987960" y="3514320"/>
            <a:ext cx="1380960" cy="347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0" name="Rectangle 13"/>
          <p:cNvSpPr/>
          <p:nvPr/>
        </p:nvSpPr>
        <p:spPr>
          <a:xfrm>
            <a:off x="510480" y="4869000"/>
            <a:ext cx="33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292929"/>
                </a:solidFill>
                <a:latin typeface="Times New Roman"/>
              </a:rPr>
              <a:t>Exit due date </a:t>
            </a: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γ</a:t>
            </a:r>
            <a:r>
              <a:rPr b="1" lang="it-IT" sz="1200" spc="-1" strike="noStrike">
                <a:solidFill>
                  <a:srgbClr val="292929"/>
                </a:solidFill>
                <a:latin typeface="Times New Roman"/>
              </a:rPr>
              <a:t>A 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γ</a:t>
            </a:r>
            <a:r>
              <a:rPr b="1" lang="it-IT" sz="1200" spc="-1" strike="noStrike">
                <a:solidFill>
                  <a:srgbClr val="292929"/>
                </a:solidFill>
                <a:latin typeface="Times New Roman"/>
              </a:rPr>
              <a:t>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= - planned landing time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1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372E-2202-43E1-AA5F-F7A0528A12A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3516"/>
          <p:cNvSpPr/>
          <p:nvPr/>
        </p:nvSpPr>
        <p:spPr>
          <a:xfrm>
            <a:off x="6614280" y="83196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3" name="Rectangle 3517"/>
          <p:cNvSpPr/>
          <p:nvPr/>
        </p:nvSpPr>
        <p:spPr>
          <a:xfrm>
            <a:off x="75981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4" name="Rectangle 3518"/>
          <p:cNvSpPr/>
          <p:nvPr/>
        </p:nvSpPr>
        <p:spPr>
          <a:xfrm>
            <a:off x="3468600" y="826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5" name="Rectangle 3519"/>
          <p:cNvSpPr/>
          <p:nvPr/>
        </p:nvSpPr>
        <p:spPr>
          <a:xfrm>
            <a:off x="527688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6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7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8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9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0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1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2" name="Rectangle 3545"/>
          <p:cNvSpPr/>
          <p:nvPr/>
        </p:nvSpPr>
        <p:spPr>
          <a:xfrm>
            <a:off x="7666200" y="2455920"/>
            <a:ext cx="3729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163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1164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65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66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167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1168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69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70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171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1172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73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74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175" name="Line 3572"/>
          <p:cNvSpPr/>
          <p:nvPr/>
        </p:nvSpPr>
        <p:spPr>
          <a:xfrm>
            <a:off x="8040600" y="2519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6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7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8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9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0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1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2" name="AutoShape 3525"/>
          <p:cNvSpPr/>
          <p:nvPr/>
        </p:nvSpPr>
        <p:spPr>
          <a:xfrm>
            <a:off x="5899320" y="2511360"/>
            <a:ext cx="1854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3" name="AutoShape 3525"/>
          <p:cNvSpPr/>
          <p:nvPr/>
        </p:nvSpPr>
        <p:spPr>
          <a:xfrm>
            <a:off x="5899320" y="1316160"/>
            <a:ext cx="1854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4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5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6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7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8" name="Line 3572"/>
          <p:cNvSpPr/>
          <p:nvPr/>
        </p:nvSpPr>
        <p:spPr>
          <a:xfrm>
            <a:off x="8039160" y="16066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9" name="AutoShape 3527"/>
          <p:cNvSpPr/>
          <p:nvPr/>
        </p:nvSpPr>
        <p:spPr>
          <a:xfrm rot="4098000">
            <a:off x="4106160" y="1477080"/>
            <a:ext cx="706680" cy="504720"/>
          </a:xfrm>
          <a:prstGeom prst="parallelogram">
            <a:avLst>
              <a:gd name="adj" fmla="val 1113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0" name="AutoShape 3527"/>
          <p:cNvSpPr/>
          <p:nvPr/>
        </p:nvSpPr>
        <p:spPr>
          <a:xfrm rot="4098000">
            <a:off x="4095360" y="2080800"/>
            <a:ext cx="727200" cy="511200"/>
          </a:xfrm>
          <a:prstGeom prst="parallelogram">
            <a:avLst>
              <a:gd name="adj" fmla="val 110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1" name="CasellaDiTesto 101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2" name="CasellaDiTesto 102"/>
          <p:cNvSpPr/>
          <p:nvPr/>
        </p:nvSpPr>
        <p:spPr>
          <a:xfrm>
            <a:off x="4376160" y="16225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3" name="CasellaDiTesto 103"/>
          <p:cNvSpPr/>
          <p:nvPr/>
        </p:nvSpPr>
        <p:spPr>
          <a:xfrm>
            <a:off x="617904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4" name="CasellaDiTesto 104"/>
          <p:cNvSpPr/>
          <p:nvPr/>
        </p:nvSpPr>
        <p:spPr>
          <a:xfrm>
            <a:off x="6115680" y="229860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5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6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7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8" name="Freeform 165"/>
          <p:cNvSpPr/>
          <p:nvPr/>
        </p:nvSpPr>
        <p:spPr>
          <a:xfrm>
            <a:off x="3720960" y="2232000"/>
            <a:ext cx="4589640" cy="555480"/>
          </a:xfrm>
          <a:custGeom>
            <a:avLst/>
            <a:gdLst>
              <a:gd name="textAreaLeft" fmla="*/ 0 w 4589640"/>
              <a:gd name="textAreaRight" fmla="*/ 4590000 w 45896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4153" h="502">
                <a:moveTo>
                  <a:pt x="0" y="502"/>
                </a:moveTo>
                <a:lnTo>
                  <a:pt x="2426" y="494"/>
                </a:lnTo>
                <a:lnTo>
                  <a:pt x="2663" y="0"/>
                </a:lnTo>
                <a:lnTo>
                  <a:pt x="3395" y="0"/>
                </a:lnTo>
                <a:lnTo>
                  <a:pt x="3505" y="375"/>
                </a:lnTo>
                <a:lnTo>
                  <a:pt x="4153" y="375"/>
                </a:lnTo>
              </a:path>
            </a:pathLst>
          </a:custGeom>
          <a:noFill/>
          <a:ln w="936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9" name="Freeform 166"/>
          <p:cNvSpPr/>
          <p:nvPr/>
        </p:nvSpPr>
        <p:spPr>
          <a:xfrm>
            <a:off x="3720960" y="1254240"/>
            <a:ext cx="4577040" cy="55404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4141" h="502">
                <a:moveTo>
                  <a:pt x="0" y="0"/>
                </a:moveTo>
                <a:lnTo>
                  <a:pt x="2426" y="8"/>
                </a:lnTo>
                <a:lnTo>
                  <a:pt x="2663" y="502"/>
                </a:lnTo>
                <a:lnTo>
                  <a:pt x="3395" y="502"/>
                </a:lnTo>
                <a:lnTo>
                  <a:pt x="3514" y="145"/>
                </a:lnTo>
                <a:lnTo>
                  <a:pt x="4141" y="14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0" name="Rectangle 168"/>
          <p:cNvSpPr/>
          <p:nvPr/>
        </p:nvSpPr>
        <p:spPr>
          <a:xfrm>
            <a:off x="8298000" y="1197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1" name="Rectangle 169"/>
          <p:cNvSpPr/>
          <p:nvPr/>
        </p:nvSpPr>
        <p:spPr>
          <a:xfrm>
            <a:off x="3421440" y="105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2" name="Rectangle 170"/>
          <p:cNvSpPr/>
          <p:nvPr/>
        </p:nvSpPr>
        <p:spPr>
          <a:xfrm>
            <a:off x="8307720" y="2421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3" name="Rectangle 171"/>
          <p:cNvSpPr/>
          <p:nvPr/>
        </p:nvSpPr>
        <p:spPr>
          <a:xfrm>
            <a:off x="3421440" y="2637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4" name="Titolo 26"/>
          <p:cNvSpPr/>
          <p:nvPr/>
        </p:nvSpPr>
        <p:spPr>
          <a:xfrm>
            <a:off x="324000" y="7048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205" name="Gruppo 128"/>
          <p:cNvGrpSpPr/>
          <p:nvPr/>
        </p:nvGrpSpPr>
        <p:grpSpPr>
          <a:xfrm>
            <a:off x="684360" y="2920680"/>
            <a:ext cx="7848360" cy="2583000"/>
            <a:chOff x="684360" y="2920680"/>
            <a:chExt cx="7848360" cy="2583000"/>
          </a:xfrm>
        </p:grpSpPr>
        <p:sp>
          <p:nvSpPr>
            <p:cNvPr id="1206" name="Ovale 138"/>
            <p:cNvSpPr/>
            <p:nvPr/>
          </p:nvSpPr>
          <p:spPr>
            <a:xfrm>
              <a:off x="118728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07" name="Ovale 139"/>
            <p:cNvSpPr/>
            <p:nvPr/>
          </p:nvSpPr>
          <p:spPr>
            <a:xfrm>
              <a:off x="227340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4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08" name="Ovale 140"/>
            <p:cNvSpPr/>
            <p:nvPr/>
          </p:nvSpPr>
          <p:spPr>
            <a:xfrm>
              <a:off x="550872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5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09" name="Ovale 141"/>
            <p:cNvSpPr/>
            <p:nvPr/>
          </p:nvSpPr>
          <p:spPr>
            <a:xfrm>
              <a:off x="335448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0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10" name="Ovale 142"/>
            <p:cNvSpPr/>
            <p:nvPr/>
          </p:nvSpPr>
          <p:spPr>
            <a:xfrm>
              <a:off x="442764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3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11" name="Ovale 143"/>
            <p:cNvSpPr/>
            <p:nvPr/>
          </p:nvSpPr>
          <p:spPr>
            <a:xfrm>
              <a:off x="774072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OUT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12" name="Ovale 144"/>
            <p:cNvSpPr/>
            <p:nvPr/>
          </p:nvSpPr>
          <p:spPr>
            <a:xfrm>
              <a:off x="658836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6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13" name="Ovale 145"/>
            <p:cNvSpPr/>
            <p:nvPr/>
          </p:nvSpPr>
          <p:spPr>
            <a:xfrm>
              <a:off x="684360" y="39416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292929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14" name="Ovale 146"/>
            <p:cNvSpPr/>
            <p:nvPr/>
          </p:nvSpPr>
          <p:spPr>
            <a:xfrm>
              <a:off x="8101080" y="3956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292929"/>
                  </a:solidFill>
                  <a:latin typeface="Times New Roman"/>
                </a:rPr>
                <a:t>*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215" name="Connettore 7 147"/>
            <p:cNvCxnSpPr>
              <a:stCxn id="1206" idx="7"/>
              <a:endCxn id="1207" idx="1"/>
            </p:cNvCxnSpPr>
            <p:nvPr/>
          </p:nvCxnSpPr>
          <p:spPr>
            <a:xfrm flipH="1" flipV="1" rot="5400000">
              <a:off x="1945080" y="283608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16" name="Connettore 7 148"/>
            <p:cNvCxnSpPr>
              <a:stCxn id="1207" idx="3"/>
              <a:endCxn id="1206" idx="5"/>
            </p:cNvCxnSpPr>
            <p:nvPr/>
          </p:nvCxnSpPr>
          <p:spPr>
            <a:xfrm rot="5400000">
              <a:off x="1945440" y="3141360"/>
              <a:ext cx="13320" cy="781560"/>
            </a:xfrm>
            <a:prstGeom prst="curvedConnector5">
              <a:avLst>
                <a:gd name="adj1" fmla="val 697222"/>
                <a:gd name="adj2" fmla="val 50000"/>
                <a:gd name="adj3" fmla="val 697222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17" name="Connettore 7 149"/>
            <p:cNvCxnSpPr/>
            <p:nvPr/>
          </p:nvCxnSpPr>
          <p:spPr>
            <a:xfrm flipH="1" flipV="1" rot="5400000">
              <a:off x="3024000" y="2849040"/>
              <a:ext cx="13320" cy="778320"/>
            </a:xfrm>
            <a:prstGeom prst="curvedConnector5">
              <a:avLst>
                <a:gd name="adj1" fmla="val 1152777"/>
                <a:gd name="adj2" fmla="val 49976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18" name="Connettore 7 150"/>
            <p:cNvCxnSpPr/>
            <p:nvPr/>
          </p:nvCxnSpPr>
          <p:spPr>
            <a:xfrm rot="5400000">
              <a:off x="3023640" y="3154320"/>
              <a:ext cx="13320" cy="778320"/>
            </a:xfrm>
            <a:prstGeom prst="curvedConnector5">
              <a:avLst>
                <a:gd name="adj1" fmla="val 1152777"/>
                <a:gd name="adj2" fmla="val 49976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19" name="Connettore 7 151"/>
            <p:cNvCxnSpPr/>
            <p:nvPr/>
          </p:nvCxnSpPr>
          <p:spPr>
            <a:xfrm flipH="1" flipV="1" rot="5400000">
              <a:off x="4102560" y="284256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0" name="Connettore 7 152"/>
            <p:cNvCxnSpPr/>
            <p:nvPr/>
          </p:nvCxnSpPr>
          <p:spPr>
            <a:xfrm rot="5400000">
              <a:off x="4102920" y="314784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1" name="Connettore 7 153"/>
            <p:cNvCxnSpPr/>
            <p:nvPr/>
          </p:nvCxnSpPr>
          <p:spPr>
            <a:xfrm flipH="1" flipV="1" rot="5400000">
              <a:off x="5178240" y="2844720"/>
              <a:ext cx="13320" cy="78012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2" name="Connettore 7 154"/>
            <p:cNvCxnSpPr/>
            <p:nvPr/>
          </p:nvCxnSpPr>
          <p:spPr>
            <a:xfrm rot="5400000">
              <a:off x="5178600" y="3150000"/>
              <a:ext cx="13320" cy="78012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3" name="Connettore 7 155"/>
            <p:cNvCxnSpPr/>
            <p:nvPr/>
          </p:nvCxnSpPr>
          <p:spPr>
            <a:xfrm flipH="1" flipV="1" rot="5400000">
              <a:off x="6250320" y="284256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4" name="Connettore 7 156"/>
            <p:cNvCxnSpPr/>
            <p:nvPr/>
          </p:nvCxnSpPr>
          <p:spPr>
            <a:xfrm rot="5400000">
              <a:off x="6250680" y="314784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5" name="Connettore 2 157"/>
            <p:cNvCxnSpPr>
              <a:stCxn id="1212" idx="6"/>
              <a:endCxn id="1211" idx="2"/>
            </p:cNvCxnSpPr>
            <p:nvPr/>
          </p:nvCxnSpPr>
          <p:spPr>
            <a:xfrm>
              <a:off x="7020000" y="3379320"/>
              <a:ext cx="721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226" name="Ovale 158"/>
            <p:cNvSpPr/>
            <p:nvPr/>
          </p:nvSpPr>
          <p:spPr>
            <a:xfrm>
              <a:off x="122544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3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27" name="Ovale 159"/>
            <p:cNvSpPr/>
            <p:nvPr/>
          </p:nvSpPr>
          <p:spPr>
            <a:xfrm>
              <a:off x="231156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8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28" name="Ovale 160"/>
            <p:cNvSpPr/>
            <p:nvPr/>
          </p:nvSpPr>
          <p:spPr>
            <a:xfrm>
              <a:off x="5545080" y="4820040"/>
              <a:ext cx="43308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15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29" name="Ovale 161"/>
            <p:cNvSpPr/>
            <p:nvPr/>
          </p:nvSpPr>
          <p:spPr>
            <a:xfrm>
              <a:off x="339264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12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30" name="Ovale 162"/>
            <p:cNvSpPr/>
            <p:nvPr/>
          </p:nvSpPr>
          <p:spPr>
            <a:xfrm>
              <a:off x="446580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14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31" name="Ovale 163"/>
            <p:cNvSpPr/>
            <p:nvPr/>
          </p:nvSpPr>
          <p:spPr>
            <a:xfrm>
              <a:off x="777888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r>
                <a:rPr b="1" lang="it-IT" sz="1000" spc="-1" strike="noStrike">
                  <a:solidFill>
                    <a:srgbClr val="002060"/>
                  </a:solidFill>
                  <a:latin typeface="Times New Roman"/>
                </a:rPr>
                <a:t>OUT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32" name="Ovale 164"/>
            <p:cNvSpPr/>
            <p:nvPr/>
          </p:nvSpPr>
          <p:spPr>
            <a:xfrm>
              <a:off x="662616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17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233" name="Connettore 7 165"/>
            <p:cNvCxnSpPr>
              <a:stCxn id="1226" idx="7"/>
              <a:endCxn id="1227" idx="1"/>
            </p:cNvCxnSpPr>
            <p:nvPr/>
          </p:nvCxnSpPr>
          <p:spPr>
            <a:xfrm flipH="1" flipV="1" rot="5400000">
              <a:off x="1983240" y="4492080"/>
              <a:ext cx="13320" cy="781560"/>
            </a:xfrm>
            <a:prstGeom prst="curvedConnector5">
              <a:avLst>
                <a:gd name="adj1" fmla="val 811111"/>
                <a:gd name="adj2" fmla="val 50000"/>
                <a:gd name="adj3" fmla="val 811111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4" name="Connettore 7 166"/>
            <p:cNvCxnSpPr>
              <a:stCxn id="1227" idx="3"/>
              <a:endCxn id="1226" idx="5"/>
            </p:cNvCxnSpPr>
            <p:nvPr/>
          </p:nvCxnSpPr>
          <p:spPr>
            <a:xfrm rot="5400000">
              <a:off x="1983600" y="479736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5" name="Connettore 7 167"/>
            <p:cNvCxnSpPr/>
            <p:nvPr/>
          </p:nvCxnSpPr>
          <p:spPr>
            <a:xfrm flipH="1" flipV="1" rot="5400000">
              <a:off x="3059640" y="450504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6" name="Connettore 7 168"/>
            <p:cNvCxnSpPr/>
            <p:nvPr/>
          </p:nvCxnSpPr>
          <p:spPr>
            <a:xfrm rot="5400000">
              <a:off x="3060000" y="481032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7" name="Connettore 7 169"/>
            <p:cNvCxnSpPr/>
            <p:nvPr/>
          </p:nvCxnSpPr>
          <p:spPr>
            <a:xfrm flipH="1" flipV="1" rot="5400000">
              <a:off x="4141440" y="4498920"/>
              <a:ext cx="13320" cy="778320"/>
            </a:xfrm>
            <a:prstGeom prst="curvedConnector5">
              <a:avLst>
                <a:gd name="adj1" fmla="val 1152777"/>
                <a:gd name="adj2" fmla="val 49976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8" name="Connettore 7 170"/>
            <p:cNvCxnSpPr/>
            <p:nvPr/>
          </p:nvCxnSpPr>
          <p:spPr>
            <a:xfrm rot="5400000">
              <a:off x="4141080" y="4803840"/>
              <a:ext cx="13320" cy="778320"/>
            </a:xfrm>
            <a:prstGeom prst="curvedConnector5">
              <a:avLst>
                <a:gd name="adj1" fmla="val 1152777"/>
                <a:gd name="adj2" fmla="val 49976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9" name="Connettore 7 171"/>
            <p:cNvCxnSpPr/>
            <p:nvPr/>
          </p:nvCxnSpPr>
          <p:spPr>
            <a:xfrm flipH="1" flipV="1" rot="5400000">
              <a:off x="5213880" y="449856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0" name="Connettore 7 172"/>
            <p:cNvCxnSpPr/>
            <p:nvPr/>
          </p:nvCxnSpPr>
          <p:spPr>
            <a:xfrm rot="5400000">
              <a:off x="5214240" y="480384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1" name="Connettore 7 173"/>
            <p:cNvCxnSpPr/>
            <p:nvPr/>
          </p:nvCxnSpPr>
          <p:spPr>
            <a:xfrm flipH="1" flipV="1" rot="5400000">
              <a:off x="6288480" y="449856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2" name="Connettore 7 174"/>
            <p:cNvCxnSpPr/>
            <p:nvPr/>
          </p:nvCxnSpPr>
          <p:spPr>
            <a:xfrm rot="5400000">
              <a:off x="6288840" y="480384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3" name="Connettore 2 175"/>
            <p:cNvCxnSpPr>
              <a:stCxn id="1232" idx="6"/>
              <a:endCxn id="1231" idx="2"/>
            </p:cNvCxnSpPr>
            <p:nvPr/>
          </p:nvCxnSpPr>
          <p:spPr>
            <a:xfrm>
              <a:off x="7058160" y="5035320"/>
              <a:ext cx="721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4" name="Connettore 2 176"/>
            <p:cNvCxnSpPr>
              <a:stCxn id="1213" idx="0"/>
              <a:endCxn id="1206" idx="2"/>
            </p:cNvCxnSpPr>
            <p:nvPr/>
          </p:nvCxnSpPr>
          <p:spPr>
            <a:xfrm flipV="1">
              <a:off x="900000" y="3378960"/>
              <a:ext cx="288000" cy="562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5" name="Connettore 2 177"/>
            <p:cNvCxnSpPr>
              <a:stCxn id="1213" idx="4"/>
              <a:endCxn id="1226" idx="1"/>
            </p:cNvCxnSpPr>
            <p:nvPr/>
          </p:nvCxnSpPr>
          <p:spPr>
            <a:xfrm>
              <a:off x="900000" y="4373280"/>
              <a:ext cx="389520" cy="510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6" name="Connettore 2 178"/>
            <p:cNvCxnSpPr>
              <a:stCxn id="1232" idx="7"/>
              <a:endCxn id="1214" idx="3"/>
            </p:cNvCxnSpPr>
            <p:nvPr/>
          </p:nvCxnSpPr>
          <p:spPr>
            <a:xfrm flipV="1">
              <a:off x="6994080" y="4324320"/>
              <a:ext cx="1168920" cy="559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7" name="Connettore 2 179"/>
            <p:cNvCxnSpPr>
              <a:stCxn id="1212" idx="5"/>
              <a:endCxn id="1214" idx="0"/>
            </p:cNvCxnSpPr>
            <p:nvPr/>
          </p:nvCxnSpPr>
          <p:spPr>
            <a:xfrm>
              <a:off x="6956280" y="3531960"/>
              <a:ext cx="1360800" cy="424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8" name="Connettore 2 180"/>
            <p:cNvCxnSpPr>
              <a:stCxn id="1206" idx="4"/>
              <a:endCxn id="1214" idx="1"/>
            </p:cNvCxnSpPr>
            <p:nvPr/>
          </p:nvCxnSpPr>
          <p:spPr>
            <a:xfrm>
              <a:off x="1403280" y="3595320"/>
              <a:ext cx="6760080" cy="424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9" name="Connettore 2 181"/>
            <p:cNvCxnSpPr>
              <a:stCxn id="1226" idx="0"/>
              <a:endCxn id="1214" idx="2"/>
            </p:cNvCxnSpPr>
            <p:nvPr/>
          </p:nvCxnSpPr>
          <p:spPr>
            <a:xfrm flipV="1">
              <a:off x="1441080" y="4171320"/>
              <a:ext cx="6660360" cy="64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250" name="CasellaDiTesto 150"/>
            <p:cNvSpPr/>
            <p:nvPr/>
          </p:nvSpPr>
          <p:spPr>
            <a:xfrm>
              <a:off x="696240" y="345132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51" name="CasellaDiTesto 151"/>
            <p:cNvSpPr/>
            <p:nvPr/>
          </p:nvSpPr>
          <p:spPr>
            <a:xfrm>
              <a:off x="767160" y="44913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52" name="CasellaDiTesto 153"/>
            <p:cNvSpPr/>
            <p:nvPr/>
          </p:nvSpPr>
          <p:spPr>
            <a:xfrm>
              <a:off x="2889000" y="374328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β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53" name="CasellaDiTesto 154"/>
            <p:cNvSpPr/>
            <p:nvPr/>
          </p:nvSpPr>
          <p:spPr>
            <a:xfrm>
              <a:off x="7534080" y="3441600"/>
              <a:ext cx="35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γ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54" name="CasellaDiTesto 155"/>
            <p:cNvSpPr/>
            <p:nvPr/>
          </p:nvSpPr>
          <p:spPr>
            <a:xfrm>
              <a:off x="3403440" y="420696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Times New Roman"/>
                </a:rPr>
                <a:t>β</a:t>
              </a:r>
              <a:r>
                <a:rPr b="1" lang="it-IT" sz="10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55" name="CasellaDiTesto 156"/>
            <p:cNvSpPr/>
            <p:nvPr/>
          </p:nvSpPr>
          <p:spPr>
            <a:xfrm>
              <a:off x="7848000" y="4388040"/>
              <a:ext cx="34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Times New Roman"/>
                </a:rPr>
                <a:t>γ</a:t>
              </a:r>
              <a:r>
                <a:rPr b="1" lang="it-IT" sz="10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256" name="Connettore 2 188"/>
            <p:cNvCxnSpPr>
              <a:stCxn id="1228" idx="1"/>
              <a:endCxn id="1208" idx="3"/>
            </p:cNvCxnSpPr>
            <p:nvPr/>
          </p:nvCxnSpPr>
          <p:spPr>
            <a:xfrm flipH="1" flipV="1">
              <a:off x="5571360" y="3531600"/>
              <a:ext cx="37080" cy="1351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</p:cxnSp>
        <p:cxnSp>
          <p:nvCxnSpPr>
            <p:cNvPr id="1257" name="Connettore 2 189"/>
            <p:cNvCxnSpPr/>
            <p:nvPr/>
          </p:nvCxnSpPr>
          <p:spPr>
            <a:xfrm flipH="1" flipV="1">
              <a:off x="6682680" y="3507480"/>
              <a:ext cx="37080" cy="1351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</p:cxnSp>
        <p:cxnSp>
          <p:nvCxnSpPr>
            <p:cNvPr id="1258" name="Connettore 2 190"/>
            <p:cNvCxnSpPr>
              <a:stCxn id="1208" idx="5"/>
              <a:endCxn id="1228" idx="7"/>
            </p:cNvCxnSpPr>
            <p:nvPr/>
          </p:nvCxnSpPr>
          <p:spPr>
            <a:xfrm>
              <a:off x="5876640" y="3531960"/>
              <a:ext cx="38520" cy="1351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</p:cxnSp>
        <p:cxnSp>
          <p:nvCxnSpPr>
            <p:cNvPr id="1259" name="Connettore 2 191"/>
            <p:cNvCxnSpPr/>
            <p:nvPr/>
          </p:nvCxnSpPr>
          <p:spPr>
            <a:xfrm>
              <a:off x="6981480" y="3557160"/>
              <a:ext cx="38520" cy="1351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</p:cxnSp>
        <p:cxnSp>
          <p:nvCxnSpPr>
            <p:cNvPr id="1260" name="Connettore 7 192"/>
            <p:cNvCxnSpPr/>
            <p:nvPr/>
          </p:nvCxnSpPr>
          <p:spPr>
            <a:xfrm flipH="1" flipV="1" rot="5400000">
              <a:off x="1987200" y="426996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cxnSp>
          <p:nvCxnSpPr>
            <p:cNvPr id="1261" name="Connettore 7 193"/>
            <p:cNvCxnSpPr/>
            <p:nvPr/>
          </p:nvCxnSpPr>
          <p:spPr>
            <a:xfrm flipH="1" flipV="1" rot="5400000">
              <a:off x="1971360" y="260460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cxnSp>
          <p:nvCxnSpPr>
            <p:cNvPr id="1262" name="Connettore 7 194"/>
            <p:cNvCxnSpPr>
              <a:stCxn id="1207" idx="4"/>
              <a:endCxn id="1206" idx="4"/>
            </p:cNvCxnSpPr>
            <p:nvPr/>
          </p:nvCxnSpPr>
          <p:spPr>
            <a:xfrm rot="5400000">
              <a:off x="1945800" y="305244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cxnSp>
          <p:nvCxnSpPr>
            <p:cNvPr id="1263" name="Connettore 7 195"/>
            <p:cNvCxnSpPr/>
            <p:nvPr/>
          </p:nvCxnSpPr>
          <p:spPr>
            <a:xfrm rot="5400000">
              <a:off x="1983960" y="473400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</p:grpSp>
      <p:sp>
        <p:nvSpPr>
          <p:cNvPr id="1264" name="Ovale 196"/>
          <p:cNvSpPr/>
          <p:nvPr/>
        </p:nvSpPr>
        <p:spPr>
          <a:xfrm>
            <a:off x="5148360" y="2948040"/>
            <a:ext cx="2193840" cy="264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65" name="Rectangle 13"/>
          <p:cNvSpPr/>
          <p:nvPr/>
        </p:nvSpPr>
        <p:spPr>
          <a:xfrm>
            <a:off x="324000" y="5732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Aircraft ordering problem between A and B on the common glide path (resource 15) : Longitudinal and diagonal distances have to be respected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66" name="Rettangolo 116"/>
          <p:cNvSpPr/>
          <p:nvPr/>
        </p:nvSpPr>
        <p:spPr>
          <a:xfrm>
            <a:off x="506880" y="1773360"/>
            <a:ext cx="202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Potential conflict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on resource 15 !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6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01DC-D9CF-4BAF-A69A-5CF5E011410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3516"/>
          <p:cNvSpPr/>
          <p:nvPr/>
        </p:nvSpPr>
        <p:spPr>
          <a:xfrm>
            <a:off x="6588720" y="69840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69" name="Rectangle 3517"/>
          <p:cNvSpPr/>
          <p:nvPr/>
        </p:nvSpPr>
        <p:spPr>
          <a:xfrm>
            <a:off x="7598160" y="87804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0" name="Rectangle 3518"/>
          <p:cNvSpPr/>
          <p:nvPr/>
        </p:nvSpPr>
        <p:spPr>
          <a:xfrm>
            <a:off x="3468600" y="73188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1" name="Rectangle 3519"/>
          <p:cNvSpPr/>
          <p:nvPr/>
        </p:nvSpPr>
        <p:spPr>
          <a:xfrm>
            <a:off x="5276880" y="74628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2" name="Rectangle 3520"/>
          <p:cNvSpPr/>
          <p:nvPr/>
        </p:nvSpPr>
        <p:spPr>
          <a:xfrm>
            <a:off x="4908600" y="14763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3" name="Rectangle 3522"/>
          <p:cNvSpPr/>
          <p:nvPr/>
        </p:nvSpPr>
        <p:spPr>
          <a:xfrm>
            <a:off x="4089240" y="24796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4" name="AutoShape 3525"/>
          <p:cNvSpPr/>
          <p:nvPr/>
        </p:nvSpPr>
        <p:spPr>
          <a:xfrm>
            <a:off x="4883040" y="12207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5" name="AutoShape 3526"/>
          <p:cNvSpPr/>
          <p:nvPr/>
        </p:nvSpPr>
        <p:spPr>
          <a:xfrm>
            <a:off x="4865760" y="23986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6" name="Line 3543"/>
          <p:cNvSpPr/>
          <p:nvPr/>
        </p:nvSpPr>
        <p:spPr>
          <a:xfrm flipV="1">
            <a:off x="7628040" y="145548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7" name="Rectangle 3544"/>
          <p:cNvSpPr/>
          <p:nvPr/>
        </p:nvSpPr>
        <p:spPr>
          <a:xfrm>
            <a:off x="7672320" y="145584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8" name="Rectangle 3545"/>
          <p:cNvSpPr/>
          <p:nvPr/>
        </p:nvSpPr>
        <p:spPr>
          <a:xfrm>
            <a:off x="7666200" y="2360520"/>
            <a:ext cx="3729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279" name="Group 3554"/>
          <p:cNvGrpSpPr/>
          <p:nvPr/>
        </p:nvGrpSpPr>
        <p:grpSpPr>
          <a:xfrm>
            <a:off x="3619800" y="2398680"/>
            <a:ext cx="535680" cy="617760"/>
            <a:chOff x="3619800" y="2398680"/>
            <a:chExt cx="535680" cy="617760"/>
          </a:xfrm>
        </p:grpSpPr>
        <p:sp>
          <p:nvSpPr>
            <p:cNvPr id="1280" name="Oval 3555"/>
            <p:cNvSpPr/>
            <p:nvPr/>
          </p:nvSpPr>
          <p:spPr>
            <a:xfrm>
              <a:off x="3716640" y="23986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81" name="Text Box 3556"/>
            <p:cNvSpPr/>
            <p:nvPr/>
          </p:nvSpPr>
          <p:spPr>
            <a:xfrm>
              <a:off x="3619800" y="27093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82" name="Line 3557"/>
            <p:cNvSpPr/>
            <p:nvPr/>
          </p:nvSpPr>
          <p:spPr>
            <a:xfrm>
              <a:off x="3821040" y="26445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283" name="Group 3558"/>
          <p:cNvGrpSpPr/>
          <p:nvPr/>
        </p:nvGrpSpPr>
        <p:grpSpPr>
          <a:xfrm>
            <a:off x="3645000" y="1203480"/>
            <a:ext cx="566280" cy="812880"/>
            <a:chOff x="3645000" y="1203480"/>
            <a:chExt cx="566280" cy="812880"/>
          </a:xfrm>
        </p:grpSpPr>
        <p:sp>
          <p:nvSpPr>
            <p:cNvPr id="1284" name="Oval 3559"/>
            <p:cNvSpPr/>
            <p:nvPr/>
          </p:nvSpPr>
          <p:spPr>
            <a:xfrm>
              <a:off x="3706560" y="1203480"/>
              <a:ext cx="299880" cy="247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85" name="Text Box 3560"/>
            <p:cNvSpPr/>
            <p:nvPr/>
          </p:nvSpPr>
          <p:spPr>
            <a:xfrm>
              <a:off x="3645000" y="149616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86" name="Line 3561"/>
            <p:cNvSpPr/>
            <p:nvPr/>
          </p:nvSpPr>
          <p:spPr>
            <a:xfrm>
              <a:off x="3818520" y="14508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287" name="Group 3562"/>
          <p:cNvGrpSpPr/>
          <p:nvPr/>
        </p:nvGrpSpPr>
        <p:grpSpPr>
          <a:xfrm>
            <a:off x="3598200" y="1820880"/>
            <a:ext cx="595080" cy="615600"/>
            <a:chOff x="3598200" y="1820880"/>
            <a:chExt cx="595080" cy="615600"/>
          </a:xfrm>
        </p:grpSpPr>
        <p:sp>
          <p:nvSpPr>
            <p:cNvPr id="1288" name="Text Box 3563"/>
            <p:cNvSpPr/>
            <p:nvPr/>
          </p:nvSpPr>
          <p:spPr>
            <a:xfrm>
              <a:off x="3598200" y="21294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89" name="Oval 3564"/>
            <p:cNvSpPr/>
            <p:nvPr/>
          </p:nvSpPr>
          <p:spPr>
            <a:xfrm>
              <a:off x="3707280" y="1820880"/>
              <a:ext cx="299160" cy="24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90" name="Line 3565"/>
            <p:cNvSpPr/>
            <p:nvPr/>
          </p:nvSpPr>
          <p:spPr>
            <a:xfrm>
              <a:off x="3818880" y="20660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291" name="Line 3572"/>
          <p:cNvSpPr/>
          <p:nvPr/>
        </p:nvSpPr>
        <p:spPr>
          <a:xfrm>
            <a:off x="8040600" y="242424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2" name="Rectangle 3522"/>
          <p:cNvSpPr/>
          <p:nvPr/>
        </p:nvSpPr>
        <p:spPr>
          <a:xfrm>
            <a:off x="4089240" y="1868400"/>
            <a:ext cx="73836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3" name="Rectangle 3522"/>
          <p:cNvSpPr/>
          <p:nvPr/>
        </p:nvSpPr>
        <p:spPr>
          <a:xfrm>
            <a:off x="4089240" y="12715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4" name="AutoShape 3525"/>
          <p:cNvSpPr/>
          <p:nvPr/>
        </p:nvSpPr>
        <p:spPr>
          <a:xfrm>
            <a:off x="4883040" y="182412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5" name="Rectangle 3522"/>
          <p:cNvSpPr/>
          <p:nvPr/>
        </p:nvSpPr>
        <p:spPr>
          <a:xfrm>
            <a:off x="5127480" y="12715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6" name="Rectangle 3522"/>
          <p:cNvSpPr/>
          <p:nvPr/>
        </p:nvSpPr>
        <p:spPr>
          <a:xfrm>
            <a:off x="5127480" y="1874880"/>
            <a:ext cx="13766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7" name="Rectangle 3522"/>
          <p:cNvSpPr/>
          <p:nvPr/>
        </p:nvSpPr>
        <p:spPr>
          <a:xfrm>
            <a:off x="5127480" y="24685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8" name="AutoShape 3525"/>
          <p:cNvSpPr/>
          <p:nvPr/>
        </p:nvSpPr>
        <p:spPr>
          <a:xfrm>
            <a:off x="5899320" y="2416320"/>
            <a:ext cx="185400" cy="204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9" name="AutoShape 3525"/>
          <p:cNvSpPr/>
          <p:nvPr/>
        </p:nvSpPr>
        <p:spPr>
          <a:xfrm>
            <a:off x="5899320" y="1220760"/>
            <a:ext cx="1854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0" name="AutoShape 3525"/>
          <p:cNvSpPr/>
          <p:nvPr/>
        </p:nvSpPr>
        <p:spPr>
          <a:xfrm>
            <a:off x="6550200" y="18176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1" name="AutoShape 3527"/>
          <p:cNvSpPr/>
          <p:nvPr/>
        </p:nvSpPr>
        <p:spPr>
          <a:xfrm rot="5400000">
            <a:off x="6019200" y="13460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2" name="AutoShape 3527"/>
          <p:cNvSpPr/>
          <p:nvPr/>
        </p:nvSpPr>
        <p:spPr>
          <a:xfrm flipH="1" rot="16200000">
            <a:off x="6010200" y="214452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3" name="Rectangle 3522"/>
          <p:cNvSpPr/>
          <p:nvPr/>
        </p:nvSpPr>
        <p:spPr>
          <a:xfrm>
            <a:off x="6777000" y="1868400"/>
            <a:ext cx="73836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4" name="Line 3572"/>
          <p:cNvSpPr/>
          <p:nvPr/>
        </p:nvSpPr>
        <p:spPr>
          <a:xfrm>
            <a:off x="8039160" y="1511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5" name="AutoShape 3527"/>
          <p:cNvSpPr/>
          <p:nvPr/>
        </p:nvSpPr>
        <p:spPr>
          <a:xfrm rot="4098000">
            <a:off x="4106160" y="1381680"/>
            <a:ext cx="706320" cy="504720"/>
          </a:xfrm>
          <a:prstGeom prst="parallelogram">
            <a:avLst>
              <a:gd name="adj" fmla="val 111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6" name="AutoShape 3527"/>
          <p:cNvSpPr/>
          <p:nvPr/>
        </p:nvSpPr>
        <p:spPr>
          <a:xfrm rot="4098000">
            <a:off x="4096080" y="1985760"/>
            <a:ext cx="726840" cy="511200"/>
          </a:xfrm>
          <a:prstGeom prst="parallelogram">
            <a:avLst>
              <a:gd name="adj" fmla="val 1107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7" name="CasellaDiTesto 101"/>
          <p:cNvSpPr/>
          <p:nvPr/>
        </p:nvSpPr>
        <p:spPr>
          <a:xfrm>
            <a:off x="4343040" y="21272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8" name="CasellaDiTesto 102"/>
          <p:cNvSpPr/>
          <p:nvPr/>
        </p:nvSpPr>
        <p:spPr>
          <a:xfrm>
            <a:off x="4376160" y="1527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9" name="CasellaDiTesto 103"/>
          <p:cNvSpPr/>
          <p:nvPr/>
        </p:nvSpPr>
        <p:spPr>
          <a:xfrm>
            <a:off x="6179040" y="141768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0" name="CasellaDiTesto 104"/>
          <p:cNvSpPr/>
          <p:nvPr/>
        </p:nvSpPr>
        <p:spPr>
          <a:xfrm>
            <a:off x="6128280" y="220356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1" name="Text Box 3394"/>
          <p:cNvSpPr/>
          <p:nvPr/>
        </p:nvSpPr>
        <p:spPr>
          <a:xfrm>
            <a:off x="7635240" y="16286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2" name="Text Box 3394"/>
          <p:cNvSpPr/>
          <p:nvPr/>
        </p:nvSpPr>
        <p:spPr>
          <a:xfrm>
            <a:off x="7645320" y="25574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3" name="CasellaDiTesto 102"/>
          <p:cNvSpPr/>
          <p:nvPr/>
        </p:nvSpPr>
        <p:spPr>
          <a:xfrm>
            <a:off x="4855680" y="15127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4" name="Freeform 165"/>
          <p:cNvSpPr/>
          <p:nvPr/>
        </p:nvSpPr>
        <p:spPr>
          <a:xfrm>
            <a:off x="3720960" y="2136600"/>
            <a:ext cx="4589640" cy="555840"/>
          </a:xfrm>
          <a:custGeom>
            <a:avLst/>
            <a:gdLst>
              <a:gd name="textAreaLeft" fmla="*/ 0 w 4589640"/>
              <a:gd name="textAreaRight" fmla="*/ 4590000 w 45896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4153" h="502">
                <a:moveTo>
                  <a:pt x="0" y="502"/>
                </a:moveTo>
                <a:lnTo>
                  <a:pt x="2426" y="494"/>
                </a:lnTo>
                <a:lnTo>
                  <a:pt x="2663" y="0"/>
                </a:lnTo>
                <a:lnTo>
                  <a:pt x="3395" y="0"/>
                </a:lnTo>
                <a:lnTo>
                  <a:pt x="3505" y="375"/>
                </a:lnTo>
                <a:lnTo>
                  <a:pt x="4153" y="375"/>
                </a:lnTo>
              </a:path>
            </a:pathLst>
          </a:custGeom>
          <a:noFill/>
          <a:ln w="936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5" name="Freeform 166"/>
          <p:cNvSpPr/>
          <p:nvPr/>
        </p:nvSpPr>
        <p:spPr>
          <a:xfrm>
            <a:off x="3720960" y="1158840"/>
            <a:ext cx="4577040" cy="55404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4141" h="502">
                <a:moveTo>
                  <a:pt x="0" y="0"/>
                </a:moveTo>
                <a:lnTo>
                  <a:pt x="2426" y="8"/>
                </a:lnTo>
                <a:lnTo>
                  <a:pt x="2663" y="502"/>
                </a:lnTo>
                <a:lnTo>
                  <a:pt x="3395" y="502"/>
                </a:lnTo>
                <a:lnTo>
                  <a:pt x="3514" y="145"/>
                </a:lnTo>
                <a:lnTo>
                  <a:pt x="4141" y="14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6" name="Line 167"/>
          <p:cNvSpPr/>
          <p:nvPr/>
        </p:nvSpPr>
        <p:spPr>
          <a:xfrm flipV="1">
            <a:off x="7201080" y="2152440"/>
            <a:ext cx="1117440" cy="291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7" name="Rectangle 168"/>
          <p:cNvSpPr/>
          <p:nvPr/>
        </p:nvSpPr>
        <p:spPr>
          <a:xfrm>
            <a:off x="8298000" y="110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8" name="Rectangle 169"/>
          <p:cNvSpPr/>
          <p:nvPr/>
        </p:nvSpPr>
        <p:spPr>
          <a:xfrm>
            <a:off x="3421440" y="958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9" name="Rectangle 170"/>
          <p:cNvSpPr/>
          <p:nvPr/>
        </p:nvSpPr>
        <p:spPr>
          <a:xfrm>
            <a:off x="8307720" y="2325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0" name="Rectangle 171"/>
          <p:cNvSpPr/>
          <p:nvPr/>
        </p:nvSpPr>
        <p:spPr>
          <a:xfrm>
            <a:off x="3421440" y="254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1" name="Rectangle 172"/>
          <p:cNvSpPr/>
          <p:nvPr/>
        </p:nvSpPr>
        <p:spPr>
          <a:xfrm>
            <a:off x="8294760" y="1981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2" name="Rectangle 173"/>
          <p:cNvSpPr/>
          <p:nvPr/>
        </p:nvSpPr>
        <p:spPr>
          <a:xfrm>
            <a:off x="6936120" y="2392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3" name="Titolo 26"/>
          <p:cNvSpPr/>
          <p:nvPr/>
        </p:nvSpPr>
        <p:spPr>
          <a:xfrm>
            <a:off x="250920" y="4762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324" name="Gruppo 127"/>
          <p:cNvGrpSpPr/>
          <p:nvPr/>
        </p:nvGrpSpPr>
        <p:grpSpPr>
          <a:xfrm>
            <a:off x="455400" y="2825280"/>
            <a:ext cx="8077320" cy="3639960"/>
            <a:chOff x="455400" y="2825280"/>
            <a:chExt cx="8077320" cy="3639960"/>
          </a:xfrm>
        </p:grpSpPr>
        <p:grpSp>
          <p:nvGrpSpPr>
            <p:cNvPr id="1325" name="Gruppo 128"/>
            <p:cNvGrpSpPr/>
            <p:nvPr/>
          </p:nvGrpSpPr>
          <p:grpSpPr>
            <a:xfrm>
              <a:off x="684360" y="2825280"/>
              <a:ext cx="7848360" cy="2583000"/>
              <a:chOff x="684360" y="2825280"/>
              <a:chExt cx="7848360" cy="2583000"/>
            </a:xfrm>
          </p:grpSpPr>
          <p:sp>
            <p:nvSpPr>
              <p:cNvPr id="1326" name="Ovale 138"/>
              <p:cNvSpPr/>
              <p:nvPr/>
            </p:nvSpPr>
            <p:spPr>
              <a:xfrm>
                <a:off x="118728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1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27" name="Ovale 139"/>
              <p:cNvSpPr/>
              <p:nvPr/>
            </p:nvSpPr>
            <p:spPr>
              <a:xfrm>
                <a:off x="227340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4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28" name="Ovale 140"/>
              <p:cNvSpPr/>
              <p:nvPr/>
            </p:nvSpPr>
            <p:spPr>
              <a:xfrm>
                <a:off x="550872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15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29" name="Ovale 141"/>
              <p:cNvSpPr/>
              <p:nvPr/>
            </p:nvSpPr>
            <p:spPr>
              <a:xfrm>
                <a:off x="335448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10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30" name="Ovale 142"/>
              <p:cNvSpPr/>
              <p:nvPr/>
            </p:nvSpPr>
            <p:spPr>
              <a:xfrm>
                <a:off x="442764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13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31" name="Ovale 143"/>
              <p:cNvSpPr/>
              <p:nvPr/>
            </p:nvSpPr>
            <p:spPr>
              <a:xfrm>
                <a:off x="774072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Times New Roman"/>
                  </a:rPr>
                  <a:t>OUT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32" name="Ovale 144"/>
              <p:cNvSpPr/>
              <p:nvPr/>
            </p:nvSpPr>
            <p:spPr>
              <a:xfrm>
                <a:off x="658836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16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33" name="Ovale 145"/>
              <p:cNvSpPr/>
              <p:nvPr/>
            </p:nvSpPr>
            <p:spPr>
              <a:xfrm>
                <a:off x="684360" y="38462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292929"/>
                    </a:solidFill>
                    <a:latin typeface="Times New Roman"/>
                  </a:rPr>
                  <a:t>0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34" name="Ovale 146"/>
              <p:cNvSpPr/>
              <p:nvPr/>
            </p:nvSpPr>
            <p:spPr>
              <a:xfrm>
                <a:off x="8101080" y="3860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292929"/>
                    </a:solidFill>
                    <a:latin typeface="Times New Roman"/>
                  </a:rPr>
                  <a:t>*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cxnSp>
            <p:nvCxnSpPr>
              <p:cNvPr id="1335" name="Connettore 7 147"/>
              <p:cNvCxnSpPr>
                <a:stCxn id="1326" idx="7"/>
                <a:endCxn id="1327" idx="1"/>
              </p:cNvCxnSpPr>
              <p:nvPr/>
            </p:nvCxnSpPr>
            <p:spPr>
              <a:xfrm flipH="1" flipV="1" rot="5400000">
                <a:off x="1945080" y="274068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36" name="Connettore 7 148"/>
              <p:cNvCxnSpPr>
                <a:stCxn id="1327" idx="3"/>
                <a:endCxn id="1326" idx="5"/>
              </p:cNvCxnSpPr>
              <p:nvPr/>
            </p:nvCxnSpPr>
            <p:spPr>
              <a:xfrm rot="5400000">
                <a:off x="1945440" y="3045960"/>
                <a:ext cx="13320" cy="781560"/>
              </a:xfrm>
              <a:prstGeom prst="curvedConnector5">
                <a:avLst>
                  <a:gd name="adj1" fmla="val 697222"/>
                  <a:gd name="adj2" fmla="val 50000"/>
                  <a:gd name="adj3" fmla="val 697222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37" name="Connettore 7 149"/>
              <p:cNvCxnSpPr/>
              <p:nvPr/>
            </p:nvCxnSpPr>
            <p:spPr>
              <a:xfrm flipH="1" flipV="1" rot="5400000">
                <a:off x="3024000" y="2753640"/>
                <a:ext cx="13320" cy="778320"/>
              </a:xfrm>
              <a:prstGeom prst="curvedConnector5">
                <a:avLst>
                  <a:gd name="adj1" fmla="val 1152777"/>
                  <a:gd name="adj2" fmla="val 49976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38" name="Connettore 7 150"/>
              <p:cNvCxnSpPr/>
              <p:nvPr/>
            </p:nvCxnSpPr>
            <p:spPr>
              <a:xfrm rot="5400000">
                <a:off x="3023640" y="3058920"/>
                <a:ext cx="13320" cy="778320"/>
              </a:xfrm>
              <a:prstGeom prst="curvedConnector5">
                <a:avLst>
                  <a:gd name="adj1" fmla="val 1152777"/>
                  <a:gd name="adj2" fmla="val 49976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39" name="Connettore 7 151"/>
              <p:cNvCxnSpPr/>
              <p:nvPr/>
            </p:nvCxnSpPr>
            <p:spPr>
              <a:xfrm flipH="1" flipV="1" rot="5400000">
                <a:off x="4102560" y="274716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0" name="Connettore 7 152"/>
              <p:cNvCxnSpPr/>
              <p:nvPr/>
            </p:nvCxnSpPr>
            <p:spPr>
              <a:xfrm rot="5400000">
                <a:off x="4102920" y="305244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1" name="Connettore 7 153"/>
              <p:cNvCxnSpPr/>
              <p:nvPr/>
            </p:nvCxnSpPr>
            <p:spPr>
              <a:xfrm flipH="1" flipV="1" rot="5400000">
                <a:off x="5178240" y="2749320"/>
                <a:ext cx="13320" cy="78012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2" name="Connettore 7 154"/>
              <p:cNvCxnSpPr/>
              <p:nvPr/>
            </p:nvCxnSpPr>
            <p:spPr>
              <a:xfrm rot="5400000">
                <a:off x="5178600" y="3054600"/>
                <a:ext cx="13320" cy="78012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3" name="Connettore 7 155"/>
              <p:cNvCxnSpPr/>
              <p:nvPr/>
            </p:nvCxnSpPr>
            <p:spPr>
              <a:xfrm flipH="1" flipV="1" rot="5400000">
                <a:off x="6250320" y="274716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4" name="Connettore 7 156"/>
              <p:cNvCxnSpPr/>
              <p:nvPr/>
            </p:nvCxnSpPr>
            <p:spPr>
              <a:xfrm rot="5400000">
                <a:off x="6250680" y="305244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5" name="Connettore 2 157"/>
              <p:cNvCxnSpPr>
                <a:stCxn id="1332" idx="6"/>
                <a:endCxn id="1331" idx="2"/>
              </p:cNvCxnSpPr>
              <p:nvPr/>
            </p:nvCxnSpPr>
            <p:spPr>
              <a:xfrm>
                <a:off x="7020000" y="3283920"/>
                <a:ext cx="7214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sp>
            <p:nvSpPr>
              <p:cNvPr id="1346" name="Ovale 158"/>
              <p:cNvSpPr/>
              <p:nvPr/>
            </p:nvSpPr>
            <p:spPr>
              <a:xfrm>
                <a:off x="122544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3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47" name="Ovale 159"/>
              <p:cNvSpPr/>
              <p:nvPr/>
            </p:nvSpPr>
            <p:spPr>
              <a:xfrm>
                <a:off x="231156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8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48" name="Ovale 160"/>
              <p:cNvSpPr/>
              <p:nvPr/>
            </p:nvSpPr>
            <p:spPr>
              <a:xfrm>
                <a:off x="5545080" y="4724640"/>
                <a:ext cx="43308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15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49" name="Ovale 161"/>
              <p:cNvSpPr/>
              <p:nvPr/>
            </p:nvSpPr>
            <p:spPr>
              <a:xfrm>
                <a:off x="339264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12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50" name="Ovale 162"/>
              <p:cNvSpPr/>
              <p:nvPr/>
            </p:nvSpPr>
            <p:spPr>
              <a:xfrm>
                <a:off x="446580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14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51" name="Ovale 163"/>
              <p:cNvSpPr/>
              <p:nvPr/>
            </p:nvSpPr>
            <p:spPr>
              <a:xfrm>
                <a:off x="777888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</a:t>
                </a:r>
                <a:r>
                  <a:rPr b="1" lang="it-IT" sz="1000" spc="-1" strike="noStrike">
                    <a:solidFill>
                      <a:srgbClr val="002060"/>
                    </a:solidFill>
                    <a:latin typeface="Times New Roman"/>
                  </a:rPr>
                  <a:t>OUT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52" name="Ovale 164"/>
              <p:cNvSpPr/>
              <p:nvPr/>
            </p:nvSpPr>
            <p:spPr>
              <a:xfrm>
                <a:off x="662616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17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cxnSp>
            <p:nvCxnSpPr>
              <p:cNvPr id="1353" name="Connettore 7 165"/>
              <p:cNvCxnSpPr>
                <a:stCxn id="1346" idx="7"/>
                <a:endCxn id="1347" idx="1"/>
              </p:cNvCxnSpPr>
              <p:nvPr/>
            </p:nvCxnSpPr>
            <p:spPr>
              <a:xfrm flipH="1" flipV="1" rot="5400000">
                <a:off x="1983240" y="4396680"/>
                <a:ext cx="13320" cy="781560"/>
              </a:xfrm>
              <a:prstGeom prst="curvedConnector5">
                <a:avLst>
                  <a:gd name="adj1" fmla="val 811111"/>
                  <a:gd name="adj2" fmla="val 50000"/>
                  <a:gd name="adj3" fmla="val 811111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4" name="Connettore 7 166"/>
              <p:cNvCxnSpPr>
                <a:stCxn id="1347" idx="3"/>
                <a:endCxn id="1346" idx="5"/>
              </p:cNvCxnSpPr>
              <p:nvPr/>
            </p:nvCxnSpPr>
            <p:spPr>
              <a:xfrm rot="5400000">
                <a:off x="1983600" y="470196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5" name="Connettore 7 167"/>
              <p:cNvCxnSpPr/>
              <p:nvPr/>
            </p:nvCxnSpPr>
            <p:spPr>
              <a:xfrm flipH="1" flipV="1" rot="5400000">
                <a:off x="3059640" y="440964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6" name="Connettore 7 168"/>
              <p:cNvCxnSpPr/>
              <p:nvPr/>
            </p:nvCxnSpPr>
            <p:spPr>
              <a:xfrm rot="5400000">
                <a:off x="3060000" y="471492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7" name="Connettore 7 169"/>
              <p:cNvCxnSpPr/>
              <p:nvPr/>
            </p:nvCxnSpPr>
            <p:spPr>
              <a:xfrm flipH="1" flipV="1" rot="5400000">
                <a:off x="4141440" y="4403520"/>
                <a:ext cx="13320" cy="778320"/>
              </a:xfrm>
              <a:prstGeom prst="curvedConnector5">
                <a:avLst>
                  <a:gd name="adj1" fmla="val 1152777"/>
                  <a:gd name="adj2" fmla="val 49976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8" name="Connettore 7 170"/>
              <p:cNvCxnSpPr/>
              <p:nvPr/>
            </p:nvCxnSpPr>
            <p:spPr>
              <a:xfrm rot="5400000">
                <a:off x="4141080" y="4708440"/>
                <a:ext cx="13320" cy="778320"/>
              </a:xfrm>
              <a:prstGeom prst="curvedConnector5">
                <a:avLst>
                  <a:gd name="adj1" fmla="val 1152777"/>
                  <a:gd name="adj2" fmla="val 49976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9" name="Connettore 7 171"/>
              <p:cNvCxnSpPr/>
              <p:nvPr/>
            </p:nvCxnSpPr>
            <p:spPr>
              <a:xfrm flipH="1" flipV="1" rot="5400000">
                <a:off x="5213880" y="440316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0" name="Connettore 7 172"/>
              <p:cNvCxnSpPr/>
              <p:nvPr/>
            </p:nvCxnSpPr>
            <p:spPr>
              <a:xfrm rot="5400000">
                <a:off x="5214240" y="470844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1" name="Connettore 7 173"/>
              <p:cNvCxnSpPr/>
              <p:nvPr/>
            </p:nvCxnSpPr>
            <p:spPr>
              <a:xfrm flipH="1" flipV="1" rot="5400000">
                <a:off x="6288480" y="440316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2" name="Connettore 7 174"/>
              <p:cNvCxnSpPr/>
              <p:nvPr/>
            </p:nvCxnSpPr>
            <p:spPr>
              <a:xfrm rot="5400000">
                <a:off x="6288840" y="470844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3" name="Connettore 2 175"/>
              <p:cNvCxnSpPr>
                <a:stCxn id="1352" idx="6"/>
                <a:endCxn id="1351" idx="2"/>
              </p:cNvCxnSpPr>
              <p:nvPr/>
            </p:nvCxnSpPr>
            <p:spPr>
              <a:xfrm>
                <a:off x="7058160" y="4939920"/>
                <a:ext cx="7214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4" name="Connettore 2 176"/>
              <p:cNvCxnSpPr>
                <a:stCxn id="1333" idx="0"/>
                <a:endCxn id="1326" idx="2"/>
              </p:cNvCxnSpPr>
              <p:nvPr/>
            </p:nvCxnSpPr>
            <p:spPr>
              <a:xfrm flipV="1">
                <a:off x="900000" y="3283560"/>
                <a:ext cx="288000" cy="562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5" name="Connettore 2 177"/>
              <p:cNvCxnSpPr>
                <a:stCxn id="1333" idx="4"/>
                <a:endCxn id="1346" idx="1"/>
              </p:cNvCxnSpPr>
              <p:nvPr/>
            </p:nvCxnSpPr>
            <p:spPr>
              <a:xfrm>
                <a:off x="900000" y="4277880"/>
                <a:ext cx="389520" cy="510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6" name="Connettore 2 178"/>
              <p:cNvCxnSpPr>
                <a:stCxn id="1352" idx="7"/>
                <a:endCxn id="1334" idx="3"/>
              </p:cNvCxnSpPr>
              <p:nvPr/>
            </p:nvCxnSpPr>
            <p:spPr>
              <a:xfrm flipV="1">
                <a:off x="6994080" y="4228920"/>
                <a:ext cx="1168920" cy="559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7" name="Connettore 2 179"/>
              <p:cNvCxnSpPr>
                <a:stCxn id="1332" idx="5"/>
                <a:endCxn id="1334" idx="0"/>
              </p:cNvCxnSpPr>
              <p:nvPr/>
            </p:nvCxnSpPr>
            <p:spPr>
              <a:xfrm>
                <a:off x="6956280" y="3436560"/>
                <a:ext cx="1360800" cy="424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8" name="Connettore 2 180"/>
              <p:cNvCxnSpPr>
                <a:stCxn id="1326" idx="4"/>
                <a:endCxn id="1334" idx="1"/>
              </p:cNvCxnSpPr>
              <p:nvPr/>
            </p:nvCxnSpPr>
            <p:spPr>
              <a:xfrm>
                <a:off x="1403280" y="3499920"/>
                <a:ext cx="6760080" cy="424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69" name="Connettore 2 181"/>
              <p:cNvCxnSpPr>
                <a:stCxn id="1346" idx="0"/>
                <a:endCxn id="1334" idx="2"/>
              </p:cNvCxnSpPr>
              <p:nvPr/>
            </p:nvCxnSpPr>
            <p:spPr>
              <a:xfrm flipV="1">
                <a:off x="1441080" y="4075920"/>
                <a:ext cx="6660360" cy="648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sp>
            <p:nvSpPr>
              <p:cNvPr id="1370" name="CasellaDiTesto 150"/>
              <p:cNvSpPr/>
              <p:nvPr/>
            </p:nvSpPr>
            <p:spPr>
              <a:xfrm>
                <a:off x="696240" y="3355920"/>
                <a:ext cx="37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00"/>
                    </a:solidFill>
                    <a:latin typeface="Times New Roman"/>
                  </a:rPr>
                  <a:t>α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71" name="CasellaDiTesto 151"/>
              <p:cNvSpPr/>
              <p:nvPr/>
            </p:nvSpPr>
            <p:spPr>
              <a:xfrm>
                <a:off x="767160" y="439596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2060"/>
                    </a:solidFill>
                    <a:latin typeface="Times New Roman"/>
                  </a:rPr>
                  <a:t>α</a:t>
                </a:r>
                <a:r>
                  <a:rPr b="1" lang="it-IT" sz="1000" spc="-1" strike="noStrike">
                    <a:solidFill>
                      <a:srgbClr val="002060"/>
                    </a:solidFill>
                    <a:latin typeface="Times New Roman"/>
                  </a:rPr>
                  <a:t>B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72" name="CasellaDiTesto 153"/>
              <p:cNvSpPr/>
              <p:nvPr/>
            </p:nvSpPr>
            <p:spPr>
              <a:xfrm>
                <a:off x="2889000" y="3647880"/>
                <a:ext cx="36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00"/>
                    </a:solidFill>
                    <a:latin typeface="Times New Roman"/>
                  </a:rPr>
                  <a:t>β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73" name="CasellaDiTesto 154"/>
              <p:cNvSpPr/>
              <p:nvPr/>
            </p:nvSpPr>
            <p:spPr>
              <a:xfrm>
                <a:off x="7534080" y="3346200"/>
                <a:ext cx="356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00"/>
                    </a:solidFill>
                    <a:latin typeface="Times New Roman"/>
                  </a:rPr>
                  <a:t>γ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74" name="CasellaDiTesto 155"/>
              <p:cNvSpPr/>
              <p:nvPr/>
            </p:nvSpPr>
            <p:spPr>
              <a:xfrm>
                <a:off x="3403440" y="411156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2060"/>
                    </a:solidFill>
                    <a:latin typeface="Times New Roman"/>
                  </a:rPr>
                  <a:t>β</a:t>
                </a:r>
                <a:r>
                  <a:rPr b="1" lang="it-IT" sz="1000" spc="-1" strike="noStrike">
                    <a:solidFill>
                      <a:srgbClr val="002060"/>
                    </a:solidFill>
                    <a:latin typeface="Times New Roman"/>
                  </a:rPr>
                  <a:t>B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75" name="CasellaDiTesto 156"/>
              <p:cNvSpPr/>
              <p:nvPr/>
            </p:nvSpPr>
            <p:spPr>
              <a:xfrm>
                <a:off x="7848000" y="4292640"/>
                <a:ext cx="34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2060"/>
                    </a:solidFill>
                    <a:latin typeface="Times New Roman"/>
                  </a:rPr>
                  <a:t>γ</a:t>
                </a:r>
                <a:r>
                  <a:rPr b="1" lang="it-IT" sz="1000" spc="-1" strike="noStrike">
                    <a:solidFill>
                      <a:srgbClr val="002060"/>
                    </a:solidFill>
                    <a:latin typeface="Times New Roman"/>
                  </a:rPr>
                  <a:t>B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cxnSp>
            <p:nvCxnSpPr>
              <p:cNvPr id="1376" name="Connettore 2 188"/>
              <p:cNvCxnSpPr>
                <a:stCxn id="1348" idx="1"/>
                <a:endCxn id="1328" idx="3"/>
              </p:cNvCxnSpPr>
              <p:nvPr/>
            </p:nvCxnSpPr>
            <p:spPr>
              <a:xfrm flipH="1" flipV="1">
                <a:off x="5571360" y="3436200"/>
                <a:ext cx="37080" cy="1351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triangle" w="lg"/>
              </a:ln>
            </p:spPr>
          </p:cxnSp>
          <p:cxnSp>
            <p:nvCxnSpPr>
              <p:cNvPr id="1377" name="Connettore 2 189"/>
              <p:cNvCxnSpPr/>
              <p:nvPr/>
            </p:nvCxnSpPr>
            <p:spPr>
              <a:xfrm flipH="1" flipV="1">
                <a:off x="6682680" y="3412080"/>
                <a:ext cx="37080" cy="1351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triangle" w="lg"/>
              </a:ln>
            </p:spPr>
          </p:cxnSp>
          <p:cxnSp>
            <p:nvCxnSpPr>
              <p:cNvPr id="1378" name="Connettore 2 190"/>
              <p:cNvCxnSpPr>
                <a:stCxn id="1328" idx="5"/>
                <a:endCxn id="1348" idx="7"/>
              </p:cNvCxnSpPr>
              <p:nvPr/>
            </p:nvCxnSpPr>
            <p:spPr>
              <a:xfrm>
                <a:off x="5876640" y="3436560"/>
                <a:ext cx="38520" cy="1351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triangle" w="lg"/>
              </a:ln>
            </p:spPr>
          </p:cxnSp>
          <p:cxnSp>
            <p:nvCxnSpPr>
              <p:cNvPr id="1379" name="Connettore 2 191"/>
              <p:cNvCxnSpPr/>
              <p:nvPr/>
            </p:nvCxnSpPr>
            <p:spPr>
              <a:xfrm>
                <a:off x="6981480" y="3461760"/>
                <a:ext cx="38520" cy="1351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triangle" w="lg"/>
              </a:ln>
            </p:spPr>
          </p:cxnSp>
          <p:cxnSp>
            <p:nvCxnSpPr>
              <p:cNvPr id="1380" name="Connettore 7 192"/>
              <p:cNvCxnSpPr/>
              <p:nvPr/>
            </p:nvCxnSpPr>
            <p:spPr>
              <a:xfrm flipH="1" flipV="1" rot="5400000">
                <a:off x="1987200" y="4174560"/>
                <a:ext cx="13320" cy="1086480"/>
              </a:xfrm>
              <a:prstGeom prst="curvedConnector5">
                <a:avLst>
                  <a:gd name="adj1" fmla="val 1800000"/>
                  <a:gd name="adj2" fmla="val 49983"/>
                  <a:gd name="adj3" fmla="val 1800000"/>
                </a:avLst>
              </a:prstGeom>
              <a:ln w="19080">
                <a:solidFill>
                  <a:srgbClr val="000000"/>
                </a:solidFill>
                <a:prstDash val="dash"/>
                <a:miter/>
                <a:tailEnd len="lg" type="triangle" w="lg"/>
              </a:ln>
            </p:spPr>
          </p:cxnSp>
          <p:cxnSp>
            <p:nvCxnSpPr>
              <p:cNvPr id="1381" name="Connettore 7 193"/>
              <p:cNvCxnSpPr/>
              <p:nvPr/>
            </p:nvCxnSpPr>
            <p:spPr>
              <a:xfrm flipH="1" flipV="1" rot="5400000">
                <a:off x="1971360" y="2509200"/>
                <a:ext cx="13320" cy="1086480"/>
              </a:xfrm>
              <a:prstGeom prst="curvedConnector5">
                <a:avLst>
                  <a:gd name="adj1" fmla="val 1800000"/>
                  <a:gd name="adj2" fmla="val 49983"/>
                  <a:gd name="adj3" fmla="val 1800000"/>
                </a:avLst>
              </a:prstGeom>
              <a:ln w="19080">
                <a:solidFill>
                  <a:srgbClr val="000000"/>
                </a:solidFill>
                <a:prstDash val="dash"/>
                <a:miter/>
                <a:tailEnd len="lg" type="triangle" w="lg"/>
              </a:ln>
            </p:spPr>
          </p:cxnSp>
          <p:cxnSp>
            <p:nvCxnSpPr>
              <p:cNvPr id="1382" name="Connettore 7 194"/>
              <p:cNvCxnSpPr>
                <a:stCxn id="1327" idx="4"/>
                <a:endCxn id="1326" idx="4"/>
              </p:cNvCxnSpPr>
              <p:nvPr/>
            </p:nvCxnSpPr>
            <p:spPr>
              <a:xfrm rot="5400000">
                <a:off x="1945800" y="2957040"/>
                <a:ext cx="13320" cy="1086480"/>
              </a:xfrm>
              <a:prstGeom prst="curvedConnector5">
                <a:avLst>
                  <a:gd name="adj1" fmla="val 1800000"/>
                  <a:gd name="adj2" fmla="val 49983"/>
                  <a:gd name="adj3" fmla="val 1800000"/>
                </a:avLst>
              </a:prstGeom>
              <a:ln w="19080">
                <a:solidFill>
                  <a:srgbClr val="000000"/>
                </a:solidFill>
                <a:prstDash val="dash"/>
                <a:miter/>
                <a:tailEnd len="lg" type="triangle" w="lg"/>
              </a:ln>
            </p:spPr>
          </p:cxnSp>
          <p:cxnSp>
            <p:nvCxnSpPr>
              <p:cNvPr id="1383" name="Connettore 7 195"/>
              <p:cNvCxnSpPr/>
              <p:nvPr/>
            </p:nvCxnSpPr>
            <p:spPr>
              <a:xfrm rot="5400000">
                <a:off x="1983960" y="4638600"/>
                <a:ext cx="13320" cy="1086480"/>
              </a:xfrm>
              <a:prstGeom prst="curvedConnector5">
                <a:avLst>
                  <a:gd name="adj1" fmla="val 1800000"/>
                  <a:gd name="adj2" fmla="val 49983"/>
                  <a:gd name="adj3" fmla="val 1800000"/>
                </a:avLst>
              </a:prstGeom>
              <a:ln w="19080">
                <a:solidFill>
                  <a:srgbClr val="000000"/>
                </a:solidFill>
                <a:prstDash val="dash"/>
                <a:miter/>
                <a:tailEnd len="lg" type="triangle" w="lg"/>
              </a:ln>
            </p:spPr>
          </p:cxnSp>
        </p:grpSp>
        <p:sp>
          <p:nvSpPr>
            <p:cNvPr id="1384" name="Ovale 129"/>
            <p:cNvSpPr/>
            <p:nvPr/>
          </p:nvSpPr>
          <p:spPr>
            <a:xfrm>
              <a:off x="6764400" y="577080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it-IT" sz="1000" spc="-1" strike="noStrike">
                  <a:solidFill>
                    <a:srgbClr val="008000"/>
                  </a:solidFill>
                  <a:latin typeface="Times New Roman"/>
                </a:rPr>
                <a:t>OUT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385" name="Ovale 130"/>
            <p:cNvSpPr/>
            <p:nvPr/>
          </p:nvSpPr>
          <p:spPr>
            <a:xfrm>
              <a:off x="5611680" y="577080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8000"/>
                  </a:solidFill>
                  <a:latin typeface="Times New Roman"/>
                </a:rPr>
                <a:t>C17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386" name="Connettore 2 131"/>
            <p:cNvCxnSpPr>
              <a:stCxn id="1385" idx="6"/>
              <a:endCxn id="1384" idx="2"/>
            </p:cNvCxnSpPr>
            <p:nvPr/>
          </p:nvCxnSpPr>
          <p:spPr>
            <a:xfrm>
              <a:off x="6043680" y="5986080"/>
              <a:ext cx="721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387" name="CasellaDiTesto 122"/>
            <p:cNvSpPr/>
            <p:nvPr/>
          </p:nvSpPr>
          <p:spPr>
            <a:xfrm>
              <a:off x="7495200" y="6158160"/>
              <a:ext cx="35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8000"/>
                  </a:solidFill>
                  <a:latin typeface="Times New Roman"/>
                </a:rPr>
                <a:t>γ</a:t>
              </a:r>
              <a:r>
                <a:rPr b="1" lang="it-IT" sz="10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388" name="CasellaDiTesto 124"/>
            <p:cNvSpPr/>
            <p:nvPr/>
          </p:nvSpPr>
          <p:spPr>
            <a:xfrm>
              <a:off x="1240560" y="551808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800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389" name="Connettore 2 134"/>
            <p:cNvCxnSpPr>
              <a:stCxn id="1352" idx="4"/>
              <a:endCxn id="1385" idx="7"/>
            </p:cNvCxnSpPr>
            <p:nvPr/>
          </p:nvCxnSpPr>
          <p:spPr>
            <a:xfrm flipH="1">
              <a:off x="5979960" y="5155920"/>
              <a:ext cx="862560" cy="6786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ash"/>
              <a:miter/>
              <a:tailEnd len="lg" type="triangle" w="lg"/>
            </a:ln>
          </p:spPr>
        </p:cxnSp>
        <p:cxnSp>
          <p:nvCxnSpPr>
            <p:cNvPr id="1390" name="Connettore 2 135"/>
            <p:cNvCxnSpPr>
              <a:stCxn id="1384" idx="1"/>
              <a:endCxn id="1348" idx="4"/>
            </p:cNvCxnSpPr>
            <p:nvPr/>
          </p:nvCxnSpPr>
          <p:spPr>
            <a:xfrm flipH="1" flipV="1">
              <a:off x="5762160" y="5155560"/>
              <a:ext cx="1065600" cy="6786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ash"/>
              <a:miter/>
              <a:tailEnd len="lg" type="triangle" w="lg"/>
            </a:ln>
          </p:spPr>
        </p:cxnSp>
        <p:cxnSp>
          <p:nvCxnSpPr>
            <p:cNvPr id="1391" name="Connettore 7 136"/>
            <p:cNvCxnSpPr>
              <a:stCxn id="1385" idx="4"/>
              <a:endCxn id="1334" idx="5"/>
            </p:cNvCxnSpPr>
            <p:nvPr/>
          </p:nvCxnSpPr>
          <p:spPr>
            <a:xfrm flipH="1" flipV="1" rot="5400000">
              <a:off x="6160320" y="3894480"/>
              <a:ext cx="1974240" cy="2642040"/>
            </a:xfrm>
            <a:prstGeom prst="curvedConnector5">
              <a:avLst>
                <a:gd name="adj1" fmla="val -11581"/>
                <a:gd name="adj2" fmla="val 50000"/>
                <a:gd name="adj3" fmla="val -11581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392" name="Connettore 7 137"/>
            <p:cNvCxnSpPr>
              <a:stCxn id="1385" idx="2"/>
              <a:endCxn id="1333" idx="2"/>
            </p:cNvCxnSpPr>
            <p:nvPr/>
          </p:nvCxnSpPr>
          <p:spPr>
            <a:xfrm rot="10800000">
              <a:off x="683640" y="4061520"/>
              <a:ext cx="4927680" cy="1924920"/>
            </a:xfrm>
            <a:prstGeom prst="curvedConnector5">
              <a:avLst>
                <a:gd name="adj1" fmla="val 104639"/>
                <a:gd name="adj2" fmla="val 50000"/>
                <a:gd name="adj3" fmla="val 104639"/>
              </a:avLst>
            </a:prstGeom>
            <a:ln w="19080">
              <a:solidFill>
                <a:srgbClr val="000000"/>
              </a:solidFill>
              <a:miter/>
              <a:headEnd len="lg" type="triangle" w="lg"/>
            </a:ln>
          </p:spPr>
        </p:cxnSp>
      </p:grpSp>
      <p:sp>
        <p:nvSpPr>
          <p:cNvPr id="1393" name="Ovale 196"/>
          <p:cNvSpPr/>
          <p:nvPr/>
        </p:nvSpPr>
        <p:spPr>
          <a:xfrm>
            <a:off x="5316480" y="4551480"/>
            <a:ext cx="2100240" cy="1906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4" name="Rectangle 13"/>
          <p:cNvSpPr/>
          <p:nvPr/>
        </p:nvSpPr>
        <p:spPr>
          <a:xfrm>
            <a:off x="258840" y="1293840"/>
            <a:ext cx="318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Aircraft ordering problem between B and C for the runway (resource 17):   This is a </a:t>
            </a: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no-store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resource!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9739-BFCB-4643-9FC4-2E4DA28721BA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1397" name="Rectangle 14"/>
          <p:cNvSpPr/>
          <p:nvPr/>
        </p:nvSpPr>
        <p:spPr>
          <a:xfrm>
            <a:off x="420840" y="1892160"/>
            <a:ext cx="841032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Modeling a Terminal Control Area 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Solution Framework and Algorithm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mputational Experiment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nclusions and Ongoing Research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8" name="Rectangle 1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Presentation outlin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9" name="Rectangle 16"/>
          <p:cNvSpPr/>
          <p:nvPr/>
        </p:nvSpPr>
        <p:spPr>
          <a:xfrm>
            <a:off x="368280" y="5859360"/>
            <a:ext cx="86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</a:rPr>
              <a:t>This work was partially supported by the Italian Ministry of Research, project FIRB “Advanced tracking system in intermodal freight transportation”.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0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21A5-F66C-4905-B7EE-862DDD07AA6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3827-31C0-4A97-93D9-A67752AED0F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2" name="Rectangle 2"/>
          <p:cNvSpPr/>
          <p:nvPr/>
        </p:nvSpPr>
        <p:spPr>
          <a:xfrm>
            <a:off x="0" y="6652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Developing a decision support tool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3" name="Rectangle 3"/>
          <p:cNvSpPr/>
          <p:nvPr/>
        </p:nvSpPr>
        <p:spPr>
          <a:xfrm>
            <a:off x="385920" y="1452600"/>
            <a:ext cx="843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From a logical point of view, </a:t>
            </a:r>
            <a:r>
              <a:rPr b="0" lang="it-IT" sz="2400" spc="-1" strike="noStrike" u="sng">
                <a:solidFill>
                  <a:srgbClr val="292929"/>
                </a:solidFill>
                <a:uFillTx/>
                <a:latin typeface="Times New Roman"/>
              </a:rPr>
              <a:t>ATC decisions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can be divided into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• </a:t>
            </a: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uting decisions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, where a route for each aircraft has to be chosen in order to </a:t>
            </a:r>
            <a:r>
              <a:rPr b="0" i="1" lang="it-IT" sz="2400" spc="-1" strike="noStrike">
                <a:solidFill>
                  <a:srgbClr val="292929"/>
                </a:solidFill>
                <a:latin typeface="Times New Roman"/>
              </a:rPr>
              <a:t>balance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 the use of TCA resource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• </a:t>
            </a: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Times New Roman"/>
              </a:rPr>
              <a:t>Scheduling decisions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, where routes are considered fixed,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nd feasible aircraft scheduling solutions have to be determined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In practice, the two decisions are taken </a:t>
            </a:r>
            <a:r>
              <a:rPr b="0" i="1" lang="it-IT" sz="2400" spc="-1" strike="noStrike">
                <a:solidFill>
                  <a:srgbClr val="292929"/>
                </a:solidFill>
                <a:latin typeface="Times New Roman"/>
              </a:rPr>
              <a:t>simultaneously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4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B966-52B7-4B77-AC66-2E2A786ADC4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5348160" y="5041800"/>
            <a:ext cx="3211560" cy="131940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7" descr=""/>
          <p:cNvPicPr/>
          <p:nvPr/>
        </p:nvPicPr>
        <p:blipFill>
          <a:blip r:embed="rId2"/>
          <a:stretch/>
        </p:blipFill>
        <p:spPr>
          <a:xfrm>
            <a:off x="404640" y="5099040"/>
            <a:ext cx="414180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14"/>
          <p:cNvSpPr/>
          <p:nvPr/>
        </p:nvSpPr>
        <p:spPr>
          <a:xfrm>
            <a:off x="420840" y="1892160"/>
            <a:ext cx="841032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Modeling a Terminal Control Area 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Solution Framework and Algorithm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mputational Experiment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nclusions and Ongoing Research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48" name="Rectangle 1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Presentation outlin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49" name="Rectangle 16"/>
          <p:cNvSpPr/>
          <p:nvPr/>
        </p:nvSpPr>
        <p:spPr>
          <a:xfrm>
            <a:off x="368280" y="5859360"/>
            <a:ext cx="86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</a:rPr>
              <a:t>This work was partially supported by the Italian Ministry of Research, project FIRB “Advanced tracking system in intermodal freight transportation”.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0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1533-476B-47A1-9811-A668986E888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Segnaposto numero diapositiva 2"/>
          <p:cNvSpPr/>
          <p:nvPr/>
        </p:nvSpPr>
        <p:spPr>
          <a:xfrm>
            <a:off x="8078760" y="6576840"/>
            <a:ext cx="10652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66CA-C26F-49F3-AA9D-44EBC8AEDBF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8" name="Object 2"/>
              <p:cNvSpPr txBox="1"/>
              <p:nvPr/>
            </p:nvSpPr>
            <p:spPr>
              <a:xfrm>
                <a:off x="1835280" y="2276640"/>
                <a:ext cx="5689440" cy="33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≥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∀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F</m:t>
                                  </m:r>
                                </m:e>
                              </m:mr>
                              <m:mr>
                                <m:e>
                                  <m:eqArr>
                                    <m:e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≥</m:t>
                                      </m:r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M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hk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≥</m:t>
                                      </m:r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hk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hk</m:t>
                                          </m:r>
                                        </m:sub>
                                      </m:sSub>
                                    </m:e>
                                  </m:eqArr>
                                </m:e>
                                <m:e>
                                  <m:r>
                                    <m:t xml:space="preserve">∀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A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elected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elected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9" name="Text Box 56"/>
          <p:cNvSpPr/>
          <p:nvPr/>
        </p:nvSpPr>
        <p:spPr>
          <a:xfrm>
            <a:off x="0" y="666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MILP (Mixed-Integer Linear Programming) model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FIXED AIRCRAFT ROUTES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Segnaposto numero diapositiva 2"/>
          <p:cNvSpPr/>
          <p:nvPr/>
        </p:nvSpPr>
        <p:spPr>
          <a:xfrm>
            <a:off x="8078760" y="6576840"/>
            <a:ext cx="10652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565A-EC01-45AD-9F2C-44CA45B37AE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1" name="Object 2"/>
              <p:cNvSpPr txBox="1"/>
              <p:nvPr/>
            </p:nvSpPr>
            <p:spPr>
              <a:xfrm>
                <a:off x="69840" y="1722600"/>
                <a:ext cx="9015480" cy="40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s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s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nary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a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2" name="CasellaDiTesto 5"/>
          <p:cNvSpPr/>
          <p:nvPr/>
        </p:nvSpPr>
        <p:spPr>
          <a:xfrm>
            <a:off x="330120" y="5888160"/>
            <a:ext cx="35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ns</a:t>
            </a:r>
            <a:r>
              <a:rPr b="0" lang="it-IT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: number of routes of aircraft </a:t>
            </a:r>
            <a:r>
              <a:rPr b="0" i="1" lang="it-IT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3" name="CasellaDiTesto 6"/>
          <p:cNvSpPr/>
          <p:nvPr/>
        </p:nvSpPr>
        <p:spPr>
          <a:xfrm>
            <a:off x="5368680" y="588816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na</a:t>
            </a:r>
            <a:r>
              <a:rPr b="0" lang="it-IT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: number of aircraft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4" name="Text Box 56"/>
          <p:cNvSpPr/>
          <p:nvPr/>
        </p:nvSpPr>
        <p:spPr>
          <a:xfrm>
            <a:off x="0" y="666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MILP (Mixed-Integer Linear Programming) model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FLEXIBLE AIRCRAFT ROUTES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Titolo 26"/>
          <p:cNvSpPr/>
          <p:nvPr/>
        </p:nvSpPr>
        <p:spPr>
          <a:xfrm>
            <a:off x="262080" y="868320"/>
            <a:ext cx="873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Rolling Horizon (RH) approach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6" name="Line 82"/>
          <p:cNvSpPr/>
          <p:nvPr/>
        </p:nvSpPr>
        <p:spPr>
          <a:xfrm>
            <a:off x="800280" y="430524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7" name="Rectangle 83"/>
          <p:cNvSpPr/>
          <p:nvPr/>
        </p:nvSpPr>
        <p:spPr>
          <a:xfrm>
            <a:off x="4698000" y="40100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8" name="Line 84"/>
          <p:cNvSpPr/>
          <p:nvPr/>
        </p:nvSpPr>
        <p:spPr>
          <a:xfrm>
            <a:off x="100476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9" name="Line 85"/>
          <p:cNvSpPr/>
          <p:nvPr/>
        </p:nvSpPr>
        <p:spPr>
          <a:xfrm>
            <a:off x="184320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0" name="Line 86"/>
          <p:cNvSpPr/>
          <p:nvPr/>
        </p:nvSpPr>
        <p:spPr>
          <a:xfrm>
            <a:off x="269892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1" name="Line 87"/>
          <p:cNvSpPr/>
          <p:nvPr/>
        </p:nvSpPr>
        <p:spPr>
          <a:xfrm>
            <a:off x="350208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2" name="Line 88"/>
          <p:cNvSpPr/>
          <p:nvPr/>
        </p:nvSpPr>
        <p:spPr>
          <a:xfrm>
            <a:off x="435456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3" name="Rectangle 96"/>
          <p:cNvSpPr/>
          <p:nvPr/>
        </p:nvSpPr>
        <p:spPr>
          <a:xfrm>
            <a:off x="7877160" y="4338720"/>
            <a:ext cx="7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ime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4" name="Line 84"/>
          <p:cNvSpPr/>
          <p:nvPr/>
        </p:nvSpPr>
        <p:spPr>
          <a:xfrm>
            <a:off x="521820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5" name="Line 85"/>
          <p:cNvSpPr/>
          <p:nvPr/>
        </p:nvSpPr>
        <p:spPr>
          <a:xfrm>
            <a:off x="605484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6" name="Line 86"/>
          <p:cNvSpPr/>
          <p:nvPr/>
        </p:nvSpPr>
        <p:spPr>
          <a:xfrm>
            <a:off x="691056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7" name="Line 87"/>
          <p:cNvSpPr/>
          <p:nvPr/>
        </p:nvSpPr>
        <p:spPr>
          <a:xfrm>
            <a:off x="771372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428" name="Gruppo 47"/>
          <p:cNvGrpSpPr/>
          <p:nvPr/>
        </p:nvGrpSpPr>
        <p:grpSpPr>
          <a:xfrm>
            <a:off x="1004760" y="1866960"/>
            <a:ext cx="3349800" cy="422280"/>
            <a:chOff x="1004760" y="1866960"/>
            <a:chExt cx="3349800" cy="422280"/>
          </a:xfrm>
        </p:grpSpPr>
        <p:sp>
          <p:nvSpPr>
            <p:cNvPr id="1429" name="Line 95"/>
            <p:cNvSpPr/>
            <p:nvPr/>
          </p:nvSpPr>
          <p:spPr>
            <a:xfrm>
              <a:off x="1004760" y="2289240"/>
              <a:ext cx="33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30" name="CasellaDiTesto 23"/>
            <p:cNvSpPr/>
            <p:nvPr/>
          </p:nvSpPr>
          <p:spPr>
            <a:xfrm>
              <a:off x="1491840" y="1866960"/>
              <a:ext cx="20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Time horizon T1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431" name="Gruppo 49"/>
          <p:cNvGrpSpPr/>
          <p:nvPr/>
        </p:nvGrpSpPr>
        <p:grpSpPr>
          <a:xfrm>
            <a:off x="1757520" y="2543040"/>
            <a:ext cx="3460680" cy="424080"/>
            <a:chOff x="1757520" y="2543040"/>
            <a:chExt cx="3460680" cy="424080"/>
          </a:xfrm>
        </p:grpSpPr>
        <p:sp>
          <p:nvSpPr>
            <p:cNvPr id="1432" name="Line 95"/>
            <p:cNvSpPr/>
            <p:nvPr/>
          </p:nvSpPr>
          <p:spPr>
            <a:xfrm>
              <a:off x="1757520" y="2967120"/>
              <a:ext cx="346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33" name="CasellaDiTesto 24"/>
            <p:cNvSpPr/>
            <p:nvPr/>
          </p:nvSpPr>
          <p:spPr>
            <a:xfrm>
              <a:off x="2375640" y="2543040"/>
              <a:ext cx="20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Time horizon T2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434" name="Gruppo 51"/>
          <p:cNvGrpSpPr/>
          <p:nvPr/>
        </p:nvGrpSpPr>
        <p:grpSpPr>
          <a:xfrm>
            <a:off x="2679840" y="3244680"/>
            <a:ext cx="3460680" cy="433440"/>
            <a:chOff x="2679840" y="3244680"/>
            <a:chExt cx="3460680" cy="433440"/>
          </a:xfrm>
        </p:grpSpPr>
        <p:sp>
          <p:nvSpPr>
            <p:cNvPr id="1435" name="Line 95"/>
            <p:cNvSpPr/>
            <p:nvPr/>
          </p:nvSpPr>
          <p:spPr>
            <a:xfrm>
              <a:off x="2679840" y="3678120"/>
              <a:ext cx="346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36" name="CasellaDiTesto 26"/>
            <p:cNvSpPr/>
            <p:nvPr/>
          </p:nvSpPr>
          <p:spPr>
            <a:xfrm>
              <a:off x="3099600" y="3244680"/>
              <a:ext cx="20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Time horizon T3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437" name="Gruppo 48"/>
          <p:cNvGrpSpPr/>
          <p:nvPr/>
        </p:nvGrpSpPr>
        <p:grpSpPr>
          <a:xfrm>
            <a:off x="904320" y="2278080"/>
            <a:ext cx="1404360" cy="434880"/>
            <a:chOff x="904320" y="2278080"/>
            <a:chExt cx="1404360" cy="434880"/>
          </a:xfrm>
        </p:grpSpPr>
        <p:sp>
          <p:nvSpPr>
            <p:cNvPr id="1438" name="Line 95"/>
            <p:cNvSpPr/>
            <p:nvPr/>
          </p:nvSpPr>
          <p:spPr>
            <a:xfrm>
              <a:off x="1004760" y="2712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39" name="CasellaDiTesto 27"/>
            <p:cNvSpPr/>
            <p:nvPr/>
          </p:nvSpPr>
          <p:spPr>
            <a:xfrm>
              <a:off x="904320" y="227808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Roll period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440" name="Gruppo 50"/>
          <p:cNvGrpSpPr/>
          <p:nvPr/>
        </p:nvGrpSpPr>
        <p:grpSpPr>
          <a:xfrm>
            <a:off x="1618200" y="2955960"/>
            <a:ext cx="1468440" cy="433440"/>
            <a:chOff x="1618200" y="2955960"/>
            <a:chExt cx="1468440" cy="433440"/>
          </a:xfrm>
        </p:grpSpPr>
        <p:sp>
          <p:nvSpPr>
            <p:cNvPr id="1441" name="Line 95"/>
            <p:cNvSpPr/>
            <p:nvPr/>
          </p:nvSpPr>
          <p:spPr>
            <a:xfrm>
              <a:off x="1773720" y="3389400"/>
              <a:ext cx="90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42" name="CasellaDiTesto 31"/>
            <p:cNvSpPr/>
            <p:nvPr/>
          </p:nvSpPr>
          <p:spPr>
            <a:xfrm>
              <a:off x="1618200" y="295596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Roll period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cxnSp>
        <p:nvCxnSpPr>
          <p:cNvPr id="1443" name="Connettore 2 11"/>
          <p:cNvCxnSpPr/>
          <p:nvPr/>
        </p:nvCxnSpPr>
        <p:spPr>
          <a:xfrm>
            <a:off x="1004760" y="5155920"/>
            <a:ext cx="67096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44" name="CasellaDiTesto 19"/>
          <p:cNvSpPr/>
          <p:nvPr/>
        </p:nvSpPr>
        <p:spPr>
          <a:xfrm>
            <a:off x="1804680" y="5361120"/>
            <a:ext cx="52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Length of the overall traffic prediction horizon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4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A020-00A2-4862-9812-2E849A0CD65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6" name="Gruppo 70"/>
          <p:cNvGrpSpPr/>
          <p:nvPr/>
        </p:nvGrpSpPr>
        <p:grpSpPr>
          <a:xfrm>
            <a:off x="3239280" y="841320"/>
            <a:ext cx="5385240" cy="2269800"/>
            <a:chOff x="3239280" y="841320"/>
            <a:chExt cx="5385240" cy="2269800"/>
          </a:xfrm>
        </p:grpSpPr>
        <p:sp>
          <p:nvSpPr>
            <p:cNvPr id="1447" name="Rectangle 3516"/>
            <p:cNvSpPr/>
            <p:nvPr/>
          </p:nvSpPr>
          <p:spPr>
            <a:xfrm>
              <a:off x="6620040" y="919440"/>
              <a:ext cx="99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Commo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Glide Path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48" name="Rectangle 3517"/>
            <p:cNvSpPr/>
            <p:nvPr/>
          </p:nvSpPr>
          <p:spPr>
            <a:xfrm>
              <a:off x="7450920" y="97272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Runway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49" name="Rectangle 3518"/>
            <p:cNvSpPr/>
            <p:nvPr/>
          </p:nvSpPr>
          <p:spPr>
            <a:xfrm>
              <a:off x="3239280" y="942840"/>
              <a:ext cx="137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Holding Circle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0" name="Rectangle 3519"/>
            <p:cNvSpPr/>
            <p:nvPr/>
          </p:nvSpPr>
          <p:spPr>
            <a:xfrm>
              <a:off x="5128920" y="841320"/>
              <a:ext cx="904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Air 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egment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1" name="Rectangle 3520"/>
            <p:cNvSpPr/>
            <p:nvPr/>
          </p:nvSpPr>
          <p:spPr>
            <a:xfrm>
              <a:off x="4909320" y="1571760"/>
              <a:ext cx="138960" cy="31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2" name="Rectangle 3522"/>
            <p:cNvSpPr/>
            <p:nvPr/>
          </p:nvSpPr>
          <p:spPr>
            <a:xfrm>
              <a:off x="4089240" y="2574000"/>
              <a:ext cx="73800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3" name="AutoShape 3525"/>
            <p:cNvSpPr/>
            <p:nvPr/>
          </p:nvSpPr>
          <p:spPr>
            <a:xfrm>
              <a:off x="4884120" y="1315440"/>
              <a:ext cx="186480" cy="205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4" name="AutoShape 3526"/>
            <p:cNvSpPr/>
            <p:nvPr/>
          </p:nvSpPr>
          <p:spPr>
            <a:xfrm>
              <a:off x="4866120" y="2493360"/>
              <a:ext cx="186480" cy="204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5" name="Line 3543"/>
            <p:cNvSpPr/>
            <p:nvPr/>
          </p:nvSpPr>
          <p:spPr>
            <a:xfrm flipV="1">
              <a:off x="7628040" y="1550520"/>
              <a:ext cx="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6" name="Rectangle 3544"/>
            <p:cNvSpPr/>
            <p:nvPr/>
          </p:nvSpPr>
          <p:spPr>
            <a:xfrm>
              <a:off x="7672320" y="1550880"/>
              <a:ext cx="372240" cy="123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7" name="Rectangle 3545"/>
            <p:cNvSpPr/>
            <p:nvPr/>
          </p:nvSpPr>
          <p:spPr>
            <a:xfrm>
              <a:off x="7665840" y="2455920"/>
              <a:ext cx="373320" cy="123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grpSp>
          <p:nvGrpSpPr>
            <p:cNvPr id="1458" name="Group 3554"/>
            <p:cNvGrpSpPr/>
            <p:nvPr/>
          </p:nvGrpSpPr>
          <p:grpSpPr>
            <a:xfrm>
              <a:off x="3535200" y="2493360"/>
              <a:ext cx="535680" cy="617760"/>
              <a:chOff x="3535200" y="2493360"/>
              <a:chExt cx="535680" cy="617760"/>
            </a:xfrm>
          </p:grpSpPr>
          <p:sp>
            <p:nvSpPr>
              <p:cNvPr id="1459" name="Oval 3555"/>
              <p:cNvSpPr/>
              <p:nvPr/>
            </p:nvSpPr>
            <p:spPr>
              <a:xfrm>
                <a:off x="3716640" y="2493360"/>
                <a:ext cx="299160" cy="246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0" name="Text Box 3556"/>
              <p:cNvSpPr/>
              <p:nvPr/>
            </p:nvSpPr>
            <p:spPr>
              <a:xfrm>
                <a:off x="3535200" y="280404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SRN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1" name="Line 3557"/>
              <p:cNvSpPr/>
              <p:nvPr/>
            </p:nvSpPr>
            <p:spPr>
              <a:xfrm>
                <a:off x="3821040" y="2739600"/>
                <a:ext cx="7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Group 3558"/>
            <p:cNvGrpSpPr/>
            <p:nvPr/>
          </p:nvGrpSpPr>
          <p:grpSpPr>
            <a:xfrm>
              <a:off x="3548520" y="1298880"/>
              <a:ext cx="566280" cy="812520"/>
              <a:chOff x="3548520" y="1298880"/>
              <a:chExt cx="566280" cy="812520"/>
            </a:xfrm>
          </p:grpSpPr>
          <p:sp>
            <p:nvSpPr>
              <p:cNvPr id="1463" name="Oval 3559"/>
              <p:cNvSpPr/>
              <p:nvPr/>
            </p:nvSpPr>
            <p:spPr>
              <a:xfrm>
                <a:off x="3707280" y="1298880"/>
                <a:ext cx="299520" cy="247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4" name="Text Box 3560"/>
              <p:cNvSpPr/>
              <p:nvPr/>
            </p:nvSpPr>
            <p:spPr>
              <a:xfrm>
                <a:off x="3548520" y="1591200"/>
                <a:ext cx="56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TOR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5" name="Line 3561"/>
              <p:cNvSpPr/>
              <p:nvPr/>
            </p:nvSpPr>
            <p:spPr>
              <a:xfrm>
                <a:off x="3819240" y="1546200"/>
                <a:ext cx="7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Group 3562"/>
            <p:cNvGrpSpPr/>
            <p:nvPr/>
          </p:nvGrpSpPr>
          <p:grpSpPr>
            <a:xfrm>
              <a:off x="3500640" y="1916640"/>
              <a:ext cx="595080" cy="616680"/>
              <a:chOff x="3500640" y="1916640"/>
              <a:chExt cx="595080" cy="616680"/>
            </a:xfrm>
          </p:grpSpPr>
          <p:sp>
            <p:nvSpPr>
              <p:cNvPr id="1467" name="Text Box 3563"/>
              <p:cNvSpPr/>
              <p:nvPr/>
            </p:nvSpPr>
            <p:spPr>
              <a:xfrm>
                <a:off x="3500640" y="2226240"/>
                <a:ext cx="59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MBR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8" name="Oval 3564"/>
              <p:cNvSpPr/>
              <p:nvPr/>
            </p:nvSpPr>
            <p:spPr>
              <a:xfrm>
                <a:off x="3707640" y="1916640"/>
                <a:ext cx="298080" cy="247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9" name="Line 3565"/>
              <p:cNvSpPr/>
              <p:nvPr/>
            </p:nvSpPr>
            <p:spPr>
              <a:xfrm>
                <a:off x="3818880" y="2159640"/>
                <a:ext cx="7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Line 3572"/>
            <p:cNvSpPr/>
            <p:nvPr/>
          </p:nvSpPr>
          <p:spPr>
            <a:xfrm>
              <a:off x="8040960" y="251928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1" name="Rectangle 3522"/>
            <p:cNvSpPr/>
            <p:nvPr/>
          </p:nvSpPr>
          <p:spPr>
            <a:xfrm>
              <a:off x="4089240" y="1964160"/>
              <a:ext cx="738000" cy="12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2" name="Rectangle 3522"/>
            <p:cNvSpPr/>
            <p:nvPr/>
          </p:nvSpPr>
          <p:spPr>
            <a:xfrm>
              <a:off x="4089240" y="1366200"/>
              <a:ext cx="73800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3" name="AutoShape 3525"/>
            <p:cNvSpPr/>
            <p:nvPr/>
          </p:nvSpPr>
          <p:spPr>
            <a:xfrm>
              <a:off x="4884120" y="1918800"/>
              <a:ext cx="186480" cy="205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4" name="Rectangle 3522"/>
            <p:cNvSpPr/>
            <p:nvPr/>
          </p:nvSpPr>
          <p:spPr>
            <a:xfrm>
              <a:off x="5128200" y="1366200"/>
              <a:ext cx="73800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5" name="Rectangle 3522"/>
            <p:cNvSpPr/>
            <p:nvPr/>
          </p:nvSpPr>
          <p:spPr>
            <a:xfrm>
              <a:off x="5128200" y="1970640"/>
              <a:ext cx="137592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6" name="Rectangle 3522"/>
            <p:cNvSpPr/>
            <p:nvPr/>
          </p:nvSpPr>
          <p:spPr>
            <a:xfrm>
              <a:off x="5128200" y="2563200"/>
              <a:ext cx="73800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7" name="AutoShape 3525"/>
            <p:cNvSpPr/>
            <p:nvPr/>
          </p:nvSpPr>
          <p:spPr>
            <a:xfrm>
              <a:off x="5898600" y="2511000"/>
              <a:ext cx="186480" cy="205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8" name="AutoShape 3525"/>
            <p:cNvSpPr/>
            <p:nvPr/>
          </p:nvSpPr>
          <p:spPr>
            <a:xfrm>
              <a:off x="5898600" y="1315440"/>
              <a:ext cx="186480" cy="205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9" name="AutoShape 3525"/>
            <p:cNvSpPr/>
            <p:nvPr/>
          </p:nvSpPr>
          <p:spPr>
            <a:xfrm>
              <a:off x="6550560" y="1913400"/>
              <a:ext cx="186480" cy="205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0" name="AutoShape 3527"/>
            <p:cNvSpPr/>
            <p:nvPr/>
          </p:nvSpPr>
          <p:spPr>
            <a:xfrm rot="5400000">
              <a:off x="6019920" y="1441080"/>
              <a:ext cx="596520" cy="376560"/>
            </a:xfrm>
            <a:prstGeom prst="parallelogram">
              <a:avLst>
                <a:gd name="adj" fmla="val 111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1" name="AutoShape 3527"/>
            <p:cNvSpPr/>
            <p:nvPr/>
          </p:nvSpPr>
          <p:spPr>
            <a:xfrm flipH="1" rot="16200000">
              <a:off x="6009840" y="2239200"/>
              <a:ext cx="602280" cy="370080"/>
            </a:xfrm>
            <a:prstGeom prst="parallelogram">
              <a:avLst>
                <a:gd name="adj" fmla="val 1112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2" name="Rectangle 3522"/>
            <p:cNvSpPr/>
            <p:nvPr/>
          </p:nvSpPr>
          <p:spPr>
            <a:xfrm>
              <a:off x="6777000" y="1964160"/>
              <a:ext cx="738000" cy="12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3" name="Line 3572"/>
            <p:cNvSpPr/>
            <p:nvPr/>
          </p:nvSpPr>
          <p:spPr>
            <a:xfrm>
              <a:off x="8039160" y="160632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4" name="AutoShape 3527"/>
            <p:cNvSpPr/>
            <p:nvPr/>
          </p:nvSpPr>
          <p:spPr>
            <a:xfrm rot="4098000">
              <a:off x="4105440" y="1477800"/>
              <a:ext cx="705960" cy="503640"/>
            </a:xfrm>
            <a:prstGeom prst="parallelogram">
              <a:avLst>
                <a:gd name="adj" fmla="val 11145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5" name="AutoShape 3527"/>
            <p:cNvSpPr/>
            <p:nvPr/>
          </p:nvSpPr>
          <p:spPr>
            <a:xfrm rot="4098000">
              <a:off x="4094640" y="2080800"/>
              <a:ext cx="728280" cy="510480"/>
            </a:xfrm>
            <a:prstGeom prst="parallelogram">
              <a:avLst>
                <a:gd name="adj" fmla="val 1110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6" name="CasellaDiTesto 101"/>
            <p:cNvSpPr/>
            <p:nvPr/>
          </p:nvSpPr>
          <p:spPr>
            <a:xfrm>
              <a:off x="4302000" y="2222640"/>
              <a:ext cx="27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7" name="CasellaDiTesto 102"/>
            <p:cNvSpPr/>
            <p:nvPr/>
          </p:nvSpPr>
          <p:spPr>
            <a:xfrm>
              <a:off x="4335120" y="1621440"/>
              <a:ext cx="27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8" name="CasellaDiTesto 103"/>
            <p:cNvSpPr/>
            <p:nvPr/>
          </p:nvSpPr>
          <p:spPr>
            <a:xfrm>
              <a:off x="6123600" y="1512000"/>
              <a:ext cx="36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9" name="CasellaDiTesto 104"/>
            <p:cNvSpPr/>
            <p:nvPr/>
          </p:nvSpPr>
          <p:spPr>
            <a:xfrm>
              <a:off x="6123600" y="2323440"/>
              <a:ext cx="36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0" name="Text Box 3394"/>
            <p:cNvSpPr/>
            <p:nvPr/>
          </p:nvSpPr>
          <p:spPr>
            <a:xfrm>
              <a:off x="7479720" y="172296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RWY 35L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1" name="Text Box 3394"/>
            <p:cNvSpPr/>
            <p:nvPr/>
          </p:nvSpPr>
          <p:spPr>
            <a:xfrm>
              <a:off x="7488720" y="265248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RWY 35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2" name="CasellaDiTesto 102"/>
            <p:cNvSpPr/>
            <p:nvPr/>
          </p:nvSpPr>
          <p:spPr>
            <a:xfrm>
              <a:off x="4815000" y="1608120"/>
              <a:ext cx="27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3" name="Freeform 165"/>
            <p:cNvSpPr/>
            <p:nvPr/>
          </p:nvSpPr>
          <p:spPr>
            <a:xfrm>
              <a:off x="3721320" y="2232720"/>
              <a:ext cx="4589640" cy="5547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554760"/>
                <a:gd name="textAreaBottom" fmla="*/ 555120 h 554760"/>
              </a:gdLst>
              <a:ahLst/>
              <a:rect l="textAreaLeft" t="textAreaTop" r="textAreaRight" b="textAreaBottom"/>
              <a:pathLst>
                <a:path w="4153" h="502">
                  <a:moveTo>
                    <a:pt x="0" y="502"/>
                  </a:moveTo>
                  <a:lnTo>
                    <a:pt x="2426" y="494"/>
                  </a:lnTo>
                  <a:lnTo>
                    <a:pt x="2663" y="0"/>
                  </a:lnTo>
                  <a:lnTo>
                    <a:pt x="3395" y="0"/>
                  </a:lnTo>
                  <a:lnTo>
                    <a:pt x="3505" y="375"/>
                  </a:lnTo>
                  <a:lnTo>
                    <a:pt x="4153" y="375"/>
                  </a:lnTo>
                </a:path>
              </a:pathLst>
            </a:custGeom>
            <a:noFill/>
            <a:ln w="9360">
              <a:solidFill>
                <a:srgbClr val="00206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4" name="Freeform 166"/>
            <p:cNvSpPr/>
            <p:nvPr/>
          </p:nvSpPr>
          <p:spPr>
            <a:xfrm>
              <a:off x="3721320" y="1253520"/>
              <a:ext cx="4576320" cy="554760"/>
            </a:xfrm>
            <a:custGeom>
              <a:avLst/>
              <a:gdLst>
                <a:gd name="textAreaLeft" fmla="*/ 0 w 4576320"/>
                <a:gd name="textAreaRight" fmla="*/ 4576680 w 4576320"/>
                <a:gd name="textAreaTop" fmla="*/ 0 h 554760"/>
                <a:gd name="textAreaBottom" fmla="*/ 555120 h 554760"/>
              </a:gdLst>
              <a:ahLst/>
              <a:rect l="textAreaLeft" t="textAreaTop" r="textAreaRight" b="textAreaBottom"/>
              <a:pathLst>
                <a:path w="4141" h="502">
                  <a:moveTo>
                    <a:pt x="0" y="0"/>
                  </a:moveTo>
                  <a:lnTo>
                    <a:pt x="2426" y="8"/>
                  </a:lnTo>
                  <a:lnTo>
                    <a:pt x="2663" y="502"/>
                  </a:lnTo>
                  <a:lnTo>
                    <a:pt x="3395" y="502"/>
                  </a:lnTo>
                  <a:lnTo>
                    <a:pt x="3514" y="145"/>
                  </a:lnTo>
                  <a:lnTo>
                    <a:pt x="4141" y="14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5" name="Rectangle 168"/>
            <p:cNvSpPr/>
            <p:nvPr/>
          </p:nvSpPr>
          <p:spPr>
            <a:xfrm>
              <a:off x="8263800" y="11970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6" name="Rectangle 169"/>
            <p:cNvSpPr/>
            <p:nvPr/>
          </p:nvSpPr>
          <p:spPr>
            <a:xfrm>
              <a:off x="3386880" y="10530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7" name="Rectangle 170"/>
            <p:cNvSpPr/>
            <p:nvPr/>
          </p:nvSpPr>
          <p:spPr>
            <a:xfrm>
              <a:off x="8325000" y="24213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8" name="Rectangle 171"/>
            <p:cNvSpPr/>
            <p:nvPr/>
          </p:nvSpPr>
          <p:spPr>
            <a:xfrm>
              <a:off x="3386880" y="26373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499" name="Titolo 26"/>
          <p:cNvSpPr/>
          <p:nvPr/>
        </p:nvSpPr>
        <p:spPr>
          <a:xfrm>
            <a:off x="179280" y="704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RH: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Stage 1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0" name="Ovale 138"/>
          <p:cNvSpPr/>
          <p:nvPr/>
        </p:nvSpPr>
        <p:spPr>
          <a:xfrm>
            <a:off x="1187280" y="361332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1" name="Ovale 139"/>
          <p:cNvSpPr/>
          <p:nvPr/>
        </p:nvSpPr>
        <p:spPr>
          <a:xfrm>
            <a:off x="2273400" y="3613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2" name="Ovale 140"/>
          <p:cNvSpPr/>
          <p:nvPr/>
        </p:nvSpPr>
        <p:spPr>
          <a:xfrm>
            <a:off x="5508720" y="3613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5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3" name="Ovale 141"/>
          <p:cNvSpPr/>
          <p:nvPr/>
        </p:nvSpPr>
        <p:spPr>
          <a:xfrm>
            <a:off x="3354480" y="3613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0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4" name="Ovale 142"/>
          <p:cNvSpPr/>
          <p:nvPr/>
        </p:nvSpPr>
        <p:spPr>
          <a:xfrm>
            <a:off x="4427640" y="3613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3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5" name="Ovale 143"/>
          <p:cNvSpPr/>
          <p:nvPr/>
        </p:nvSpPr>
        <p:spPr>
          <a:xfrm>
            <a:off x="7740720" y="3613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6" name="Ovale 144"/>
          <p:cNvSpPr/>
          <p:nvPr/>
        </p:nvSpPr>
        <p:spPr>
          <a:xfrm>
            <a:off x="6588000" y="361332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6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7" name="Ovale 145"/>
          <p:cNvSpPr/>
          <p:nvPr/>
        </p:nvSpPr>
        <p:spPr>
          <a:xfrm>
            <a:off x="684360" y="4390920"/>
            <a:ext cx="43164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8" name="Ovale 146"/>
          <p:cNvSpPr/>
          <p:nvPr/>
        </p:nvSpPr>
        <p:spPr>
          <a:xfrm>
            <a:off x="8101080" y="4405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09" name="Connettore 7 147"/>
          <p:cNvCxnSpPr>
            <a:stCxn id="1500" idx="7"/>
            <a:endCxn id="1501" idx="1"/>
          </p:cNvCxnSpPr>
          <p:nvPr/>
        </p:nvCxnSpPr>
        <p:spPr>
          <a:xfrm flipH="1" flipV="1" rot="5400000">
            <a:off x="1945800" y="328572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0" name="Connettore 7 148"/>
          <p:cNvCxnSpPr>
            <a:stCxn id="1501" idx="3"/>
            <a:endCxn id="1500" idx="5"/>
          </p:cNvCxnSpPr>
          <p:nvPr/>
        </p:nvCxnSpPr>
        <p:spPr>
          <a:xfrm rot="5400000">
            <a:off x="1945800" y="3590640"/>
            <a:ext cx="13320" cy="781920"/>
          </a:xfrm>
          <a:prstGeom prst="curvedConnector5">
            <a:avLst>
              <a:gd name="adj1" fmla="val 697222"/>
              <a:gd name="adj2" fmla="val 49976"/>
              <a:gd name="adj3" fmla="val 69722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1" name="Connettore 7 149"/>
          <p:cNvCxnSpPr/>
          <p:nvPr/>
        </p:nvCxnSpPr>
        <p:spPr>
          <a:xfrm flipH="1" flipV="1" rot="5400000">
            <a:off x="3023280" y="329796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2" name="Connettore 7 150"/>
          <p:cNvCxnSpPr/>
          <p:nvPr/>
        </p:nvCxnSpPr>
        <p:spPr>
          <a:xfrm rot="5400000">
            <a:off x="3023640" y="360324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3" name="Connettore 7 151"/>
          <p:cNvCxnSpPr/>
          <p:nvPr/>
        </p:nvCxnSpPr>
        <p:spPr>
          <a:xfrm flipH="1" flipV="1" rot="5400000">
            <a:off x="4103640" y="329184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4" name="Connettore 7 152"/>
          <p:cNvCxnSpPr/>
          <p:nvPr/>
        </p:nvCxnSpPr>
        <p:spPr>
          <a:xfrm rot="5400000">
            <a:off x="4103280" y="359712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5" name="Connettore 7 153"/>
          <p:cNvCxnSpPr/>
          <p:nvPr/>
        </p:nvCxnSpPr>
        <p:spPr>
          <a:xfrm flipH="1" flipV="1" rot="5400000">
            <a:off x="5177880" y="3294360"/>
            <a:ext cx="13680" cy="780120"/>
          </a:xfrm>
          <a:prstGeom prst="curvedConnector5">
            <a:avLst>
              <a:gd name="adj1" fmla="val 1154054"/>
              <a:gd name="adj2" fmla="val 50000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6" name="Connettore 7 154"/>
          <p:cNvCxnSpPr/>
          <p:nvPr/>
        </p:nvCxnSpPr>
        <p:spPr>
          <a:xfrm rot="5400000">
            <a:off x="5178600" y="3599280"/>
            <a:ext cx="13320" cy="78012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7" name="Connettore 7 155"/>
          <p:cNvCxnSpPr/>
          <p:nvPr/>
        </p:nvCxnSpPr>
        <p:spPr>
          <a:xfrm flipH="1" flipV="1" rot="5400000">
            <a:off x="6251400" y="329184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8" name="Connettore 7 156"/>
          <p:cNvCxnSpPr/>
          <p:nvPr/>
        </p:nvCxnSpPr>
        <p:spPr>
          <a:xfrm rot="5400000">
            <a:off x="6251040" y="359712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9" name="Connettore 2 157"/>
          <p:cNvCxnSpPr>
            <a:stCxn id="1506" idx="6"/>
            <a:endCxn id="1505" idx="2"/>
          </p:cNvCxnSpPr>
          <p:nvPr/>
        </p:nvCxnSpPr>
        <p:spPr>
          <a:xfrm>
            <a:off x="7020000" y="382860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20" name="Ovale 158"/>
          <p:cNvSpPr/>
          <p:nvPr/>
        </p:nvSpPr>
        <p:spPr>
          <a:xfrm>
            <a:off x="1225440" y="526896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3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1" name="Ovale 159"/>
          <p:cNvSpPr/>
          <p:nvPr/>
        </p:nvSpPr>
        <p:spPr>
          <a:xfrm>
            <a:off x="2311560" y="526896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8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2" name="Ovale 160"/>
          <p:cNvSpPr/>
          <p:nvPr/>
        </p:nvSpPr>
        <p:spPr>
          <a:xfrm>
            <a:off x="5545080" y="5268960"/>
            <a:ext cx="4334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5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3" name="Ovale 161"/>
          <p:cNvSpPr/>
          <p:nvPr/>
        </p:nvSpPr>
        <p:spPr>
          <a:xfrm>
            <a:off x="3392640" y="526896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2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4" name="Ovale 162"/>
          <p:cNvSpPr/>
          <p:nvPr/>
        </p:nvSpPr>
        <p:spPr>
          <a:xfrm>
            <a:off x="4465800" y="526896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5" name="Ovale 163"/>
          <p:cNvSpPr/>
          <p:nvPr/>
        </p:nvSpPr>
        <p:spPr>
          <a:xfrm>
            <a:off x="7778880" y="526896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6" name="Ovale 164"/>
          <p:cNvSpPr/>
          <p:nvPr/>
        </p:nvSpPr>
        <p:spPr>
          <a:xfrm>
            <a:off x="6626160" y="526896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7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27" name="Connettore 7 165"/>
          <p:cNvCxnSpPr>
            <a:stCxn id="1520" idx="7"/>
            <a:endCxn id="1521" idx="1"/>
          </p:cNvCxnSpPr>
          <p:nvPr/>
        </p:nvCxnSpPr>
        <p:spPr>
          <a:xfrm flipH="1" flipV="1" rot="5400000">
            <a:off x="1984320" y="4941360"/>
            <a:ext cx="13320" cy="781920"/>
          </a:xfrm>
          <a:prstGeom prst="curvedConnector5">
            <a:avLst>
              <a:gd name="adj1" fmla="val 811111"/>
              <a:gd name="adj2" fmla="val 49976"/>
              <a:gd name="adj3" fmla="val 81111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28" name="Connettore 7 166"/>
          <p:cNvCxnSpPr>
            <a:stCxn id="1521" idx="3"/>
            <a:endCxn id="1520" idx="5"/>
          </p:cNvCxnSpPr>
          <p:nvPr/>
        </p:nvCxnSpPr>
        <p:spPr>
          <a:xfrm rot="5400000">
            <a:off x="1983600" y="524664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29" name="Connettore 7 167"/>
          <p:cNvCxnSpPr/>
          <p:nvPr/>
        </p:nvCxnSpPr>
        <p:spPr>
          <a:xfrm flipH="1" flipV="1" rot="5400000">
            <a:off x="3059640" y="4953960"/>
            <a:ext cx="13320" cy="78156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0" name="Connettore 7 168"/>
          <p:cNvCxnSpPr/>
          <p:nvPr/>
        </p:nvCxnSpPr>
        <p:spPr>
          <a:xfrm rot="5400000">
            <a:off x="3060000" y="5259240"/>
            <a:ext cx="13320" cy="78156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1" name="Connettore 7 169"/>
          <p:cNvCxnSpPr/>
          <p:nvPr/>
        </p:nvCxnSpPr>
        <p:spPr>
          <a:xfrm flipH="1" flipV="1" rot="5400000">
            <a:off x="4140720" y="494748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2" name="Connettore 7 170"/>
          <p:cNvCxnSpPr/>
          <p:nvPr/>
        </p:nvCxnSpPr>
        <p:spPr>
          <a:xfrm rot="5400000">
            <a:off x="4141080" y="525276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3" name="Connettore 7 171"/>
          <p:cNvCxnSpPr/>
          <p:nvPr/>
        </p:nvCxnSpPr>
        <p:spPr>
          <a:xfrm flipH="1" flipV="1" rot="5400000">
            <a:off x="5213520" y="4947840"/>
            <a:ext cx="13680" cy="781560"/>
          </a:xfrm>
          <a:prstGeom prst="curvedConnector5">
            <a:avLst>
              <a:gd name="adj1" fmla="val 1154054"/>
              <a:gd name="adj2" fmla="val 50000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4" name="Connettore 7 172"/>
          <p:cNvCxnSpPr/>
          <p:nvPr/>
        </p:nvCxnSpPr>
        <p:spPr>
          <a:xfrm rot="5400000">
            <a:off x="5214240" y="5252760"/>
            <a:ext cx="13320" cy="78156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5" name="Connettore 7 173"/>
          <p:cNvCxnSpPr/>
          <p:nvPr/>
        </p:nvCxnSpPr>
        <p:spPr>
          <a:xfrm flipH="1" flipV="1" rot="5400000">
            <a:off x="6289200" y="494784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6" name="Connettore 7 174"/>
          <p:cNvCxnSpPr/>
          <p:nvPr/>
        </p:nvCxnSpPr>
        <p:spPr>
          <a:xfrm rot="5400000">
            <a:off x="6289200" y="525276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7" name="Connettore 2 175"/>
          <p:cNvCxnSpPr>
            <a:stCxn id="1526" idx="6"/>
            <a:endCxn id="1525" idx="2"/>
          </p:cNvCxnSpPr>
          <p:nvPr/>
        </p:nvCxnSpPr>
        <p:spPr>
          <a:xfrm>
            <a:off x="7058160" y="548460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8" name="Connettore 2 176"/>
          <p:cNvCxnSpPr>
            <a:stCxn id="1507" idx="0"/>
            <a:endCxn id="1500" idx="2"/>
          </p:cNvCxnSpPr>
          <p:nvPr/>
        </p:nvCxnSpPr>
        <p:spPr>
          <a:xfrm flipV="1">
            <a:off x="900000" y="3828240"/>
            <a:ext cx="288000" cy="56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9" name="Connettore 2 177"/>
          <p:cNvCxnSpPr>
            <a:stCxn id="1507" idx="4"/>
            <a:endCxn id="1520" idx="1"/>
          </p:cNvCxnSpPr>
          <p:nvPr/>
        </p:nvCxnSpPr>
        <p:spPr>
          <a:xfrm>
            <a:off x="899640" y="4822560"/>
            <a:ext cx="389880" cy="510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40" name="Connettore 2 178"/>
          <p:cNvCxnSpPr>
            <a:stCxn id="1526" idx="7"/>
            <a:endCxn id="1508" idx="3"/>
          </p:cNvCxnSpPr>
          <p:nvPr/>
        </p:nvCxnSpPr>
        <p:spPr>
          <a:xfrm flipV="1">
            <a:off x="6994440" y="4773600"/>
            <a:ext cx="1169280" cy="55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41" name="Connettore 2 179"/>
          <p:cNvCxnSpPr>
            <a:stCxn id="1506" idx="5"/>
            <a:endCxn id="1508" idx="0"/>
          </p:cNvCxnSpPr>
          <p:nvPr/>
        </p:nvCxnSpPr>
        <p:spPr>
          <a:xfrm>
            <a:off x="6956280" y="3981240"/>
            <a:ext cx="136116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42" name="Connettore 2 180"/>
          <p:cNvCxnSpPr>
            <a:stCxn id="1500" idx="4"/>
            <a:endCxn id="1508" idx="1"/>
          </p:cNvCxnSpPr>
          <p:nvPr/>
        </p:nvCxnSpPr>
        <p:spPr>
          <a:xfrm>
            <a:off x="1402920" y="4044600"/>
            <a:ext cx="676044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3" name="Connettore 2 181"/>
          <p:cNvCxnSpPr>
            <a:stCxn id="1520" idx="0"/>
            <a:endCxn id="1508" idx="2"/>
          </p:cNvCxnSpPr>
          <p:nvPr/>
        </p:nvCxnSpPr>
        <p:spPr>
          <a:xfrm flipV="1">
            <a:off x="1441080" y="4620600"/>
            <a:ext cx="666036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44" name="CasellaDiTesto 150"/>
          <p:cNvSpPr/>
          <p:nvPr/>
        </p:nvSpPr>
        <p:spPr>
          <a:xfrm>
            <a:off x="355680" y="390060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45" name="CasellaDiTesto 151"/>
          <p:cNvSpPr/>
          <p:nvPr/>
        </p:nvSpPr>
        <p:spPr>
          <a:xfrm>
            <a:off x="442080" y="502920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206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B</a:t>
            </a: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 = 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46" name="CasellaDiTesto 153"/>
          <p:cNvSpPr/>
          <p:nvPr/>
        </p:nvSpPr>
        <p:spPr>
          <a:xfrm>
            <a:off x="2876400" y="419256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 = -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47" name="CasellaDiTesto 155"/>
          <p:cNvSpPr/>
          <p:nvPr/>
        </p:nvSpPr>
        <p:spPr>
          <a:xfrm>
            <a:off x="3394440" y="47070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206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A</a:t>
            </a: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 = 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48" name="Connettore 2 188"/>
          <p:cNvCxnSpPr>
            <a:stCxn id="1522" idx="1"/>
            <a:endCxn id="1502" idx="3"/>
          </p:cNvCxnSpPr>
          <p:nvPr/>
        </p:nvCxnSpPr>
        <p:spPr>
          <a:xfrm flipH="1" flipV="1">
            <a:off x="5571720" y="3981600"/>
            <a:ext cx="37440" cy="135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549" name="Connettore 2 189"/>
          <p:cNvCxnSpPr/>
          <p:nvPr/>
        </p:nvCxnSpPr>
        <p:spPr>
          <a:xfrm flipH="1" flipV="1">
            <a:off x="6682680" y="3956760"/>
            <a:ext cx="37080" cy="135180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550" name="Connettore 2 190"/>
          <p:cNvCxnSpPr>
            <a:stCxn id="1502" idx="5"/>
            <a:endCxn id="1522" idx="7"/>
          </p:cNvCxnSpPr>
          <p:nvPr/>
        </p:nvCxnSpPr>
        <p:spPr>
          <a:xfrm>
            <a:off x="5877000" y="3981600"/>
            <a:ext cx="38880" cy="135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551" name="Connettore 2 191"/>
          <p:cNvCxnSpPr/>
          <p:nvPr/>
        </p:nvCxnSpPr>
        <p:spPr>
          <a:xfrm>
            <a:off x="6981840" y="4006440"/>
            <a:ext cx="38880" cy="135180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552" name="Connettore 7 192"/>
          <p:cNvCxnSpPr/>
          <p:nvPr/>
        </p:nvCxnSpPr>
        <p:spPr>
          <a:xfrm flipH="1" flipV="1" rot="5400000">
            <a:off x="1986480" y="4718880"/>
            <a:ext cx="13320" cy="1086840"/>
          </a:xfrm>
          <a:prstGeom prst="curvedConnector5">
            <a:avLst>
              <a:gd name="adj1" fmla="val 1800000"/>
              <a:gd name="adj2" fmla="val 50000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553" name="Connettore 7 193"/>
          <p:cNvCxnSpPr/>
          <p:nvPr/>
        </p:nvCxnSpPr>
        <p:spPr>
          <a:xfrm flipH="1" flipV="1" rot="5400000">
            <a:off x="1970640" y="3053520"/>
            <a:ext cx="13320" cy="1086840"/>
          </a:xfrm>
          <a:prstGeom prst="curvedConnector5">
            <a:avLst>
              <a:gd name="adj1" fmla="val 1800000"/>
              <a:gd name="adj2" fmla="val 50000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554" name="Connettore 7 194"/>
          <p:cNvCxnSpPr>
            <a:stCxn id="1501" idx="4"/>
            <a:endCxn id="1500" idx="4"/>
          </p:cNvCxnSpPr>
          <p:nvPr/>
        </p:nvCxnSpPr>
        <p:spPr>
          <a:xfrm rot="5400000">
            <a:off x="1945440" y="3502080"/>
            <a:ext cx="1368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555" name="Connettore 7 195"/>
          <p:cNvCxnSpPr/>
          <p:nvPr/>
        </p:nvCxnSpPr>
        <p:spPr>
          <a:xfrm rot="5400000">
            <a:off x="1983600" y="5183280"/>
            <a:ext cx="1368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1556" name="CasellaDiTesto 1"/>
          <p:cNvSpPr/>
          <p:nvPr/>
        </p:nvSpPr>
        <p:spPr>
          <a:xfrm>
            <a:off x="720360" y="211788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Time horizon T1 [0;15]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5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EDE6-2457-4DD4-B2AC-E03A5D1ABAC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Ovale 1"/>
          <p:cNvSpPr/>
          <p:nvPr/>
        </p:nvSpPr>
        <p:spPr>
          <a:xfrm>
            <a:off x="140328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59" name="Ovale 2"/>
          <p:cNvSpPr/>
          <p:nvPr/>
        </p:nvSpPr>
        <p:spPr>
          <a:xfrm>
            <a:off x="248904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0" name="Ovale 3"/>
          <p:cNvSpPr/>
          <p:nvPr/>
        </p:nvSpPr>
        <p:spPr>
          <a:xfrm>
            <a:off x="572436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5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1" name="Ovale 4"/>
          <p:cNvSpPr/>
          <p:nvPr/>
        </p:nvSpPr>
        <p:spPr>
          <a:xfrm>
            <a:off x="357012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0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2" name="Ovale 5"/>
          <p:cNvSpPr/>
          <p:nvPr/>
        </p:nvSpPr>
        <p:spPr>
          <a:xfrm>
            <a:off x="464328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3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3" name="Ovale 6"/>
          <p:cNvSpPr/>
          <p:nvPr/>
        </p:nvSpPr>
        <p:spPr>
          <a:xfrm>
            <a:off x="7956720" y="35132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4" name="Ovale 7"/>
          <p:cNvSpPr/>
          <p:nvPr/>
        </p:nvSpPr>
        <p:spPr>
          <a:xfrm>
            <a:off x="680400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6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5" name="Ovale 8"/>
          <p:cNvSpPr/>
          <p:nvPr/>
        </p:nvSpPr>
        <p:spPr>
          <a:xfrm>
            <a:off x="900000" y="42926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6" name="Ovale 9"/>
          <p:cNvSpPr/>
          <p:nvPr/>
        </p:nvSpPr>
        <p:spPr>
          <a:xfrm>
            <a:off x="8317080" y="4305240"/>
            <a:ext cx="43164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*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67" name="Connettore 7 10"/>
          <p:cNvCxnSpPr/>
          <p:nvPr/>
        </p:nvCxnSpPr>
        <p:spPr>
          <a:xfrm flipH="1" flipV="1" rot="5400000">
            <a:off x="2147400" y="318564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68" name="Connettore 7 11"/>
          <p:cNvCxnSpPr>
            <a:stCxn id="1559" idx="3"/>
            <a:endCxn id="1558" idx="5"/>
          </p:cNvCxnSpPr>
          <p:nvPr/>
        </p:nvCxnSpPr>
        <p:spPr>
          <a:xfrm rot="5400000">
            <a:off x="2161440" y="3490560"/>
            <a:ext cx="13320" cy="781560"/>
          </a:xfrm>
          <a:prstGeom prst="curvedConnector5">
            <a:avLst>
              <a:gd name="adj1" fmla="val 697222"/>
              <a:gd name="adj2" fmla="val 50000"/>
              <a:gd name="adj3" fmla="val 69722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69" name="Connettore 7 12"/>
          <p:cNvCxnSpPr/>
          <p:nvPr/>
        </p:nvCxnSpPr>
        <p:spPr>
          <a:xfrm flipH="1" flipV="1" rot="5400000">
            <a:off x="3226320" y="3198240"/>
            <a:ext cx="13320" cy="78156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0" name="Connettore 7 13"/>
          <p:cNvCxnSpPr/>
          <p:nvPr/>
        </p:nvCxnSpPr>
        <p:spPr>
          <a:xfrm rot="5400000">
            <a:off x="3239280" y="3505320"/>
            <a:ext cx="13680" cy="7783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1" name="Connettore 7 14"/>
          <p:cNvCxnSpPr/>
          <p:nvPr/>
        </p:nvCxnSpPr>
        <p:spPr>
          <a:xfrm flipH="1" flipV="1" rot="5400000">
            <a:off x="4305960" y="319320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2" name="Connettore 7 15"/>
          <p:cNvCxnSpPr/>
          <p:nvPr/>
        </p:nvCxnSpPr>
        <p:spPr>
          <a:xfrm rot="5400000">
            <a:off x="4318920" y="3497040"/>
            <a:ext cx="13320" cy="78156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3" name="Connettore 7 16"/>
          <p:cNvCxnSpPr/>
          <p:nvPr/>
        </p:nvCxnSpPr>
        <p:spPr>
          <a:xfrm flipH="1" flipV="1" rot="5400000">
            <a:off x="5428800" y="3205440"/>
            <a:ext cx="13680" cy="780120"/>
          </a:xfrm>
          <a:prstGeom prst="curvedConnector5">
            <a:avLst>
              <a:gd name="adj1" fmla="val 1154054"/>
              <a:gd name="adj2" fmla="val 50000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4" name="Connettore 7 17"/>
          <p:cNvCxnSpPr/>
          <p:nvPr/>
        </p:nvCxnSpPr>
        <p:spPr>
          <a:xfrm rot="5400000">
            <a:off x="5394600" y="349776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5" name="Connettore 7 18"/>
          <p:cNvCxnSpPr/>
          <p:nvPr/>
        </p:nvCxnSpPr>
        <p:spPr>
          <a:xfrm flipH="1" flipV="1" rot="5400000">
            <a:off x="6467400" y="319176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6" name="Connettore 7 19"/>
          <p:cNvCxnSpPr/>
          <p:nvPr/>
        </p:nvCxnSpPr>
        <p:spPr>
          <a:xfrm rot="5400000">
            <a:off x="6467040" y="349704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7" name="Connettore 2 20"/>
          <p:cNvCxnSpPr>
            <a:stCxn id="1564" idx="6"/>
            <a:endCxn id="1563" idx="2"/>
          </p:cNvCxnSpPr>
          <p:nvPr/>
        </p:nvCxnSpPr>
        <p:spPr>
          <a:xfrm>
            <a:off x="7236000" y="372852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78" name="Ovale 21"/>
          <p:cNvSpPr/>
          <p:nvPr/>
        </p:nvSpPr>
        <p:spPr>
          <a:xfrm>
            <a:off x="5148360" y="45212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5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79" name="Ovale 22"/>
          <p:cNvSpPr/>
          <p:nvPr/>
        </p:nvSpPr>
        <p:spPr>
          <a:xfrm>
            <a:off x="4067280" y="4521240"/>
            <a:ext cx="4334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0" name="Ovale 23"/>
          <p:cNvSpPr/>
          <p:nvPr/>
        </p:nvSpPr>
        <p:spPr>
          <a:xfrm>
            <a:off x="7380360" y="45212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1" name="Ovale 24"/>
          <p:cNvSpPr/>
          <p:nvPr/>
        </p:nvSpPr>
        <p:spPr>
          <a:xfrm>
            <a:off x="6227640" y="4521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7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82" name="Connettore 7 25"/>
          <p:cNvCxnSpPr/>
          <p:nvPr/>
        </p:nvCxnSpPr>
        <p:spPr>
          <a:xfrm flipH="1" flipV="1" rot="5400000">
            <a:off x="4816800" y="4201560"/>
            <a:ext cx="13680" cy="778680"/>
          </a:xfrm>
          <a:prstGeom prst="curvedConnector5">
            <a:avLst>
              <a:gd name="adj1" fmla="val 1154054"/>
              <a:gd name="adj2" fmla="val 50000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3" name="Connettore 7 26"/>
          <p:cNvCxnSpPr/>
          <p:nvPr/>
        </p:nvCxnSpPr>
        <p:spPr>
          <a:xfrm rot="5400000">
            <a:off x="4817520" y="450648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4" name="Connettore 7 27"/>
          <p:cNvCxnSpPr/>
          <p:nvPr/>
        </p:nvCxnSpPr>
        <p:spPr>
          <a:xfrm flipH="1" flipV="1" rot="5400000">
            <a:off x="5892480" y="4202280"/>
            <a:ext cx="13320" cy="78012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5" name="Connettore 7 28"/>
          <p:cNvCxnSpPr/>
          <p:nvPr/>
        </p:nvCxnSpPr>
        <p:spPr>
          <a:xfrm rot="5400000">
            <a:off x="5892480" y="4507560"/>
            <a:ext cx="13680" cy="780120"/>
          </a:xfrm>
          <a:prstGeom prst="curvedConnector5">
            <a:avLst>
              <a:gd name="adj1" fmla="val 1154054"/>
              <a:gd name="adj2" fmla="val 50000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6" name="Connettore 2 29"/>
          <p:cNvCxnSpPr>
            <a:stCxn id="1581" idx="6"/>
            <a:endCxn id="1580" idx="2"/>
          </p:cNvCxnSpPr>
          <p:nvPr/>
        </p:nvCxnSpPr>
        <p:spPr>
          <a:xfrm>
            <a:off x="6659640" y="473688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7" name="Connettore 2 30"/>
          <p:cNvCxnSpPr>
            <a:stCxn id="1565" idx="0"/>
            <a:endCxn id="1558" idx="2"/>
          </p:cNvCxnSpPr>
          <p:nvPr/>
        </p:nvCxnSpPr>
        <p:spPr>
          <a:xfrm flipV="1">
            <a:off x="1116000" y="3728520"/>
            <a:ext cx="288000" cy="564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8" name="Connettore 2 31"/>
          <p:cNvCxnSpPr>
            <a:stCxn id="1565" idx="6"/>
            <a:endCxn id="1579" idx="2"/>
          </p:cNvCxnSpPr>
          <p:nvPr/>
        </p:nvCxnSpPr>
        <p:spPr>
          <a:xfrm>
            <a:off x="1332000" y="4508280"/>
            <a:ext cx="273600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9" name="Connettore 2 32"/>
          <p:cNvCxnSpPr>
            <a:stCxn id="1564" idx="5"/>
            <a:endCxn id="1566" idx="0"/>
          </p:cNvCxnSpPr>
          <p:nvPr/>
        </p:nvCxnSpPr>
        <p:spPr>
          <a:xfrm>
            <a:off x="7171920" y="3881160"/>
            <a:ext cx="136080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90" name="Connettore 2 33"/>
          <p:cNvCxnSpPr>
            <a:stCxn id="1558" idx="4"/>
            <a:endCxn id="1566" idx="1"/>
          </p:cNvCxnSpPr>
          <p:nvPr/>
        </p:nvCxnSpPr>
        <p:spPr>
          <a:xfrm>
            <a:off x="1618920" y="3944880"/>
            <a:ext cx="6760440" cy="424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91" name="CasellaDiTesto 113"/>
          <p:cNvSpPr/>
          <p:nvPr/>
        </p:nvSpPr>
        <p:spPr>
          <a:xfrm>
            <a:off x="519120" y="38131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αA = 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2" name="CasellaDiTesto 114"/>
          <p:cNvSpPr/>
          <p:nvPr/>
        </p:nvSpPr>
        <p:spPr>
          <a:xfrm>
            <a:off x="1645560" y="424656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206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B</a:t>
            </a: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 = 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3" name="CasellaDiTesto 115"/>
          <p:cNvSpPr/>
          <p:nvPr/>
        </p:nvSpPr>
        <p:spPr>
          <a:xfrm>
            <a:off x="3095640" y="406404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 = -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4" name="CasellaDiTesto 117"/>
          <p:cNvSpPr/>
          <p:nvPr/>
        </p:nvSpPr>
        <p:spPr>
          <a:xfrm>
            <a:off x="5524920" y="514512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206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B</a:t>
            </a: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 = -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5" name="Ovale 40"/>
          <p:cNvSpPr/>
          <p:nvPr/>
        </p:nvSpPr>
        <p:spPr>
          <a:xfrm>
            <a:off x="7380360" y="533880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it-IT" sz="1000" spc="-1" strike="noStrike">
                <a:solidFill>
                  <a:srgbClr val="00800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6" name="Ovale 41"/>
          <p:cNvSpPr/>
          <p:nvPr/>
        </p:nvSpPr>
        <p:spPr>
          <a:xfrm>
            <a:off x="6227640" y="533880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C17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97" name="Connettore 2 42"/>
          <p:cNvCxnSpPr>
            <a:stCxn id="1596" idx="6"/>
            <a:endCxn id="1595" idx="2"/>
          </p:cNvCxnSpPr>
          <p:nvPr/>
        </p:nvCxnSpPr>
        <p:spPr>
          <a:xfrm>
            <a:off x="6659640" y="555444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98" name="CasellaDiTesto 122"/>
          <p:cNvSpPr/>
          <p:nvPr/>
        </p:nvSpPr>
        <p:spPr>
          <a:xfrm>
            <a:off x="7967880" y="575784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800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 = -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99" name="Connettore 2 44"/>
          <p:cNvCxnSpPr>
            <a:stCxn id="1565" idx="4"/>
            <a:endCxn id="1596" idx="2"/>
          </p:cNvCxnSpPr>
          <p:nvPr/>
        </p:nvCxnSpPr>
        <p:spPr>
          <a:xfrm>
            <a:off x="1115640" y="4723920"/>
            <a:ext cx="5112360" cy="83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00" name="CasellaDiTesto 124"/>
          <p:cNvSpPr/>
          <p:nvPr/>
        </p:nvSpPr>
        <p:spPr>
          <a:xfrm>
            <a:off x="1798560" y="492120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800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 = 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601" name="Connettore 2 46"/>
          <p:cNvCxnSpPr>
            <a:stCxn id="1580" idx="3"/>
            <a:endCxn id="1596" idx="7"/>
          </p:cNvCxnSpPr>
          <p:nvPr/>
        </p:nvCxnSpPr>
        <p:spPr>
          <a:xfrm flipH="1">
            <a:off x="6595200" y="4889520"/>
            <a:ext cx="848520" cy="513360"/>
          </a:xfrm>
          <a:prstGeom prst="straightConnector1">
            <a:avLst/>
          </a:prstGeom>
          <a:ln w="19080">
            <a:solidFill>
              <a:srgbClr val="000000"/>
            </a:solidFill>
            <a:prstDash val="sysDash"/>
            <a:miter/>
            <a:tailEnd len="lg" type="triangle" w="lg"/>
          </a:ln>
        </p:spPr>
      </p:cxnSp>
      <p:cxnSp>
        <p:nvCxnSpPr>
          <p:cNvPr id="1602" name="Connettore 2 47"/>
          <p:cNvCxnSpPr>
            <a:stCxn id="1595" idx="1"/>
            <a:endCxn id="1581" idx="5"/>
          </p:cNvCxnSpPr>
          <p:nvPr/>
        </p:nvCxnSpPr>
        <p:spPr>
          <a:xfrm flipH="1" flipV="1">
            <a:off x="6595200" y="4889160"/>
            <a:ext cx="848520" cy="513360"/>
          </a:xfrm>
          <a:prstGeom prst="straightConnector1">
            <a:avLst/>
          </a:prstGeom>
          <a:ln w="19080">
            <a:solidFill>
              <a:srgbClr val="000000"/>
            </a:solidFill>
            <a:prstDash val="sysDash"/>
            <a:miter/>
            <a:tailEnd len="lg" type="triangle" w="lg"/>
          </a:ln>
        </p:spPr>
      </p:cxnSp>
      <p:cxnSp>
        <p:nvCxnSpPr>
          <p:cNvPr id="1603" name="Connettore 2 48"/>
          <p:cNvCxnSpPr>
            <a:stCxn id="1560" idx="3"/>
            <a:endCxn id="1578" idx="0"/>
          </p:cNvCxnSpPr>
          <p:nvPr/>
        </p:nvCxnSpPr>
        <p:spPr>
          <a:xfrm flipH="1">
            <a:off x="5363640" y="3882600"/>
            <a:ext cx="424800" cy="63900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604" name="Connettore 2 49"/>
          <p:cNvCxnSpPr>
            <a:stCxn id="1564" idx="3"/>
            <a:endCxn id="1581" idx="0"/>
          </p:cNvCxnSpPr>
          <p:nvPr/>
        </p:nvCxnSpPr>
        <p:spPr>
          <a:xfrm flipH="1">
            <a:off x="6442920" y="3881160"/>
            <a:ext cx="424440" cy="6404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605" name="Connettore 2 50"/>
          <p:cNvCxnSpPr>
            <a:stCxn id="1578" idx="7"/>
            <a:endCxn id="1560" idx="4"/>
          </p:cNvCxnSpPr>
          <p:nvPr/>
        </p:nvCxnSpPr>
        <p:spPr>
          <a:xfrm flipV="1">
            <a:off x="5516280" y="3944160"/>
            <a:ext cx="424440" cy="6404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606" name="Connettore 2 51"/>
          <p:cNvCxnSpPr/>
          <p:nvPr/>
        </p:nvCxnSpPr>
        <p:spPr>
          <a:xfrm flipV="1">
            <a:off x="6609960" y="3934800"/>
            <a:ext cx="424440" cy="6404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607" name="Connettore 7 52"/>
          <p:cNvCxnSpPr/>
          <p:nvPr/>
        </p:nvCxnSpPr>
        <p:spPr>
          <a:xfrm flipH="1" flipV="1" rot="5400000">
            <a:off x="2161800" y="2963520"/>
            <a:ext cx="1368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608" name="Connettore 7 53"/>
          <p:cNvCxnSpPr/>
          <p:nvPr/>
        </p:nvCxnSpPr>
        <p:spPr>
          <a:xfrm rot="5400000">
            <a:off x="2174400" y="3403440"/>
            <a:ext cx="1332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609" name="Connettore 7 54"/>
          <p:cNvCxnSpPr/>
          <p:nvPr/>
        </p:nvCxnSpPr>
        <p:spPr>
          <a:xfrm flipH="1" flipV="1" rot="5400000">
            <a:off x="7439400" y="3665880"/>
            <a:ext cx="64080" cy="1720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10" name="Connettore 7 55"/>
          <p:cNvCxnSpPr>
            <a:stCxn id="1596" idx="4"/>
            <a:endCxn id="1566" idx="4"/>
          </p:cNvCxnSpPr>
          <p:nvPr/>
        </p:nvCxnSpPr>
        <p:spPr>
          <a:xfrm flipH="1" flipV="1" rot="5400000">
            <a:off x="6973200" y="4209120"/>
            <a:ext cx="1033560" cy="2090160"/>
          </a:xfrm>
          <a:prstGeom prst="curvedConnector5">
            <a:avLst>
              <a:gd name="adj1" fmla="val -22125"/>
              <a:gd name="adj2" fmla="val 49991"/>
              <a:gd name="adj3" fmla="val -22125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11" name="Connettore 7 56"/>
          <p:cNvCxnSpPr>
            <a:stCxn id="1579" idx="4"/>
            <a:endCxn id="1566" idx="3"/>
          </p:cNvCxnSpPr>
          <p:nvPr/>
        </p:nvCxnSpPr>
        <p:spPr>
          <a:xfrm flipH="1" flipV="1" rot="5400000">
            <a:off x="6190920" y="2764800"/>
            <a:ext cx="280080" cy="4096800"/>
          </a:xfrm>
          <a:prstGeom prst="curvedConnector5">
            <a:avLst>
              <a:gd name="adj1" fmla="val -81724"/>
              <a:gd name="adj2" fmla="val 49995"/>
              <a:gd name="adj3" fmla="val -8172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12" name="Rectangle 3516"/>
          <p:cNvSpPr/>
          <p:nvPr/>
        </p:nvSpPr>
        <p:spPr>
          <a:xfrm>
            <a:off x="6620400" y="91908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3" name="Rectangle 3517"/>
          <p:cNvSpPr/>
          <p:nvPr/>
        </p:nvSpPr>
        <p:spPr>
          <a:xfrm>
            <a:off x="74505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4" name="Rectangle 3518"/>
          <p:cNvSpPr/>
          <p:nvPr/>
        </p:nvSpPr>
        <p:spPr>
          <a:xfrm>
            <a:off x="3239280" y="94284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5" name="Rectangle 3519"/>
          <p:cNvSpPr/>
          <p:nvPr/>
        </p:nvSpPr>
        <p:spPr>
          <a:xfrm>
            <a:off x="512928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6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7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8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9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20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21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22" name="Rectangle 3545"/>
          <p:cNvSpPr/>
          <p:nvPr/>
        </p:nvSpPr>
        <p:spPr>
          <a:xfrm>
            <a:off x="7666200" y="2455920"/>
            <a:ext cx="3729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623" name="Group 3554"/>
          <p:cNvGrpSpPr/>
          <p:nvPr/>
        </p:nvGrpSpPr>
        <p:grpSpPr>
          <a:xfrm>
            <a:off x="3534840" y="2494080"/>
            <a:ext cx="535680" cy="617400"/>
            <a:chOff x="3534840" y="2494080"/>
            <a:chExt cx="535680" cy="617400"/>
          </a:xfrm>
        </p:grpSpPr>
        <p:sp>
          <p:nvSpPr>
            <p:cNvPr id="1624" name="Oval 3555"/>
            <p:cNvSpPr/>
            <p:nvPr/>
          </p:nvSpPr>
          <p:spPr>
            <a:xfrm>
              <a:off x="371628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25" name="Text Box 3556"/>
            <p:cNvSpPr/>
            <p:nvPr/>
          </p:nvSpPr>
          <p:spPr>
            <a:xfrm>
              <a:off x="3534840" y="28044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26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627" name="Group 3558"/>
          <p:cNvGrpSpPr/>
          <p:nvPr/>
        </p:nvGrpSpPr>
        <p:grpSpPr>
          <a:xfrm>
            <a:off x="3548160" y="1298520"/>
            <a:ext cx="566280" cy="812880"/>
            <a:chOff x="3548160" y="1298520"/>
            <a:chExt cx="566280" cy="812880"/>
          </a:xfrm>
        </p:grpSpPr>
        <p:sp>
          <p:nvSpPr>
            <p:cNvPr id="1628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29" name="Text Box 3560"/>
            <p:cNvSpPr/>
            <p:nvPr/>
          </p:nvSpPr>
          <p:spPr>
            <a:xfrm>
              <a:off x="354816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30" name="Line 3561"/>
            <p:cNvSpPr/>
            <p:nvPr/>
          </p:nvSpPr>
          <p:spPr>
            <a:xfrm>
              <a:off x="3818880" y="1546200"/>
              <a:ext cx="7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631" name="Group 3562"/>
          <p:cNvGrpSpPr/>
          <p:nvPr/>
        </p:nvGrpSpPr>
        <p:grpSpPr>
          <a:xfrm>
            <a:off x="3500640" y="1916280"/>
            <a:ext cx="595080" cy="617040"/>
            <a:chOff x="3500640" y="1916280"/>
            <a:chExt cx="595080" cy="617040"/>
          </a:xfrm>
        </p:grpSpPr>
        <p:sp>
          <p:nvSpPr>
            <p:cNvPr id="1632" name="Text Box 3563"/>
            <p:cNvSpPr/>
            <p:nvPr/>
          </p:nvSpPr>
          <p:spPr>
            <a:xfrm>
              <a:off x="3500640" y="222624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33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34" name="Line 3565"/>
            <p:cNvSpPr/>
            <p:nvPr/>
          </p:nvSpPr>
          <p:spPr>
            <a:xfrm>
              <a:off x="3819240" y="21596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635" name="Line 3572"/>
          <p:cNvSpPr/>
          <p:nvPr/>
        </p:nvSpPr>
        <p:spPr>
          <a:xfrm>
            <a:off x="8040600" y="2519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36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37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38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39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0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1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2" name="AutoShape 3525"/>
          <p:cNvSpPr/>
          <p:nvPr/>
        </p:nvSpPr>
        <p:spPr>
          <a:xfrm>
            <a:off x="5899320" y="2511360"/>
            <a:ext cx="1854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3" name="AutoShape 3525"/>
          <p:cNvSpPr/>
          <p:nvPr/>
        </p:nvSpPr>
        <p:spPr>
          <a:xfrm>
            <a:off x="5899320" y="1316160"/>
            <a:ext cx="1854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4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5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6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7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8" name="Line 3572"/>
          <p:cNvSpPr/>
          <p:nvPr/>
        </p:nvSpPr>
        <p:spPr>
          <a:xfrm>
            <a:off x="8039160" y="16066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9" name="AutoShape 3527"/>
          <p:cNvSpPr/>
          <p:nvPr/>
        </p:nvSpPr>
        <p:spPr>
          <a:xfrm rot="4098000">
            <a:off x="4106160" y="1477080"/>
            <a:ext cx="706680" cy="504720"/>
          </a:xfrm>
          <a:prstGeom prst="parallelogram">
            <a:avLst>
              <a:gd name="adj" fmla="val 1113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0" name="AutoShape 3527"/>
          <p:cNvSpPr/>
          <p:nvPr/>
        </p:nvSpPr>
        <p:spPr>
          <a:xfrm rot="4098000">
            <a:off x="4095000" y="2080080"/>
            <a:ext cx="728640" cy="511200"/>
          </a:xfrm>
          <a:prstGeom prst="parallelogram">
            <a:avLst>
              <a:gd name="adj" fmla="val 1109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1" name="CasellaDiTesto 89"/>
          <p:cNvSpPr/>
          <p:nvPr/>
        </p:nvSpPr>
        <p:spPr>
          <a:xfrm>
            <a:off x="430200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2" name="CasellaDiTesto 90"/>
          <p:cNvSpPr/>
          <p:nvPr/>
        </p:nvSpPr>
        <p:spPr>
          <a:xfrm>
            <a:off x="4335120" y="16207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3" name="CasellaDiTesto 91"/>
          <p:cNvSpPr/>
          <p:nvPr/>
        </p:nvSpPr>
        <p:spPr>
          <a:xfrm>
            <a:off x="612360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4" name="CasellaDiTesto 92"/>
          <p:cNvSpPr/>
          <p:nvPr/>
        </p:nvSpPr>
        <p:spPr>
          <a:xfrm>
            <a:off x="6109560" y="22939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5" name="Text Box 3394"/>
          <p:cNvSpPr/>
          <p:nvPr/>
        </p:nvSpPr>
        <p:spPr>
          <a:xfrm>
            <a:off x="747936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6" name="Text Box 3394"/>
          <p:cNvSpPr/>
          <p:nvPr/>
        </p:nvSpPr>
        <p:spPr>
          <a:xfrm>
            <a:off x="748836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7" name="CasellaDiTesto 102"/>
          <p:cNvSpPr/>
          <p:nvPr/>
        </p:nvSpPr>
        <p:spPr>
          <a:xfrm>
            <a:off x="481464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8" name="Freeform 166"/>
          <p:cNvSpPr/>
          <p:nvPr/>
        </p:nvSpPr>
        <p:spPr>
          <a:xfrm>
            <a:off x="3720960" y="1254240"/>
            <a:ext cx="4577040" cy="55404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4141" h="502">
                <a:moveTo>
                  <a:pt x="0" y="0"/>
                </a:moveTo>
                <a:lnTo>
                  <a:pt x="2426" y="8"/>
                </a:lnTo>
                <a:lnTo>
                  <a:pt x="2663" y="502"/>
                </a:lnTo>
                <a:lnTo>
                  <a:pt x="3395" y="502"/>
                </a:lnTo>
                <a:lnTo>
                  <a:pt x="3514" y="145"/>
                </a:lnTo>
                <a:lnTo>
                  <a:pt x="4141" y="14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9" name="Rectangle 168"/>
          <p:cNvSpPr/>
          <p:nvPr/>
        </p:nvSpPr>
        <p:spPr>
          <a:xfrm>
            <a:off x="8263440" y="1197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0" name="Rectangle 169"/>
          <p:cNvSpPr/>
          <p:nvPr/>
        </p:nvSpPr>
        <p:spPr>
          <a:xfrm>
            <a:off x="3386520" y="1052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1" name="Rectangle 170"/>
          <p:cNvSpPr/>
          <p:nvPr/>
        </p:nvSpPr>
        <p:spPr>
          <a:xfrm>
            <a:off x="8325000" y="2421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2" name="Rectangle 171"/>
          <p:cNvSpPr/>
          <p:nvPr/>
        </p:nvSpPr>
        <p:spPr>
          <a:xfrm>
            <a:off x="5868720" y="2695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3" name="Titolo 26"/>
          <p:cNvSpPr/>
          <p:nvPr/>
        </p:nvSpPr>
        <p:spPr>
          <a:xfrm>
            <a:off x="179280" y="704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RH: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Stage 2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4" name="CasellaDiTesto 115"/>
          <p:cNvSpPr/>
          <p:nvPr/>
        </p:nvSpPr>
        <p:spPr>
          <a:xfrm>
            <a:off x="720360" y="2117880"/>
            <a:ext cx="195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Roll Period = 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Time horizon T2 [5;20]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5" name="Rettangolo 114"/>
          <p:cNvSpPr/>
          <p:nvPr/>
        </p:nvSpPr>
        <p:spPr>
          <a:xfrm>
            <a:off x="108000" y="5807160"/>
            <a:ext cx="622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bservatio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: At this stage the release time of A and C can be updated dynamically if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updated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entry times are known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6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9CFA-7668-4363-B0CB-734C8F5A873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7" name="Freeform 165"/>
          <p:cNvSpPr/>
          <p:nvPr/>
        </p:nvSpPr>
        <p:spPr>
          <a:xfrm>
            <a:off x="6159600" y="2232000"/>
            <a:ext cx="2151000" cy="546120"/>
          </a:xfrm>
          <a:custGeom>
            <a:avLst/>
            <a:gdLst/>
            <a:ahLst/>
            <a:rect l="l" t="t" r="r" b="b"/>
            <a:pathLst>
              <a:path w="4687" h="9841">
                <a:moveTo>
                  <a:pt x="0" y="9738"/>
                </a:moveTo>
                <a:lnTo>
                  <a:pt x="529" y="9841"/>
                </a:lnTo>
                <a:lnTo>
                  <a:pt x="1099" y="0"/>
                </a:lnTo>
                <a:lnTo>
                  <a:pt x="2862" y="0"/>
                </a:lnTo>
                <a:cubicBezTo>
                  <a:pt x="2950" y="2490"/>
                  <a:pt x="3039" y="4980"/>
                  <a:pt x="3127" y="7470"/>
                </a:cubicBezTo>
                <a:lnTo>
                  <a:pt x="4687" y="7470"/>
                </a:lnTo>
              </a:path>
            </a:pathLst>
          </a:custGeom>
          <a:noFill/>
          <a:ln w="936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8" name="Line 167"/>
          <p:cNvSpPr/>
          <p:nvPr/>
        </p:nvSpPr>
        <p:spPr>
          <a:xfrm flipV="1">
            <a:off x="7201080" y="2152440"/>
            <a:ext cx="1117440" cy="291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9" name="Rectangle 172"/>
          <p:cNvSpPr/>
          <p:nvPr/>
        </p:nvSpPr>
        <p:spPr>
          <a:xfrm>
            <a:off x="8294760" y="1981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70" name="Rectangle 173"/>
          <p:cNvSpPr/>
          <p:nvPr/>
        </p:nvSpPr>
        <p:spPr>
          <a:xfrm>
            <a:off x="6936120" y="2392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Titolo 26"/>
          <p:cNvSpPr/>
          <p:nvPr/>
        </p:nvSpPr>
        <p:spPr>
          <a:xfrm>
            <a:off x="555480" y="7732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Decision Support System based on the Rolling Horizon Approach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72" name="Rectangle 4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673" name="Gruppo 6"/>
          <p:cNvGrpSpPr/>
          <p:nvPr/>
        </p:nvGrpSpPr>
        <p:grpSpPr>
          <a:xfrm>
            <a:off x="496080" y="2276640"/>
            <a:ext cx="8227080" cy="3830400"/>
            <a:chOff x="496080" y="2276640"/>
            <a:chExt cx="8227080" cy="3830400"/>
          </a:xfrm>
        </p:grpSpPr>
        <p:sp>
          <p:nvSpPr>
            <p:cNvPr id="1674" name="Rectangle 24"/>
            <p:cNvSpPr/>
            <p:nvPr/>
          </p:nvSpPr>
          <p:spPr>
            <a:xfrm>
              <a:off x="517680" y="3351960"/>
              <a:ext cx="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75" name="Rectangle 23"/>
            <p:cNvSpPr/>
            <p:nvPr/>
          </p:nvSpPr>
          <p:spPr>
            <a:xfrm>
              <a:off x="517680" y="3547800"/>
              <a:ext cx="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76" name="Rectangle 22"/>
            <p:cNvSpPr/>
            <p:nvPr/>
          </p:nvSpPr>
          <p:spPr>
            <a:xfrm>
              <a:off x="517320" y="374508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77" name="Freeform 12"/>
            <p:cNvSpPr/>
            <p:nvPr/>
          </p:nvSpPr>
          <p:spPr>
            <a:xfrm>
              <a:off x="5920560" y="5616000"/>
              <a:ext cx="105480" cy="36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43"/>
                  </a:moveTo>
                  <a:lnTo>
                    <a:pt x="83" y="0"/>
                  </a:lnTo>
                  <a:lnTo>
                    <a:pt x="62" y="43"/>
                  </a:lnTo>
                  <a:lnTo>
                    <a:pt x="83" y="8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78" name="AutoShape 40"/>
            <p:cNvSpPr/>
            <p:nvPr/>
          </p:nvSpPr>
          <p:spPr>
            <a:xfrm>
              <a:off x="509040" y="3056400"/>
              <a:ext cx="8214120" cy="30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79" name="Rectangle 39"/>
            <p:cNvSpPr/>
            <p:nvPr/>
          </p:nvSpPr>
          <p:spPr>
            <a:xfrm>
              <a:off x="1991520" y="3056400"/>
              <a:ext cx="1368360" cy="98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0" name="Rectangle 38"/>
            <p:cNvSpPr/>
            <p:nvPr/>
          </p:nvSpPr>
          <p:spPr>
            <a:xfrm>
              <a:off x="1991520" y="3056400"/>
              <a:ext cx="1368360" cy="984960"/>
            </a:xfrm>
            <a:prstGeom prst="rect">
              <a:avLst/>
            </a:prstGeom>
            <a:noFill/>
            <a:ln cap="rnd"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1" name="Rectangle 37"/>
            <p:cNvSpPr/>
            <p:nvPr/>
          </p:nvSpPr>
          <p:spPr>
            <a:xfrm>
              <a:off x="2270520" y="335268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stance 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2" name="Rectangle 36"/>
            <p:cNvSpPr/>
            <p:nvPr/>
          </p:nvSpPr>
          <p:spPr>
            <a:xfrm>
              <a:off x="2216880" y="3548160"/>
              <a:ext cx="91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nera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3" name="Line 35"/>
            <p:cNvSpPr/>
            <p:nvPr/>
          </p:nvSpPr>
          <p:spPr>
            <a:xfrm>
              <a:off x="3360240" y="3547800"/>
              <a:ext cx="137124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4" name="Freeform 34"/>
            <p:cNvSpPr/>
            <p:nvPr/>
          </p:nvSpPr>
          <p:spPr>
            <a:xfrm>
              <a:off x="4731840" y="34938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5">
                  <a:moveTo>
                    <a:pt x="83" y="43"/>
                  </a:moveTo>
                  <a:lnTo>
                    <a:pt x="0" y="85"/>
                  </a:lnTo>
                  <a:lnTo>
                    <a:pt x="21" y="43"/>
                  </a:lnTo>
                  <a:lnTo>
                    <a:pt x="0" y="0"/>
                  </a:lnTo>
                  <a:lnTo>
                    <a:pt x="8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5" name="Freeform 33"/>
            <p:cNvSpPr/>
            <p:nvPr/>
          </p:nvSpPr>
          <p:spPr>
            <a:xfrm>
              <a:off x="4731840" y="34938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5">
                  <a:moveTo>
                    <a:pt x="83" y="43"/>
                  </a:moveTo>
                  <a:lnTo>
                    <a:pt x="0" y="85"/>
                  </a:lnTo>
                  <a:lnTo>
                    <a:pt x="21" y="43"/>
                  </a:lnTo>
                  <a:lnTo>
                    <a:pt x="0" y="0"/>
                  </a:lnTo>
                  <a:lnTo>
                    <a:pt x="83" y="43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6" name="Line 32"/>
            <p:cNvSpPr/>
            <p:nvPr/>
          </p:nvSpPr>
          <p:spPr>
            <a:xfrm>
              <a:off x="6784560" y="3547800"/>
              <a:ext cx="91224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7" name="Freeform 31"/>
            <p:cNvSpPr/>
            <p:nvPr/>
          </p:nvSpPr>
          <p:spPr>
            <a:xfrm>
              <a:off x="7696800" y="34794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5">
                  <a:moveTo>
                    <a:pt x="83" y="43"/>
                  </a:moveTo>
                  <a:lnTo>
                    <a:pt x="0" y="85"/>
                  </a:lnTo>
                  <a:lnTo>
                    <a:pt x="21" y="43"/>
                  </a:lnTo>
                  <a:lnTo>
                    <a:pt x="0" y="0"/>
                  </a:lnTo>
                  <a:lnTo>
                    <a:pt x="8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8" name="Freeform 30"/>
            <p:cNvSpPr/>
            <p:nvPr/>
          </p:nvSpPr>
          <p:spPr>
            <a:xfrm>
              <a:off x="7696800" y="34794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5">
                  <a:moveTo>
                    <a:pt x="83" y="43"/>
                  </a:moveTo>
                  <a:lnTo>
                    <a:pt x="0" y="85"/>
                  </a:lnTo>
                  <a:lnTo>
                    <a:pt x="21" y="43"/>
                  </a:lnTo>
                  <a:lnTo>
                    <a:pt x="0" y="0"/>
                  </a:lnTo>
                  <a:lnTo>
                    <a:pt x="83" y="43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9" name="Line 29"/>
            <p:cNvSpPr/>
            <p:nvPr/>
          </p:nvSpPr>
          <p:spPr>
            <a:xfrm>
              <a:off x="509040" y="3547800"/>
              <a:ext cx="14824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0" name="Freeform 28"/>
            <p:cNvSpPr/>
            <p:nvPr/>
          </p:nvSpPr>
          <p:spPr>
            <a:xfrm>
              <a:off x="1877760" y="34938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4">
                  <a:moveTo>
                    <a:pt x="83" y="42"/>
                  </a:moveTo>
                  <a:lnTo>
                    <a:pt x="0" y="84"/>
                  </a:lnTo>
                  <a:lnTo>
                    <a:pt x="21" y="42"/>
                  </a:lnTo>
                  <a:lnTo>
                    <a:pt x="0" y="0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1" name="Freeform 27"/>
            <p:cNvSpPr/>
            <p:nvPr/>
          </p:nvSpPr>
          <p:spPr>
            <a:xfrm>
              <a:off x="1877760" y="34938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4">
                  <a:moveTo>
                    <a:pt x="83" y="42"/>
                  </a:moveTo>
                  <a:lnTo>
                    <a:pt x="0" y="84"/>
                  </a:lnTo>
                  <a:lnTo>
                    <a:pt x="21" y="42"/>
                  </a:lnTo>
                  <a:lnTo>
                    <a:pt x="0" y="0"/>
                  </a:lnTo>
                  <a:lnTo>
                    <a:pt x="83" y="42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2" name="Rectangle 26"/>
            <p:cNvSpPr/>
            <p:nvPr/>
          </p:nvSpPr>
          <p:spPr>
            <a:xfrm>
              <a:off x="6814440" y="3048840"/>
              <a:ext cx="165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easible Solution  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3" name="Rectangle 16"/>
            <p:cNvSpPr/>
            <p:nvPr/>
          </p:nvSpPr>
          <p:spPr>
            <a:xfrm>
              <a:off x="4158720" y="5122080"/>
              <a:ext cx="2283480" cy="98496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4" name="Rectangle 15"/>
            <p:cNvSpPr/>
            <p:nvPr/>
          </p:nvSpPr>
          <p:spPr>
            <a:xfrm>
              <a:off x="4386960" y="5516640"/>
              <a:ext cx="182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new roll period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5" name="Freeform 13"/>
            <p:cNvSpPr/>
            <p:nvPr/>
          </p:nvSpPr>
          <p:spPr>
            <a:xfrm>
              <a:off x="6556320" y="3547800"/>
              <a:ext cx="684000" cy="20678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2067840"/>
                <a:gd name="textAreaBottom" fmla="*/ 2068200 h 2067840"/>
              </a:gdLst>
              <a:ahLst/>
              <a:rect l="textAreaLeft" t="textAreaTop" r="textAreaRight" b="textAreaBottom"/>
              <a:pathLst>
                <a:path w="665" h="1868">
                  <a:moveTo>
                    <a:pt x="665" y="0"/>
                  </a:moveTo>
                  <a:lnTo>
                    <a:pt x="665" y="1868"/>
                  </a:lnTo>
                  <a:lnTo>
                    <a:pt x="0" y="1868"/>
                  </a:lnTo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6" name="Freeform 11"/>
            <p:cNvSpPr/>
            <p:nvPr/>
          </p:nvSpPr>
          <p:spPr>
            <a:xfrm>
              <a:off x="6442560" y="5616000"/>
              <a:ext cx="113760" cy="36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43"/>
                  </a:moveTo>
                  <a:lnTo>
                    <a:pt x="83" y="0"/>
                  </a:lnTo>
                  <a:lnTo>
                    <a:pt x="62" y="43"/>
                  </a:lnTo>
                  <a:lnTo>
                    <a:pt x="83" y="85"/>
                  </a:lnTo>
                  <a:lnTo>
                    <a:pt x="0" y="43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7" name="Freeform 10"/>
            <p:cNvSpPr/>
            <p:nvPr/>
          </p:nvSpPr>
          <p:spPr>
            <a:xfrm>
              <a:off x="2675880" y="4139280"/>
              <a:ext cx="1482480" cy="1476360"/>
            </a:xfrm>
            <a:custGeom>
              <a:avLst/>
              <a:gdLst>
                <a:gd name="textAreaLeft" fmla="*/ 0 w 1482480"/>
                <a:gd name="textAreaRight" fmla="*/ 1482840 w 148248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1068" h="1541">
                  <a:moveTo>
                    <a:pt x="1068" y="1541"/>
                  </a:moveTo>
                  <a:lnTo>
                    <a:pt x="0" y="1541"/>
                  </a:lnTo>
                  <a:lnTo>
                    <a:pt x="0" y="0"/>
                  </a:lnTo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8" name="Freeform 9"/>
            <p:cNvSpPr/>
            <p:nvPr/>
          </p:nvSpPr>
          <p:spPr>
            <a:xfrm>
              <a:off x="2624760" y="404136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4">
                  <a:moveTo>
                    <a:pt x="41" y="0"/>
                  </a:moveTo>
                  <a:lnTo>
                    <a:pt x="83" y="84"/>
                  </a:lnTo>
                  <a:lnTo>
                    <a:pt x="41" y="63"/>
                  </a:lnTo>
                  <a:lnTo>
                    <a:pt x="0" y="8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9" name="Freeform 8"/>
            <p:cNvSpPr/>
            <p:nvPr/>
          </p:nvSpPr>
          <p:spPr>
            <a:xfrm>
              <a:off x="2624760" y="404136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4">
                  <a:moveTo>
                    <a:pt x="41" y="0"/>
                  </a:moveTo>
                  <a:lnTo>
                    <a:pt x="83" y="84"/>
                  </a:lnTo>
                  <a:lnTo>
                    <a:pt x="41" y="63"/>
                  </a:lnTo>
                  <a:lnTo>
                    <a:pt x="0" y="84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0" name="Rectangle 7"/>
            <p:cNvSpPr/>
            <p:nvPr/>
          </p:nvSpPr>
          <p:spPr>
            <a:xfrm>
              <a:off x="2763360" y="5192640"/>
              <a:ext cx="108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ircraft not 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1" name="Rectangle 6"/>
            <p:cNvSpPr/>
            <p:nvPr/>
          </p:nvSpPr>
          <p:spPr>
            <a:xfrm>
              <a:off x="2743560" y="5392800"/>
              <a:ext cx="133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ully processed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2" name="Rectangle 5"/>
            <p:cNvSpPr/>
            <p:nvPr/>
          </p:nvSpPr>
          <p:spPr>
            <a:xfrm>
              <a:off x="4845600" y="3056400"/>
              <a:ext cx="1938600" cy="98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3" name="Rectangle 4"/>
            <p:cNvSpPr/>
            <p:nvPr/>
          </p:nvSpPr>
          <p:spPr>
            <a:xfrm>
              <a:off x="4845600" y="3056400"/>
              <a:ext cx="1938600" cy="98496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4" name="Rectangle 3"/>
            <p:cNvSpPr/>
            <p:nvPr/>
          </p:nvSpPr>
          <p:spPr>
            <a:xfrm>
              <a:off x="5321880" y="3352680"/>
              <a:ext cx="109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ingle Stage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5" name="Rectangle 2"/>
            <p:cNvSpPr/>
            <p:nvPr/>
          </p:nvSpPr>
          <p:spPr>
            <a:xfrm>
              <a:off x="5535360" y="3548160"/>
              <a:ext cx="55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ve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706" name="Connettore 2 350"/>
            <p:cNvCxnSpPr/>
            <p:nvPr/>
          </p:nvCxnSpPr>
          <p:spPr>
            <a:xfrm>
              <a:off x="2676240" y="2542680"/>
              <a:ext cx="3600" cy="5007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lg" type="triangle" w="lg"/>
            </a:ln>
          </p:spPr>
        </p:cxnSp>
        <p:sp>
          <p:nvSpPr>
            <p:cNvPr id="1707" name="Rectangle 101"/>
            <p:cNvSpPr/>
            <p:nvPr/>
          </p:nvSpPr>
          <p:spPr>
            <a:xfrm>
              <a:off x="1985760" y="2276640"/>
              <a:ext cx="370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ircraft entry times (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Tahoma"/>
                </a:rPr>
                <a:t>dynamic informa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8" name="Rectangle 101"/>
            <p:cNvSpPr/>
            <p:nvPr/>
          </p:nvSpPr>
          <p:spPr>
            <a:xfrm>
              <a:off x="3807000" y="3294000"/>
              <a:ext cx="71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ML file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9" name="Rectangle 25"/>
            <p:cNvSpPr/>
            <p:nvPr/>
          </p:nvSpPr>
          <p:spPr>
            <a:xfrm>
              <a:off x="504720" y="2856240"/>
              <a:ext cx="159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irport Resource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10" name="Rectangle 25"/>
            <p:cNvSpPr/>
            <p:nvPr/>
          </p:nvSpPr>
          <p:spPr>
            <a:xfrm>
              <a:off x="498600" y="3069000"/>
              <a:ext cx="125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ircraft Time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11" name="Rectangle 25"/>
            <p:cNvSpPr/>
            <p:nvPr/>
          </p:nvSpPr>
          <p:spPr>
            <a:xfrm>
              <a:off x="496080" y="3285000"/>
              <a:ext cx="134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ircraft Route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12" name="Rectangle 25"/>
            <p:cNvSpPr/>
            <p:nvPr/>
          </p:nvSpPr>
          <p:spPr>
            <a:xfrm>
              <a:off x="508680" y="3571920"/>
              <a:ext cx="1181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ime Horizo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13" name="Rectangle 25"/>
            <p:cNvSpPr/>
            <p:nvPr/>
          </p:nvSpPr>
          <p:spPr>
            <a:xfrm>
              <a:off x="502560" y="3787920"/>
              <a:ext cx="95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oll period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14" name="Rectangle 293"/>
            <p:cNvSpPr/>
            <p:nvPr/>
          </p:nvSpPr>
          <p:spPr>
            <a:xfrm>
              <a:off x="6999480" y="321300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93760"/>
                  <a:tab algn="l" pos="587520"/>
                  <a:tab algn="l" pos="880920"/>
                  <a:tab algn="l" pos="1174680"/>
                  <a:tab algn="l" pos="1468440"/>
                  <a:tab algn="l" pos="1762200"/>
                  <a:tab algn="l" pos="2055960"/>
                  <a:tab algn="l" pos="2349360"/>
                  <a:tab algn="l" pos="2643120"/>
                  <a:tab algn="l" pos="2936880"/>
                  <a:tab algn="l" pos="3230640"/>
                  <a:tab algn="l" pos="3524400"/>
                  <a:tab algn="l" pos="3817800"/>
                  <a:tab algn="l" pos="4111560"/>
                  <a:tab algn="l" pos="4405320"/>
                  <a:tab algn="l" pos="4699080"/>
                  <a:tab algn="l" pos="4992840"/>
                  <a:tab algn="l" pos="5286240"/>
                  <a:tab algn="l" pos="5580000"/>
                  <a:tab algn="l" pos="5873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(if any)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71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E13C-25E2-4821-978E-EC159CBDB64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Titolo 26"/>
          <p:cNvSpPr/>
          <p:nvPr/>
        </p:nvSpPr>
        <p:spPr>
          <a:xfrm>
            <a:off x="380880" y="641520"/>
            <a:ext cx="8305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Single Stage Solver: </a:t>
            </a:r>
            <a:r>
              <a:rPr b="1" i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LIBRARY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17" name="Rectangle 4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718" name="Group 1"/>
          <p:cNvGrpSpPr/>
          <p:nvPr/>
        </p:nvGrpSpPr>
        <p:grpSpPr>
          <a:xfrm>
            <a:off x="662040" y="2427120"/>
            <a:ext cx="7735680" cy="3794400"/>
            <a:chOff x="662040" y="2427120"/>
            <a:chExt cx="7735680" cy="3794400"/>
          </a:xfrm>
        </p:grpSpPr>
        <p:sp>
          <p:nvSpPr>
            <p:cNvPr id="1719" name="AutoShape 41"/>
            <p:cNvSpPr/>
            <p:nvPr/>
          </p:nvSpPr>
          <p:spPr>
            <a:xfrm>
              <a:off x="662040" y="2427120"/>
              <a:ext cx="7677720" cy="37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0" name="Rectangle 40"/>
            <p:cNvSpPr/>
            <p:nvPr/>
          </p:nvSpPr>
          <p:spPr>
            <a:xfrm>
              <a:off x="1979640" y="2630880"/>
              <a:ext cx="1553400" cy="12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1" name="Rectangle 39"/>
            <p:cNvSpPr/>
            <p:nvPr/>
          </p:nvSpPr>
          <p:spPr>
            <a:xfrm>
              <a:off x="1979640" y="2630880"/>
              <a:ext cx="1553400" cy="12081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2" name="Rectangle 38"/>
            <p:cNvSpPr/>
            <p:nvPr/>
          </p:nvSpPr>
          <p:spPr>
            <a:xfrm>
              <a:off x="2439000" y="2877480"/>
              <a:ext cx="762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ircraft   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3" name="Rectangle 37"/>
            <p:cNvSpPr/>
            <p:nvPr/>
          </p:nvSpPr>
          <p:spPr>
            <a:xfrm>
              <a:off x="2170800" y="3129480"/>
              <a:ext cx="1258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cheduling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4" name="Rectangle 36"/>
            <p:cNvSpPr/>
            <p:nvPr/>
          </p:nvSpPr>
          <p:spPr>
            <a:xfrm>
              <a:off x="2453760" y="337896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odule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5" name="Freeform 35"/>
            <p:cNvSpPr/>
            <p:nvPr/>
          </p:nvSpPr>
          <p:spPr>
            <a:xfrm>
              <a:off x="4916880" y="2458440"/>
              <a:ext cx="2316240" cy="1535040"/>
            </a:xfrm>
            <a:custGeom>
              <a:avLst/>
              <a:gdLst>
                <a:gd name="textAreaLeft" fmla="*/ 0 w 2316240"/>
                <a:gd name="textAreaRight" fmla="*/ 2316600 w 231624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6403" h="4242">
                  <a:moveTo>
                    <a:pt x="3201" y="0"/>
                  </a:moveTo>
                  <a:lnTo>
                    <a:pt x="6403" y="2122"/>
                  </a:lnTo>
                  <a:lnTo>
                    <a:pt x="3201" y="4242"/>
                  </a:lnTo>
                  <a:lnTo>
                    <a:pt x="0" y="2122"/>
                  </a:lnTo>
                  <a:lnTo>
                    <a:pt x="3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6" name="Freeform 34"/>
            <p:cNvSpPr/>
            <p:nvPr/>
          </p:nvSpPr>
          <p:spPr>
            <a:xfrm>
              <a:off x="4916880" y="2458440"/>
              <a:ext cx="2316240" cy="1535040"/>
            </a:xfrm>
            <a:custGeom>
              <a:avLst/>
              <a:gdLst>
                <a:gd name="textAreaLeft" fmla="*/ 0 w 2316240"/>
                <a:gd name="textAreaRight" fmla="*/ 2316600 w 231624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6403" h="4242">
                  <a:moveTo>
                    <a:pt x="3201" y="0"/>
                  </a:moveTo>
                  <a:lnTo>
                    <a:pt x="6403" y="2122"/>
                  </a:lnTo>
                  <a:lnTo>
                    <a:pt x="3201" y="4242"/>
                  </a:lnTo>
                  <a:lnTo>
                    <a:pt x="0" y="2122"/>
                  </a:lnTo>
                  <a:lnTo>
                    <a:pt x="3201" y="0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7" name="Rectangle 33"/>
            <p:cNvSpPr/>
            <p:nvPr/>
          </p:nvSpPr>
          <p:spPr>
            <a:xfrm>
              <a:off x="5304240" y="3027600"/>
              <a:ext cx="1527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topping Criteria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8" name="Rectangle 32"/>
            <p:cNvSpPr/>
            <p:nvPr/>
          </p:nvSpPr>
          <p:spPr>
            <a:xfrm>
              <a:off x="5668560" y="3293280"/>
              <a:ext cx="84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ached?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9" name="Line 31"/>
            <p:cNvSpPr/>
            <p:nvPr/>
          </p:nvSpPr>
          <p:spPr>
            <a:xfrm>
              <a:off x="3533040" y="3225960"/>
              <a:ext cx="1231920" cy="7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0" name="Freeform 30"/>
            <p:cNvSpPr/>
            <p:nvPr/>
          </p:nvSpPr>
          <p:spPr>
            <a:xfrm>
              <a:off x="4725000" y="3148920"/>
              <a:ext cx="156960" cy="156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435" h="434">
                  <a:moveTo>
                    <a:pt x="435" y="214"/>
                  </a:moveTo>
                  <a:lnTo>
                    <a:pt x="4" y="434"/>
                  </a:lnTo>
                  <a:lnTo>
                    <a:pt x="111" y="216"/>
                  </a:lnTo>
                  <a:lnTo>
                    <a:pt x="0" y="0"/>
                  </a:lnTo>
                  <a:lnTo>
                    <a:pt x="435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1" name="Freeform 29"/>
            <p:cNvSpPr/>
            <p:nvPr/>
          </p:nvSpPr>
          <p:spPr>
            <a:xfrm>
              <a:off x="4725000" y="3148920"/>
              <a:ext cx="156960" cy="156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435" h="434">
                  <a:moveTo>
                    <a:pt x="435" y="214"/>
                  </a:moveTo>
                  <a:lnTo>
                    <a:pt x="4" y="434"/>
                  </a:lnTo>
                  <a:lnTo>
                    <a:pt x="111" y="216"/>
                  </a:lnTo>
                  <a:lnTo>
                    <a:pt x="0" y="0"/>
                  </a:lnTo>
                  <a:lnTo>
                    <a:pt x="435" y="214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2" name="Line 28"/>
            <p:cNvSpPr/>
            <p:nvPr/>
          </p:nvSpPr>
          <p:spPr>
            <a:xfrm flipV="1">
              <a:off x="677160" y="3235680"/>
              <a:ext cx="1117800" cy="28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3" name="Freeform 27"/>
            <p:cNvSpPr/>
            <p:nvPr/>
          </p:nvSpPr>
          <p:spPr>
            <a:xfrm>
              <a:off x="1756080" y="3157560"/>
              <a:ext cx="156960" cy="157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4" h="435">
                  <a:moveTo>
                    <a:pt x="434" y="216"/>
                  </a:moveTo>
                  <a:lnTo>
                    <a:pt x="1" y="435"/>
                  </a:lnTo>
                  <a:lnTo>
                    <a:pt x="108" y="217"/>
                  </a:lnTo>
                  <a:lnTo>
                    <a:pt x="0" y="0"/>
                  </a:lnTo>
                  <a:lnTo>
                    <a:pt x="434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4" name="Freeform 26"/>
            <p:cNvSpPr/>
            <p:nvPr/>
          </p:nvSpPr>
          <p:spPr>
            <a:xfrm>
              <a:off x="1756080" y="3157560"/>
              <a:ext cx="156960" cy="157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4" h="435">
                  <a:moveTo>
                    <a:pt x="434" y="216"/>
                  </a:moveTo>
                  <a:lnTo>
                    <a:pt x="1" y="435"/>
                  </a:lnTo>
                  <a:lnTo>
                    <a:pt x="108" y="217"/>
                  </a:lnTo>
                  <a:lnTo>
                    <a:pt x="0" y="0"/>
                  </a:lnTo>
                  <a:lnTo>
                    <a:pt x="434" y="216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5" name="Line 25"/>
            <p:cNvSpPr/>
            <p:nvPr/>
          </p:nvSpPr>
          <p:spPr>
            <a:xfrm>
              <a:off x="7233480" y="3225960"/>
              <a:ext cx="6652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6" name="Freeform 24"/>
            <p:cNvSpPr/>
            <p:nvPr/>
          </p:nvSpPr>
          <p:spPr>
            <a:xfrm>
              <a:off x="7890120" y="3160800"/>
              <a:ext cx="158400" cy="1573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8" h="435">
                  <a:moveTo>
                    <a:pt x="438" y="226"/>
                  </a:moveTo>
                  <a:lnTo>
                    <a:pt x="0" y="435"/>
                  </a:lnTo>
                  <a:lnTo>
                    <a:pt x="114" y="219"/>
                  </a:lnTo>
                  <a:lnTo>
                    <a:pt x="9" y="0"/>
                  </a:lnTo>
                  <a:lnTo>
                    <a:pt x="438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7" name="Freeform 23"/>
            <p:cNvSpPr/>
            <p:nvPr/>
          </p:nvSpPr>
          <p:spPr>
            <a:xfrm>
              <a:off x="7890120" y="3151080"/>
              <a:ext cx="158400" cy="1573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8" h="435">
                  <a:moveTo>
                    <a:pt x="438" y="226"/>
                  </a:moveTo>
                  <a:lnTo>
                    <a:pt x="0" y="435"/>
                  </a:lnTo>
                  <a:lnTo>
                    <a:pt x="114" y="219"/>
                  </a:lnTo>
                  <a:lnTo>
                    <a:pt x="9" y="0"/>
                  </a:lnTo>
                  <a:lnTo>
                    <a:pt x="438" y="226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8" name="Rectangle 22"/>
            <p:cNvSpPr/>
            <p:nvPr/>
          </p:nvSpPr>
          <p:spPr>
            <a:xfrm>
              <a:off x="3688200" y="4997880"/>
              <a:ext cx="1553400" cy="12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9" name="Rectangle 21"/>
            <p:cNvSpPr/>
            <p:nvPr/>
          </p:nvSpPr>
          <p:spPr>
            <a:xfrm>
              <a:off x="3688200" y="4997880"/>
              <a:ext cx="1553400" cy="120708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0" name="Rectangle 20"/>
            <p:cNvSpPr/>
            <p:nvPr/>
          </p:nvSpPr>
          <p:spPr>
            <a:xfrm>
              <a:off x="4041360" y="524556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ircraft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1" name="Rectangle 19"/>
            <p:cNvSpPr/>
            <p:nvPr/>
          </p:nvSpPr>
          <p:spPr>
            <a:xfrm>
              <a:off x="3924000" y="549612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routing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2" name="Rectangle 18"/>
            <p:cNvSpPr/>
            <p:nvPr/>
          </p:nvSpPr>
          <p:spPr>
            <a:xfrm>
              <a:off x="4043160" y="574704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odule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3" name="Freeform 17"/>
            <p:cNvSpPr/>
            <p:nvPr/>
          </p:nvSpPr>
          <p:spPr>
            <a:xfrm>
              <a:off x="5394600" y="3993480"/>
              <a:ext cx="680400" cy="1607760"/>
            </a:xfrm>
            <a:custGeom>
              <a:avLst/>
              <a:gdLst>
                <a:gd name="textAreaLeft" fmla="*/ 0 w 680400"/>
                <a:gd name="textAreaRight" fmla="*/ 680760 w 680400"/>
                <a:gd name="textAreaTop" fmla="*/ 0 h 1607760"/>
                <a:gd name="textAreaBottom" fmla="*/ 1608120 h 1607760"/>
              </a:gdLst>
              <a:ahLst/>
              <a:rect l="textAreaLeft" t="textAreaTop" r="textAreaRight" b="textAreaBottom"/>
              <a:pathLst>
                <a:path w="1880" h="4444">
                  <a:moveTo>
                    <a:pt x="1880" y="0"/>
                  </a:moveTo>
                  <a:lnTo>
                    <a:pt x="1880" y="4444"/>
                  </a:lnTo>
                  <a:lnTo>
                    <a:pt x="0" y="4444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4" name="Freeform 16"/>
            <p:cNvSpPr/>
            <p:nvPr/>
          </p:nvSpPr>
          <p:spPr>
            <a:xfrm>
              <a:off x="5277240" y="5523480"/>
              <a:ext cx="156240" cy="15732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4" h="435">
                  <a:moveTo>
                    <a:pt x="0" y="217"/>
                  </a:moveTo>
                  <a:lnTo>
                    <a:pt x="434" y="0"/>
                  </a:lnTo>
                  <a:lnTo>
                    <a:pt x="326" y="217"/>
                  </a:lnTo>
                  <a:lnTo>
                    <a:pt x="434" y="435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5" name="Freeform 15"/>
            <p:cNvSpPr/>
            <p:nvPr/>
          </p:nvSpPr>
          <p:spPr>
            <a:xfrm>
              <a:off x="5277240" y="5523480"/>
              <a:ext cx="156240" cy="15732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4" h="435">
                  <a:moveTo>
                    <a:pt x="0" y="217"/>
                  </a:moveTo>
                  <a:lnTo>
                    <a:pt x="434" y="0"/>
                  </a:lnTo>
                  <a:lnTo>
                    <a:pt x="326" y="217"/>
                  </a:lnTo>
                  <a:lnTo>
                    <a:pt x="434" y="435"/>
                  </a:lnTo>
                  <a:lnTo>
                    <a:pt x="0" y="217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6" name="Freeform 14"/>
            <p:cNvSpPr/>
            <p:nvPr/>
          </p:nvSpPr>
          <p:spPr>
            <a:xfrm>
              <a:off x="2756880" y="3991320"/>
              <a:ext cx="930960" cy="1609920"/>
            </a:xfrm>
            <a:custGeom>
              <a:avLst/>
              <a:gdLst>
                <a:gd name="textAreaLeft" fmla="*/ 0 w 930960"/>
                <a:gd name="textAreaRight" fmla="*/ 931320 w 930960"/>
                <a:gd name="textAreaTop" fmla="*/ 0 h 1609920"/>
                <a:gd name="textAreaBottom" fmla="*/ 1610280 h 1609920"/>
              </a:gdLst>
              <a:ahLst/>
              <a:rect l="textAreaLeft" t="textAreaTop" r="textAreaRight" b="textAreaBottom"/>
              <a:pathLst>
                <a:path w="2576" h="4448">
                  <a:moveTo>
                    <a:pt x="2576" y="4448"/>
                  </a:moveTo>
                  <a:lnTo>
                    <a:pt x="0" y="4448"/>
                  </a:lnTo>
                  <a:lnTo>
                    <a:pt x="0" y="0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7" name="Freeform 13"/>
            <p:cNvSpPr/>
            <p:nvPr/>
          </p:nvSpPr>
          <p:spPr>
            <a:xfrm>
              <a:off x="2678760" y="3873960"/>
              <a:ext cx="156240" cy="15624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433" h="433">
                  <a:moveTo>
                    <a:pt x="216" y="0"/>
                  </a:moveTo>
                  <a:lnTo>
                    <a:pt x="433" y="433"/>
                  </a:lnTo>
                  <a:lnTo>
                    <a:pt x="216" y="325"/>
                  </a:lnTo>
                  <a:lnTo>
                    <a:pt x="0" y="433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8" name="Freeform 12"/>
            <p:cNvSpPr/>
            <p:nvPr/>
          </p:nvSpPr>
          <p:spPr>
            <a:xfrm>
              <a:off x="2678760" y="3873960"/>
              <a:ext cx="156240" cy="15624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433" h="433">
                  <a:moveTo>
                    <a:pt x="216" y="0"/>
                  </a:moveTo>
                  <a:lnTo>
                    <a:pt x="433" y="433"/>
                  </a:lnTo>
                  <a:lnTo>
                    <a:pt x="216" y="325"/>
                  </a:lnTo>
                  <a:lnTo>
                    <a:pt x="0" y="433"/>
                  </a:lnTo>
                  <a:lnTo>
                    <a:pt x="216" y="0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9" name="Rectangle 10"/>
            <p:cNvSpPr/>
            <p:nvPr/>
          </p:nvSpPr>
          <p:spPr>
            <a:xfrm>
              <a:off x="3984480" y="2637360"/>
              <a:ext cx="43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w 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0" name="Rectangle 9"/>
            <p:cNvSpPr/>
            <p:nvPr/>
          </p:nvSpPr>
          <p:spPr>
            <a:xfrm>
              <a:off x="3676320" y="2876400"/>
              <a:ext cx="92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chedule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1" name="Rectangle 8"/>
            <p:cNvSpPr/>
            <p:nvPr/>
          </p:nvSpPr>
          <p:spPr>
            <a:xfrm>
              <a:off x="6270480" y="388728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o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2" name="Rectangle 7"/>
            <p:cNvSpPr/>
            <p:nvPr/>
          </p:nvSpPr>
          <p:spPr>
            <a:xfrm>
              <a:off x="6631920" y="256464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Yes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3" name="Rectangle 6"/>
            <p:cNvSpPr/>
            <p:nvPr/>
          </p:nvSpPr>
          <p:spPr>
            <a:xfrm>
              <a:off x="2984400" y="5033880"/>
              <a:ext cx="43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w 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4" name="Rectangle 5"/>
            <p:cNvSpPr/>
            <p:nvPr/>
          </p:nvSpPr>
          <p:spPr>
            <a:xfrm>
              <a:off x="2908080" y="528660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outes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5" name="Rectangle 4"/>
            <p:cNvSpPr/>
            <p:nvPr/>
          </p:nvSpPr>
          <p:spPr>
            <a:xfrm>
              <a:off x="7187400" y="244656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turn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6" name="Rectangle 3"/>
            <p:cNvSpPr/>
            <p:nvPr/>
          </p:nvSpPr>
          <p:spPr>
            <a:xfrm>
              <a:off x="7202160" y="2697120"/>
              <a:ext cx="119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est Solution 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7" name="Rectangle 2"/>
            <p:cNvSpPr/>
            <p:nvPr/>
          </p:nvSpPr>
          <p:spPr>
            <a:xfrm>
              <a:off x="7238160" y="29480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ound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758" name="AutoShape 134"/>
          <p:cNvSpPr/>
          <p:nvPr/>
        </p:nvSpPr>
        <p:spPr>
          <a:xfrm>
            <a:off x="2946240" y="1612800"/>
            <a:ext cx="4321440" cy="749520"/>
          </a:xfrm>
          <a:prstGeom prst="wedgeRectCallout">
            <a:avLst>
              <a:gd name="adj1" fmla="val -42009"/>
              <a:gd name="adj2" fmla="val 124416"/>
            </a:avLst>
          </a:prstGeom>
          <a:solidFill>
            <a:srgbClr val="0099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Heuristics (e.g. FCFS, AGH, JGH)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Branch and Bound (BB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59" name="AutoShape 135"/>
          <p:cNvSpPr/>
          <p:nvPr/>
        </p:nvSpPr>
        <p:spPr>
          <a:xfrm>
            <a:off x="5648400" y="5805360"/>
            <a:ext cx="2314440" cy="470160"/>
          </a:xfrm>
          <a:prstGeom prst="wedgeRectCallout">
            <a:avLst>
              <a:gd name="adj1" fmla="val -85958"/>
              <a:gd name="adj2" fmla="val 5407"/>
            </a:avLst>
          </a:prstGeom>
          <a:solidFill>
            <a:srgbClr val="0099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Tabu Search (TS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0" name="Rectangle 25"/>
          <p:cNvSpPr/>
          <p:nvPr/>
        </p:nvSpPr>
        <p:spPr>
          <a:xfrm>
            <a:off x="259200" y="2766960"/>
            <a:ext cx="159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port Resourc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1" name="Rectangle 25"/>
          <p:cNvSpPr/>
          <p:nvPr/>
        </p:nvSpPr>
        <p:spPr>
          <a:xfrm>
            <a:off x="276840" y="2984400"/>
            <a:ext cx="125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craft Tim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2" name="Rectangle 25"/>
          <p:cNvSpPr/>
          <p:nvPr/>
        </p:nvSpPr>
        <p:spPr>
          <a:xfrm>
            <a:off x="266760" y="3238560"/>
            <a:ext cx="13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craft Rout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3" name="Rectangle 25"/>
          <p:cNvSpPr/>
          <p:nvPr/>
        </p:nvSpPr>
        <p:spPr>
          <a:xfrm>
            <a:off x="291960" y="3452760"/>
            <a:ext cx="118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 Horiz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4" name="Rectangle 25"/>
          <p:cNvSpPr/>
          <p:nvPr/>
        </p:nvSpPr>
        <p:spPr>
          <a:xfrm>
            <a:off x="300600" y="3668760"/>
            <a:ext cx="95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oll period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7A86-BD1B-4BF5-BC5F-05E038CFDB9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6" name="Rettangolo 18"/>
          <p:cNvSpPr/>
          <p:nvPr/>
        </p:nvSpPr>
        <p:spPr>
          <a:xfrm>
            <a:off x="7473960" y="1400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Times New Roman"/>
              </a:rPr>
              <a:t>D’Ariano 2008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2"/>
          <p:cNvSpPr/>
          <p:nvPr/>
        </p:nvSpPr>
        <p:spPr>
          <a:xfrm>
            <a:off x="0" y="5698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Scheduling heuristics 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8" name="Rectangle 3"/>
          <p:cNvSpPr/>
          <p:nvPr/>
        </p:nvSpPr>
        <p:spPr>
          <a:xfrm>
            <a:off x="549360" y="1265400"/>
            <a:ext cx="806112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C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rst Come First Served)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preced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ircraft requiring the resource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eedy heur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ranzo et al. 2003)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M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void Most Critical Completion time)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s the pair containing the alternative arc which would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rgest 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onsecutive 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M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void Most Similar Pair)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s the pair with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rgest 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consecutive del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Job Greedy Heuristic) Selects all the alternative arcs involving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sen aircra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the sequencing of all the operations of this aircraft are fixed in one step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9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3876-34A8-490C-9CDB-B904E06650B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2"/>
          <p:cNvSpPr/>
          <p:nvPr/>
        </p:nvSpPr>
        <p:spPr>
          <a:xfrm>
            <a:off x="0" y="68580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Branch and bound (BB) algorithm 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1" name="Rectangle 3"/>
          <p:cNvSpPr/>
          <p:nvPr/>
        </p:nvSpPr>
        <p:spPr>
          <a:xfrm>
            <a:off x="473040" y="1427040"/>
            <a:ext cx="8569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wer bound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Blocking extensio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of the Jackson pre-emptive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schedule [Carlier &amp; Pinson 1989] on air segments and runway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straint propagatio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Speed up based on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network topology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      and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graph proprietie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developed in [D’Ariano et al. 2007]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2" name="Rectangle 4"/>
          <p:cNvSpPr/>
          <p:nvPr/>
        </p:nvSpPr>
        <p:spPr>
          <a:xfrm>
            <a:off x="417600" y="3538440"/>
            <a:ext cx="872496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Experimental setup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anching rul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Choose the most critical unselected alternative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pair with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criteria AMSP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and branch on this pair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ybrid search strategy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Alternate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 four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repetitions of the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depth-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first visit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with the choice of the open node of the search tree with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 smallest lower bound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among the last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fiv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generated node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3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0A4F-8B5B-4475-B9B1-45F7676078F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0" y="6922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ASP with </a:t>
            </a:r>
            <a:r>
              <a:rPr b="1" i="1" lang="it-IT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flexible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routes</a:t>
            </a: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: Move &amp; neighbour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255600" y="1376280"/>
            <a:ext cx="87883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e start from the solution obtained for the ASP problem with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fixed routes. The search for better aircraft routes is as follows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mov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is to change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one aircraft rout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and its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evaluatio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is to solve the associated ASP problem with fixed routes;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t each iteration the best (local) move is taken from a set of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neighbour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of a current ASP solution;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6" name="Rectangle 6"/>
          <p:cNvSpPr/>
          <p:nvPr/>
        </p:nvSpPr>
        <p:spPr>
          <a:xfrm>
            <a:off x="266760" y="4451400"/>
            <a:ext cx="8636040" cy="18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Neighbourhood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It is well known that a job shop scheduling solution can be improved by changing the critical path </a:t>
            </a:r>
            <a:r>
              <a:rPr b="1" i="1" lang="en-US" sz="2400" spc="-1" strike="noStrike">
                <a:solidFill>
                  <a:srgbClr val="292929"/>
                </a:solidFill>
                <a:latin typeface="Times New Roman"/>
              </a:rPr>
              <a:t>C(S)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related to the current graph selection (solution)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only [Balas OR 69];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4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e use </a:t>
            </a:r>
            <a:r>
              <a:rPr b="0" i="1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ramified critical paths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[D’Ariano et al. 2008]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8276-84FA-4BD1-B3EC-166EC248084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Air Traffic Control (ATC)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281160" y="15224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ir traffic control must ensure </a:t>
            </a:r>
            <a:r>
              <a:rPr b="1" lang="it-IT" sz="2400" spc="-1" strike="noStrike" u="sng">
                <a:solidFill>
                  <a:srgbClr val="292929"/>
                </a:solidFill>
                <a:uFillTx/>
                <a:latin typeface="Times New Roman"/>
              </a:rPr>
              <a:t>safe, ordered and rapid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 transit  of aircraft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on the ground and in the air segments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753" name="Picture 8" descr=""/>
          <p:cNvPicPr/>
          <p:nvPr/>
        </p:nvPicPr>
        <p:blipFill>
          <a:blip r:embed="rId1"/>
          <a:stretch/>
        </p:blipFill>
        <p:spPr>
          <a:xfrm>
            <a:off x="4491000" y="2843280"/>
            <a:ext cx="4610160" cy="248112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9"/>
          <p:cNvSpPr/>
          <p:nvPr/>
        </p:nvSpPr>
        <p:spPr>
          <a:xfrm>
            <a:off x="4533840" y="5257800"/>
            <a:ext cx="46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2221"/>
                </a:solidFill>
                <a:latin typeface="Times New Roman"/>
              </a:rPr>
              <a:t>[*] Source: EUROCONTROL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2221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72221"/>
                </a:solidFill>
                <a:latin typeface="Times New Roman"/>
              </a:rPr>
              <a:t>Short-term forecast 2009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5" name="Rectangle 10"/>
          <p:cNvSpPr/>
          <p:nvPr/>
        </p:nvSpPr>
        <p:spPr>
          <a:xfrm>
            <a:off x="182520" y="287352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With the increase in air traffic [*], aviation authorities are seeking methods (i) to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tter use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the existing airport infrastructure,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nd (ii) to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tter manage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ircraft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movements in the vicinity of airports during operations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6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FB96-4C93-43D2-9AF4-D7293D4440B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8" name="Picture 5" descr="H_RP_DL_RAM_CRIT_PATH"/>
          <p:cNvPicPr/>
          <p:nvPr/>
        </p:nvPicPr>
        <p:blipFill>
          <a:blip r:embed="rId1"/>
          <a:stretch/>
        </p:blipFill>
        <p:spPr>
          <a:xfrm>
            <a:off x="3135240" y="1620720"/>
            <a:ext cx="5553000" cy="2289240"/>
          </a:xfrm>
          <a:prstGeom prst="rect">
            <a:avLst/>
          </a:prstGeom>
          <a:ln w="0">
            <a:noFill/>
          </a:ln>
        </p:spPr>
      </p:pic>
      <p:pic>
        <p:nvPicPr>
          <p:cNvPr id="1779" name="Picture 7" descr="H_RP_DL_RAM_CRIT_PATH_FOR_BACK"/>
          <p:cNvPicPr/>
          <p:nvPr/>
        </p:nvPicPr>
        <p:blipFill>
          <a:blip r:embed="rId2"/>
          <a:stretch/>
        </p:blipFill>
        <p:spPr>
          <a:xfrm>
            <a:off x="3292560" y="4044960"/>
            <a:ext cx="5530680" cy="2338200"/>
          </a:xfrm>
          <a:prstGeom prst="rect">
            <a:avLst/>
          </a:prstGeom>
          <a:ln w="0">
            <a:noFill/>
          </a:ln>
        </p:spPr>
      </p:pic>
      <p:sp>
        <p:nvSpPr>
          <p:cNvPr id="1780" name="Rectangle 8"/>
          <p:cNvSpPr/>
          <p:nvPr/>
        </p:nvSpPr>
        <p:spPr>
          <a:xfrm>
            <a:off x="-38160" y="635040"/>
            <a:ext cx="9347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ASP with flexible routes: Ramified Critical Path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1" name="Oval 9"/>
          <p:cNvSpPr/>
          <p:nvPr/>
        </p:nvSpPr>
        <p:spPr>
          <a:xfrm>
            <a:off x="5675400" y="2562120"/>
            <a:ext cx="496800" cy="5112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2" name="Rectangle 10"/>
          <p:cNvSpPr/>
          <p:nvPr/>
        </p:nvSpPr>
        <p:spPr>
          <a:xfrm>
            <a:off x="266760" y="1720800"/>
            <a:ext cx="34765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Times New Roman"/>
              </a:rPr>
              <a:t>CRITICAL PATH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0, C1, C4, C7, C10,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B10, B11, B13, Bout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Times New Roman"/>
              </a:rPr>
              <a:t>WAITING OPERATION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: B10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Times New Roman"/>
              </a:rPr>
              <a:t>RAMIFIED CRITICAL PATH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0, C1, C4, C7, C10,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B10, B11, B13, Bout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B1, B4, B7 (</a:t>
            </a:r>
            <a:r>
              <a:rPr b="0" i="1" lang="en-US" sz="2000" spc="-1" strike="noStrike">
                <a:solidFill>
                  <a:srgbClr val="292929"/>
                </a:solidFill>
                <a:latin typeface="Times New Roman"/>
              </a:rPr>
              <a:t>BACKWARD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C11, C13, Cout (</a:t>
            </a:r>
            <a:r>
              <a:rPr b="0" i="1" lang="en-US" sz="2000" spc="-1" strike="noStrike">
                <a:solidFill>
                  <a:srgbClr val="292929"/>
                </a:solidFill>
                <a:latin typeface="Times New Roman"/>
              </a:rPr>
              <a:t>FORWARD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3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FD21-742F-4F3A-B560-41006964BDD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2"/>
          <p:cNvSpPr/>
          <p:nvPr/>
        </p:nvSpPr>
        <p:spPr>
          <a:xfrm>
            <a:off x="0" y="649440"/>
            <a:ext cx="9144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ASP with flexible routes: Tabu Search (TS)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785" name="Picture 6" descr="H_RP_DL_new2"/>
          <p:cNvPicPr/>
          <p:nvPr/>
        </p:nvPicPr>
        <p:blipFill>
          <a:blip r:embed="rId1"/>
          <a:stretch/>
        </p:blipFill>
        <p:spPr>
          <a:xfrm>
            <a:off x="560520" y="2490840"/>
            <a:ext cx="4444920" cy="1871640"/>
          </a:xfrm>
          <a:prstGeom prst="rect">
            <a:avLst/>
          </a:prstGeom>
          <a:ln w="0">
            <a:noFill/>
          </a:ln>
        </p:spPr>
      </p:pic>
      <p:sp>
        <p:nvSpPr>
          <p:cNvPr id="1786" name="Rectangle 7"/>
          <p:cNvSpPr/>
          <p:nvPr/>
        </p:nvSpPr>
        <p:spPr>
          <a:xfrm>
            <a:off x="241200" y="4444920"/>
            <a:ext cx="8788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abu search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algorithm is proposed to escape from local minima by taking a non-improving move and then forbidding the inverse move for a given number of iteration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nother technique to escape from local minima is to perform moves based on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restart technique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7" name="Rectangle 8"/>
          <p:cNvSpPr/>
          <p:nvPr/>
        </p:nvSpPr>
        <p:spPr>
          <a:xfrm>
            <a:off x="233280" y="1133640"/>
            <a:ext cx="878832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e ramified critical paths are well focused on reducing the maximum consecutive delay but, in general, are not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opt-connected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[Corman et al. 2010]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8" name="Rectangle 9"/>
          <p:cNvSpPr/>
          <p:nvPr/>
        </p:nvSpPr>
        <p:spPr>
          <a:xfrm>
            <a:off x="5425920" y="2714760"/>
            <a:ext cx="332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92929"/>
                </a:solidFill>
                <a:uFillTx/>
                <a:latin typeface="Times New Roman"/>
              </a:rPr>
              <a:t>Example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Critical path on aircraft B only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but rerouting aircraft A or C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may reduce the critical path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9" name="Oval 10"/>
          <p:cNvSpPr/>
          <p:nvPr/>
        </p:nvSpPr>
        <p:spPr>
          <a:xfrm>
            <a:off x="841320" y="3075120"/>
            <a:ext cx="3819600" cy="7570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90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583F-A438-4A10-9DC5-785A780EF85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1792" name="Rectangle 14"/>
          <p:cNvSpPr/>
          <p:nvPr/>
        </p:nvSpPr>
        <p:spPr>
          <a:xfrm>
            <a:off x="420840" y="1892160"/>
            <a:ext cx="841032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Modeling a Terminal Maneuvering Area 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Solution Framework and Algorithm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Computational Experiment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nclusions and Ongoing Research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93" name="Rectangle 1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Presentation outlin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94" name="Rectangle 16"/>
          <p:cNvSpPr/>
          <p:nvPr/>
        </p:nvSpPr>
        <p:spPr>
          <a:xfrm>
            <a:off x="368280" y="5859360"/>
            <a:ext cx="86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</a:rPr>
              <a:t>This work was partially supported by the Italian Ministry of Research, project FIRB “Advanced tracking system in intermodal freight transportation”.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9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0666-5D0C-4244-B7FE-80535F02A05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96" name="Rettangolo 6"/>
          <p:cNvSpPr/>
          <p:nvPr/>
        </p:nvSpPr>
        <p:spPr>
          <a:xfrm>
            <a:off x="6526080" y="388764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Times New Roman"/>
              </a:rPr>
              <a:t>Processor Intel i7  (2.84 GHz), 8 GB Ram 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139B-AA4C-4EC3-99FE-4699B28010E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798" name="Gruppo 3"/>
          <p:cNvGrpSpPr/>
          <p:nvPr/>
        </p:nvGrpSpPr>
        <p:grpSpPr>
          <a:xfrm>
            <a:off x="-57240" y="1152360"/>
            <a:ext cx="9201240" cy="5612040"/>
            <a:chOff x="-57240" y="1152360"/>
            <a:chExt cx="9201240" cy="5612040"/>
          </a:xfrm>
        </p:grpSpPr>
        <p:pic>
          <p:nvPicPr>
            <p:cNvPr id="1799" name="Picture 4" descr=""/>
            <p:cNvPicPr/>
            <p:nvPr/>
          </p:nvPicPr>
          <p:blipFill>
            <a:blip r:embed="rId1"/>
            <a:stretch/>
          </p:blipFill>
          <p:spPr>
            <a:xfrm>
              <a:off x="18720" y="1152360"/>
              <a:ext cx="9068040" cy="97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0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2133360"/>
              <a:ext cx="9144000" cy="463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Rettangolo 6"/>
            <p:cNvSpPr/>
            <p:nvPr/>
          </p:nvSpPr>
          <p:spPr>
            <a:xfrm rot="18033000">
              <a:off x="-338040" y="4728240"/>
              <a:ext cx="184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3-hour horizon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802" name="Titolo 26"/>
          <p:cNvSpPr/>
          <p:nvPr/>
        </p:nvSpPr>
        <p:spPr>
          <a:xfrm>
            <a:off x="193680" y="31896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Centralized vs Rolling Horizon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3" name="Rettangolo 8"/>
          <p:cNvSpPr/>
          <p:nvPr/>
        </p:nvSpPr>
        <p:spPr>
          <a:xfrm>
            <a:off x="1965240" y="1903320"/>
            <a:ext cx="2202120" cy="22536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4" name="Rettangolo 11"/>
          <p:cNvSpPr/>
          <p:nvPr/>
        </p:nvSpPr>
        <p:spPr>
          <a:xfrm>
            <a:off x="5489640" y="3451320"/>
            <a:ext cx="49212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5" name="Rettangolo 12"/>
          <p:cNvSpPr/>
          <p:nvPr/>
        </p:nvSpPr>
        <p:spPr>
          <a:xfrm>
            <a:off x="5492880" y="6421320"/>
            <a:ext cx="49032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6" name="Rettangolo 13"/>
          <p:cNvSpPr/>
          <p:nvPr/>
        </p:nvSpPr>
        <p:spPr>
          <a:xfrm>
            <a:off x="8505720" y="3438360"/>
            <a:ext cx="490680" cy="2368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7" name="Rettangolo 14"/>
          <p:cNvSpPr/>
          <p:nvPr/>
        </p:nvSpPr>
        <p:spPr>
          <a:xfrm>
            <a:off x="8489880" y="6451560"/>
            <a:ext cx="519120" cy="219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8" name="Rettangolo 15"/>
          <p:cNvSpPr/>
          <p:nvPr/>
        </p:nvSpPr>
        <p:spPr>
          <a:xfrm>
            <a:off x="3706920" y="6448320"/>
            <a:ext cx="385560" cy="208080"/>
          </a:xfrm>
          <a:prstGeom prst="rect">
            <a:avLst/>
          </a:prstGeom>
          <a:noFill/>
          <a:ln w="25560">
            <a:solidFill>
              <a:srgbClr val="51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9" name="Rettangolo 16"/>
          <p:cNvSpPr/>
          <p:nvPr/>
        </p:nvSpPr>
        <p:spPr>
          <a:xfrm>
            <a:off x="4578480" y="6116760"/>
            <a:ext cx="533160" cy="209520"/>
          </a:xfrm>
          <a:prstGeom prst="rect">
            <a:avLst/>
          </a:prstGeom>
          <a:noFill/>
          <a:ln w="25560">
            <a:solidFill>
              <a:srgbClr val="51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0" name="Rettangolo 17"/>
          <p:cNvSpPr/>
          <p:nvPr/>
        </p:nvSpPr>
        <p:spPr>
          <a:xfrm>
            <a:off x="4586400" y="3452760"/>
            <a:ext cx="480960" cy="219240"/>
          </a:xfrm>
          <a:prstGeom prst="rect">
            <a:avLst/>
          </a:prstGeom>
          <a:noFill/>
          <a:ln w="25560">
            <a:solidFill>
              <a:srgbClr val="51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1" name="Rettangolo 18"/>
          <p:cNvSpPr/>
          <p:nvPr/>
        </p:nvSpPr>
        <p:spPr>
          <a:xfrm rot="18006000">
            <a:off x="-284040" y="4822560"/>
            <a:ext cx="1766880" cy="22392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2" name="Rettangolo 19"/>
          <p:cNvSpPr/>
          <p:nvPr/>
        </p:nvSpPr>
        <p:spPr>
          <a:xfrm>
            <a:off x="5484960" y="6108840"/>
            <a:ext cx="49032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3" name="Rettangolo 20"/>
          <p:cNvSpPr/>
          <p:nvPr/>
        </p:nvSpPr>
        <p:spPr>
          <a:xfrm>
            <a:off x="8520120" y="6110280"/>
            <a:ext cx="480960" cy="231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4" name="Rectangle 25"/>
          <p:cNvSpPr/>
          <p:nvPr/>
        </p:nvSpPr>
        <p:spPr>
          <a:xfrm>
            <a:off x="160920" y="1576440"/>
            <a:ext cx="104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[20 instances]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Titolo 26"/>
          <p:cNvSpPr/>
          <p:nvPr/>
        </p:nvSpPr>
        <p:spPr>
          <a:xfrm>
            <a:off x="0" y="442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Static/Dynamic Case: BB vs FCFS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6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6E96-4A00-463E-9DAE-B3FC67438F0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7" name="Rettangolo 13"/>
          <p:cNvSpPr/>
          <p:nvPr/>
        </p:nvSpPr>
        <p:spPr>
          <a:xfrm>
            <a:off x="3397320" y="129852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1-hour horizon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818" name="Picture 7" descr=""/>
          <p:cNvPicPr/>
          <p:nvPr/>
        </p:nvPicPr>
        <p:blipFill>
          <a:blip r:embed="rId1"/>
          <a:stretch/>
        </p:blipFill>
        <p:spPr>
          <a:xfrm>
            <a:off x="68400" y="1714680"/>
            <a:ext cx="8951760" cy="1042920"/>
          </a:xfrm>
          <a:prstGeom prst="rect">
            <a:avLst/>
          </a:prstGeom>
          <a:ln w="0">
            <a:noFill/>
          </a:ln>
        </p:spPr>
      </p:pic>
      <p:pic>
        <p:nvPicPr>
          <p:cNvPr id="1819" name="Picture 4" descr=""/>
          <p:cNvPicPr/>
          <p:nvPr/>
        </p:nvPicPr>
        <p:blipFill>
          <a:blip r:embed="rId2"/>
          <a:stretch/>
        </p:blipFill>
        <p:spPr>
          <a:xfrm>
            <a:off x="58680" y="2749680"/>
            <a:ext cx="8997840" cy="3787560"/>
          </a:xfrm>
          <a:prstGeom prst="rect">
            <a:avLst/>
          </a:prstGeom>
          <a:ln w="0">
            <a:noFill/>
          </a:ln>
        </p:spPr>
      </p:pic>
      <p:sp>
        <p:nvSpPr>
          <p:cNvPr id="1820" name="Rettangolo 6"/>
          <p:cNvSpPr/>
          <p:nvPr/>
        </p:nvSpPr>
        <p:spPr>
          <a:xfrm>
            <a:off x="3419640" y="1393920"/>
            <a:ext cx="2081160" cy="33012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1" name="Rettangolo 8"/>
          <p:cNvSpPr/>
          <p:nvPr/>
        </p:nvSpPr>
        <p:spPr>
          <a:xfrm>
            <a:off x="2087640" y="2490840"/>
            <a:ext cx="2004840" cy="26676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2" name="Rettangolo 9"/>
          <p:cNvSpPr/>
          <p:nvPr/>
        </p:nvSpPr>
        <p:spPr>
          <a:xfrm>
            <a:off x="2928960" y="6176880"/>
            <a:ext cx="458640" cy="238320"/>
          </a:xfrm>
          <a:prstGeom prst="rect">
            <a:avLst/>
          </a:prstGeom>
          <a:noFill/>
          <a:ln w="25560">
            <a:solidFill>
              <a:srgbClr val="51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3" name="Rettangolo 10"/>
          <p:cNvSpPr/>
          <p:nvPr/>
        </p:nvSpPr>
        <p:spPr>
          <a:xfrm>
            <a:off x="2892600" y="5072040"/>
            <a:ext cx="480960" cy="219240"/>
          </a:xfrm>
          <a:prstGeom prst="rect">
            <a:avLst/>
          </a:prstGeom>
          <a:noFill/>
          <a:ln w="25560">
            <a:solidFill>
              <a:srgbClr val="51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4" name="Rettangolo 11"/>
          <p:cNvSpPr/>
          <p:nvPr/>
        </p:nvSpPr>
        <p:spPr>
          <a:xfrm>
            <a:off x="5057640" y="4272120"/>
            <a:ext cx="489240" cy="100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5" name="Rettangolo 12"/>
          <p:cNvSpPr/>
          <p:nvPr/>
        </p:nvSpPr>
        <p:spPr>
          <a:xfrm>
            <a:off x="5060880" y="5411880"/>
            <a:ext cx="455760" cy="98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6" name="Rettangolo 15"/>
          <p:cNvSpPr/>
          <p:nvPr/>
        </p:nvSpPr>
        <p:spPr>
          <a:xfrm>
            <a:off x="8250120" y="4292640"/>
            <a:ext cx="563760" cy="9986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7" name="Rettangolo 16"/>
          <p:cNvSpPr/>
          <p:nvPr/>
        </p:nvSpPr>
        <p:spPr>
          <a:xfrm>
            <a:off x="8253360" y="5389560"/>
            <a:ext cx="563760" cy="9986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8" name="Rectangle 25"/>
          <p:cNvSpPr/>
          <p:nvPr/>
        </p:nvSpPr>
        <p:spPr>
          <a:xfrm>
            <a:off x="204480" y="2171880"/>
            <a:ext cx="104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[20 instances]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9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1830" name="Rectangle 14"/>
          <p:cNvSpPr/>
          <p:nvPr/>
        </p:nvSpPr>
        <p:spPr>
          <a:xfrm>
            <a:off x="420840" y="1892160"/>
            <a:ext cx="841032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Modeling a Terminal Control Area 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Solution Framework and Algorithm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mputational Experiment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Conclusions and Ongoing Research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1" name="Rectangle 1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Presentation outlin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2" name="Rectangle 16"/>
          <p:cNvSpPr/>
          <p:nvPr/>
        </p:nvSpPr>
        <p:spPr>
          <a:xfrm>
            <a:off x="368280" y="5859360"/>
            <a:ext cx="86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</a:rPr>
              <a:t>This work was partially supported by the Italian Ministry of Research, project FIRB “Advanced tracking system in intermodal freight transportation”.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3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D6F1-8436-4A66-9F68-A4211DE9129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2"/>
          <p:cNvSpPr/>
          <p:nvPr/>
        </p:nvSpPr>
        <p:spPr>
          <a:xfrm>
            <a:off x="331920" y="1407960"/>
            <a:ext cx="778176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5" name="Rectangle 3"/>
          <p:cNvSpPr/>
          <p:nvPr/>
        </p:nvSpPr>
        <p:spPr>
          <a:xfrm>
            <a:off x="468360" y="65556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Achievements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6" name="Rectangle 6"/>
          <p:cNvSpPr/>
          <p:nvPr/>
        </p:nvSpPr>
        <p:spPr>
          <a:xfrm>
            <a:off x="185760" y="1373040"/>
            <a:ext cx="881532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Detailed ASP model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have been investigated for MXP and FCO;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e computational experiments proved the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effectiveness of our rolling horizon approach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compared to a centralized approach;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Optimization algorithms outperforms simple rule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, both for static and dynamic cases, in terms of delay and travel time minimization;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e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BB-based rolling horizon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pproach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solves the one-hour instances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quickly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837" name="Picture 7" descr="air_controller2"/>
          <p:cNvPicPr/>
          <p:nvPr/>
        </p:nvPicPr>
        <p:blipFill>
          <a:blip r:embed="rId1"/>
          <a:stretch/>
        </p:blipFill>
        <p:spPr>
          <a:xfrm>
            <a:off x="5899320" y="4311720"/>
            <a:ext cx="3247920" cy="2260440"/>
          </a:xfrm>
          <a:prstGeom prst="rect">
            <a:avLst/>
          </a:prstGeom>
          <a:ln w="0">
            <a:noFill/>
          </a:ln>
        </p:spPr>
      </p:pic>
      <p:sp>
        <p:nvSpPr>
          <p:cNvPr id="1838" name="AutoShape 8"/>
          <p:cNvSpPr/>
          <p:nvPr/>
        </p:nvSpPr>
        <p:spPr>
          <a:xfrm>
            <a:off x="433440" y="5499000"/>
            <a:ext cx="4960800" cy="68112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9" name="Rectangle 9"/>
          <p:cNvSpPr/>
          <p:nvPr/>
        </p:nvSpPr>
        <p:spPr>
          <a:xfrm>
            <a:off x="477720" y="5792760"/>
            <a:ext cx="4915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a.dariano@dia.uniroma3.it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2"/>
          <p:cNvSpPr/>
          <p:nvPr/>
        </p:nvSpPr>
        <p:spPr>
          <a:xfrm>
            <a:off x="331920" y="1357200"/>
            <a:ext cx="778176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1" name="Rectangle 3"/>
          <p:cNvSpPr/>
          <p:nvPr/>
        </p:nvSpPr>
        <p:spPr>
          <a:xfrm>
            <a:off x="106200" y="660240"/>
            <a:ext cx="90187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Further research directions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2" name="Rectangle 8"/>
          <p:cNvSpPr/>
          <p:nvPr/>
        </p:nvSpPr>
        <p:spPr>
          <a:xfrm>
            <a:off x="264960" y="3517920"/>
            <a:ext cx="8713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Development of detailed models for the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coordinatio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&amp; real-time optimization of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en-route, approach and TCA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traffic management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3" name="AutoShape 6"/>
          <p:cNvSpPr/>
          <p:nvPr/>
        </p:nvSpPr>
        <p:spPr>
          <a:xfrm>
            <a:off x="1943280" y="5340240"/>
            <a:ext cx="4960800" cy="68112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4" name="Rectangle 7"/>
          <p:cNvSpPr/>
          <p:nvPr/>
        </p:nvSpPr>
        <p:spPr>
          <a:xfrm>
            <a:off x="1987560" y="5570640"/>
            <a:ext cx="49147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a.dariano@dia.uniroma3.it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5" name="Rectangle 10"/>
          <p:cNvSpPr/>
          <p:nvPr/>
        </p:nvSpPr>
        <p:spPr>
          <a:xfrm>
            <a:off x="237960" y="4518000"/>
            <a:ext cx="88552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Transformativ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Practical realization of integrated (closed-loop) intelligent decision support systems at traffic control centers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846" name="Picture 18" descr="kc135t"/>
          <p:cNvPicPr/>
          <p:nvPr/>
        </p:nvPicPr>
        <p:blipFill>
          <a:blip r:embed="rId1"/>
          <a:stretch/>
        </p:blipFill>
        <p:spPr>
          <a:xfrm>
            <a:off x="723960" y="6108840"/>
            <a:ext cx="7924680" cy="380880"/>
          </a:xfrm>
          <a:prstGeom prst="rect">
            <a:avLst/>
          </a:prstGeom>
          <a:ln w="0">
            <a:noFill/>
          </a:ln>
        </p:spPr>
      </p:pic>
      <p:sp>
        <p:nvSpPr>
          <p:cNvPr id="1847" name="Rectangle 21"/>
          <p:cNvSpPr/>
          <p:nvPr/>
        </p:nvSpPr>
        <p:spPr>
          <a:xfrm>
            <a:off x="276120" y="2408400"/>
            <a:ext cx="8740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Study of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multiple criteria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for aircraft traffic control at busy TCAs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(e.g. delay, priority, fairness, environmental and other cost factors)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8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921D-79BC-491D-B224-4E9B6CAF730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9" name="Rectangle 10"/>
          <p:cNvSpPr/>
          <p:nvPr/>
        </p:nvSpPr>
        <p:spPr>
          <a:xfrm>
            <a:off x="314280" y="1457280"/>
            <a:ext cx="88552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Evaluation of aircraft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rescheduling and rerouting approaches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for optimal decision making in case of various traffic disturbances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2"/>
          <p:cNvSpPr/>
          <p:nvPr/>
        </p:nvSpPr>
        <p:spPr>
          <a:xfrm>
            <a:off x="68400" y="692280"/>
            <a:ext cx="90183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Malpensa Airport: 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Results from D’Ariano et al. 2012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1851" name=""/>
          <p:cNvGraphicFramePr/>
          <p:nvPr/>
        </p:nvGraphicFramePr>
        <p:xfrm>
          <a:off x="0" y="1379520"/>
          <a:ext cx="9144000" cy="3630600"/>
        </p:xfrm>
        <a:graphic>
          <a:graphicData uri="http://schemas.openxmlformats.org/drawingml/2006/table">
            <a:tbl>
              <a:tblPr/>
              <a:tblGrid>
                <a:gridCol w="1241280"/>
                <a:gridCol w="1057320"/>
                <a:gridCol w="1154160"/>
                <a:gridCol w="1138320"/>
                <a:gridCol w="1166760"/>
                <a:gridCol w="1271520"/>
                <a:gridCol w="1019160"/>
                <a:gridCol w="1095480"/>
              </a:tblGrid>
              <a:tr h="57960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gorithm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me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izon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x Cons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lay (s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g Cons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lay (s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x Tot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lay (s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g Tot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lay (s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layed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rcraft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DTTS (s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8088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B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.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268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C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.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.3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7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088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A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.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.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4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088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R) 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.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124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B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7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.4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4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232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C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7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.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124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A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9.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4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088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R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.7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4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.0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852" name="Rectangle 191"/>
          <p:cNvSpPr/>
          <p:nvPr/>
        </p:nvSpPr>
        <p:spPr>
          <a:xfrm>
            <a:off x="19080" y="5203800"/>
            <a:ext cx="91440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92929"/>
                </a:solidFill>
                <a:latin typeface="Times New Roman"/>
              </a:rPr>
              <a:t>RESULTS ON THE AIRCRAFT REROUTING MODULE: </a:t>
            </a:r>
            <a:r>
              <a:rPr b="1" lang="en-US" sz="1600" spc="-1" strike="noStrike">
                <a:solidFill>
                  <a:srgbClr val="292929"/>
                </a:solidFill>
                <a:latin typeface="Times New Roman"/>
              </a:rPr>
              <a:t>The Tabu Search (TS) algorithm is applied to perform three kinds of optimal rerouting strategies: Combined (C), Air (A) and Runway (R). 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Times New Roman"/>
              </a:rPr>
              <a:t>BEST DSS CONFIG: Compared to the BB for </a:t>
            </a:r>
            <a:r>
              <a:rPr b="1" lang="en-GB" sz="1600" spc="-1" strike="noStrike">
                <a:solidFill>
                  <a:srgbClr val="292929"/>
                </a:solidFill>
                <a:latin typeface="Times New Roman"/>
              </a:rPr>
              <a:t>aircraft scheduling</a:t>
            </a:r>
            <a:r>
              <a:rPr b="1" lang="en-US" sz="1600" spc="-1" strike="noStrike">
                <a:solidFill>
                  <a:srgbClr val="292929"/>
                </a:solidFill>
                <a:latin typeface="Times New Roman"/>
              </a:rPr>
              <a:t>, TS (C) achieves an improvement on the max cons delay minimization by 34% for 30-min instances and by 46% for 45-min instances.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3"/>
          <p:cNvSpPr/>
          <p:nvPr/>
        </p:nvSpPr>
        <p:spPr>
          <a:xfrm>
            <a:off x="0" y="6922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Status of the current ATC practis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252360" y="140796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irports are becoming a major bottleneck in ATC operations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The </a:t>
            </a:r>
            <a:r>
              <a:rPr b="1" lang="it-IT" sz="2400" spc="-1" strike="noStrike" u="sng">
                <a:solidFill>
                  <a:srgbClr val="292929"/>
                </a:solidFill>
                <a:uFillTx/>
                <a:latin typeface="Times New Roman"/>
              </a:rPr>
              <a:t>optimization of take-off/landing operations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 is a key factor to improve the performance of the entire ATC system.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759" name="Picture 13" descr="air_controller"/>
          <p:cNvPicPr/>
          <p:nvPr/>
        </p:nvPicPr>
        <p:blipFill>
          <a:blip r:embed="rId1"/>
          <a:stretch/>
        </p:blipFill>
        <p:spPr>
          <a:xfrm>
            <a:off x="5137200" y="2887560"/>
            <a:ext cx="3987720" cy="331308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14"/>
          <p:cNvSpPr/>
          <p:nvPr/>
        </p:nvSpPr>
        <p:spPr>
          <a:xfrm>
            <a:off x="182520" y="26431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TC operations are still mainly performed by human controllers whose computer support is most  often limited to a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graphical representation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of the current      aircraft position and speed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61" name="Rettangolo 5"/>
          <p:cNvSpPr/>
          <p:nvPr/>
        </p:nvSpPr>
        <p:spPr>
          <a:xfrm>
            <a:off x="152280" y="4873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lligent decision support is under investigation in order to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reduce the controller workload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see e.g. recent ATM Seminars)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62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88F6-8AE5-4FE4-80B9-884139D1A72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uppo 18"/>
          <p:cNvGrpSpPr/>
          <p:nvPr/>
        </p:nvGrpSpPr>
        <p:grpSpPr>
          <a:xfrm>
            <a:off x="2098800" y="4992840"/>
            <a:ext cx="4741560" cy="1541160"/>
            <a:chOff x="2098800" y="4992840"/>
            <a:chExt cx="4741560" cy="1541160"/>
          </a:xfrm>
        </p:grpSpPr>
        <p:sp>
          <p:nvSpPr>
            <p:cNvPr id="764" name="CasellaDiTesto 5"/>
            <p:cNvSpPr/>
            <p:nvPr/>
          </p:nvSpPr>
          <p:spPr>
            <a:xfrm>
              <a:off x="2927880" y="5770080"/>
              <a:ext cx="35038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29"/>
                  </a:solidFill>
                  <a:latin typeface="Arial"/>
                </a:rPr>
                <a:t>Detailed</a:t>
              </a:r>
              <a:endParaRPr b="1" lang="en-US" sz="28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(e.g. Bianco, Dell’Olmo, Giordani)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765" name="CasellaDiTesto 7"/>
            <p:cNvSpPr/>
            <p:nvPr/>
          </p:nvSpPr>
          <p:spPr>
            <a:xfrm>
              <a:off x="2916000" y="4992840"/>
              <a:ext cx="392436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29"/>
                  </a:solidFill>
                  <a:latin typeface="Arial"/>
                </a:rPr>
                <a:t>Basic</a:t>
              </a:r>
              <a:endParaRPr b="1" lang="en-US" sz="28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(e.g. Bertsimas, Lulli, Odoni )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766" name="Connettore 2 8"/>
            <p:cNvCxnSpPr/>
            <p:nvPr/>
          </p:nvCxnSpPr>
          <p:spPr>
            <a:xfrm>
              <a:off x="2098800" y="5660640"/>
              <a:ext cx="800640" cy="33732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767" name="Connettore 2 9"/>
            <p:cNvCxnSpPr/>
            <p:nvPr/>
          </p:nvCxnSpPr>
          <p:spPr>
            <a:xfrm flipV="1">
              <a:off x="2098800" y="5387760"/>
              <a:ext cx="786240" cy="24480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tailEnd len="med" type="arrow" w="med"/>
            </a:ln>
          </p:spPr>
        </p:cxnSp>
      </p:grpSp>
      <p:sp>
        <p:nvSpPr>
          <p:cNvPr id="768" name="Rectangle 3"/>
          <p:cNvSpPr/>
          <p:nvPr/>
        </p:nvSpPr>
        <p:spPr>
          <a:xfrm>
            <a:off x="0" y="66996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Literature: Aircraft Scheduling Problem (ASP)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281160" y="1266840"/>
            <a:ext cx="8543880" cy="3787920"/>
          </a:xfrm>
          <a:prstGeom prst="rect">
            <a:avLst/>
          </a:prstGeom>
          <a:ln w="0">
            <a:noFill/>
          </a:ln>
        </p:spPr>
      </p:pic>
      <p:sp>
        <p:nvSpPr>
          <p:cNvPr id="770" name="CasellaDiTesto 12"/>
          <p:cNvSpPr/>
          <p:nvPr/>
        </p:nvSpPr>
        <p:spPr>
          <a:xfrm>
            <a:off x="11160" y="5176800"/>
            <a:ext cx="210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isting Approaches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771" name="Gruppo 20"/>
          <p:cNvGrpSpPr/>
          <p:nvPr/>
        </p:nvGrpSpPr>
        <p:grpSpPr>
          <a:xfrm>
            <a:off x="5826240" y="5052960"/>
            <a:ext cx="3531960" cy="1475640"/>
            <a:chOff x="5826240" y="5052960"/>
            <a:chExt cx="3531960" cy="1475640"/>
          </a:xfrm>
        </p:grpSpPr>
        <p:sp>
          <p:nvSpPr>
            <p:cNvPr id="772" name="CasellaDiTesto 13"/>
            <p:cNvSpPr/>
            <p:nvPr/>
          </p:nvSpPr>
          <p:spPr>
            <a:xfrm>
              <a:off x="6647760" y="5764680"/>
              <a:ext cx="20203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29"/>
                  </a:solidFill>
                  <a:latin typeface="Arial"/>
                </a:rPr>
                <a:t>Dynamic</a:t>
              </a:r>
              <a:endParaRPr b="1" lang="en-US" sz="28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(e.g. Beasley, Ernst)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773" name="CasellaDiTesto 15"/>
            <p:cNvSpPr/>
            <p:nvPr/>
          </p:nvSpPr>
          <p:spPr>
            <a:xfrm>
              <a:off x="6640200" y="5052960"/>
              <a:ext cx="271800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29"/>
                  </a:solidFill>
                  <a:latin typeface="Arial"/>
                </a:rPr>
                <a:t>Static</a:t>
              </a:r>
              <a:endParaRPr b="1" lang="en-US" sz="28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(e.g. Dear, Hu, Chen)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774" name="Connettore 2 16"/>
            <p:cNvCxnSpPr/>
            <p:nvPr/>
          </p:nvCxnSpPr>
          <p:spPr>
            <a:xfrm>
              <a:off x="5826240" y="5660640"/>
              <a:ext cx="800640" cy="33732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775" name="Connettore 2 17"/>
            <p:cNvCxnSpPr/>
            <p:nvPr/>
          </p:nvCxnSpPr>
          <p:spPr>
            <a:xfrm flipV="1">
              <a:off x="5826240" y="5387400"/>
              <a:ext cx="786240" cy="24480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tailEnd len="med" type="arrow" w="med"/>
            </a:ln>
          </p:spPr>
        </p:cxnSp>
      </p:grpSp>
      <p:sp>
        <p:nvSpPr>
          <p:cNvPr id="776" name="Rettangolo 18"/>
          <p:cNvSpPr/>
          <p:nvPr/>
        </p:nvSpPr>
        <p:spPr>
          <a:xfrm rot="19392600">
            <a:off x="231480" y="3079440"/>
            <a:ext cx="21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Times New Roman"/>
              </a:rPr>
              <a:t>Chris Potts et al. 2011 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7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3903-02C4-4781-9F0F-F191711D6D0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-12600" y="64296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Literature: Research needs &amp; directions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493560" y="1425600"/>
            <a:ext cx="84758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ff"/>
                </a:solidFill>
                <a:uFillTx/>
                <a:latin typeface="Times New Roman"/>
              </a:rPr>
              <a:t>Aircraft Scheduling Problem (ASP) in Terminal Control Areas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Most aircraft scheduling models in literature represent the    TCA  as a </a:t>
            </a:r>
            <a:r>
              <a:rPr b="1" lang="it-IT" sz="2400" spc="-1" strike="noStrike" u="sng">
                <a:solidFill>
                  <a:srgbClr val="292929"/>
                </a:solidFill>
                <a:uFillTx/>
                <a:latin typeface="Times New Roman"/>
              </a:rPr>
              <a:t>single resource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, typically the runway. These models are not realistic since </a:t>
            </a: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the other TCA resources are ignored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80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DB61-BEFC-4918-80C1-127DC1A779D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781" name="Gruppo 12"/>
          <p:cNvGrpSpPr/>
          <p:nvPr/>
        </p:nvGrpSpPr>
        <p:grpSpPr>
          <a:xfrm>
            <a:off x="471600" y="3117960"/>
            <a:ext cx="8367480" cy="1663200"/>
            <a:chOff x="471600" y="3117960"/>
            <a:chExt cx="8367480" cy="1663200"/>
          </a:xfrm>
        </p:grpSpPr>
        <p:grpSp>
          <p:nvGrpSpPr>
            <p:cNvPr id="782" name="Gruppo 12"/>
            <p:cNvGrpSpPr/>
            <p:nvPr/>
          </p:nvGrpSpPr>
          <p:grpSpPr>
            <a:xfrm>
              <a:off x="471600" y="3265560"/>
              <a:ext cx="8367480" cy="1515600"/>
              <a:chOff x="471600" y="3265560"/>
              <a:chExt cx="8367480" cy="1515600"/>
            </a:xfrm>
          </p:grpSpPr>
          <p:sp>
            <p:nvSpPr>
              <p:cNvPr id="783" name="Rectangle 4"/>
              <p:cNvSpPr/>
              <p:nvPr/>
            </p:nvSpPr>
            <p:spPr>
              <a:xfrm>
                <a:off x="471600" y="3955680"/>
                <a:ext cx="8367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292929"/>
                    </a:solidFill>
                    <a:latin typeface="Times New Roman"/>
                  </a:rPr>
                  <a:t>We present </a:t>
                </a:r>
                <a:r>
                  <a:rPr b="1" i="1" lang="it-IT" sz="2400" spc="-1" strike="noStrike">
                    <a:solidFill>
                      <a:srgbClr val="292929"/>
                    </a:solidFill>
                    <a:latin typeface="Times New Roman"/>
                  </a:rPr>
                  <a:t>the “alternative graph” approach </a:t>
                </a:r>
                <a:r>
                  <a:rPr b="1" lang="it-IT" sz="2400" spc="-1" strike="noStrike">
                    <a:solidFill>
                      <a:srgbClr val="292929"/>
                    </a:solidFill>
                    <a:latin typeface="Times New Roman"/>
                  </a:rPr>
                  <a:t>for the accurate modelling of air traffic flows at </a:t>
                </a:r>
                <a:r>
                  <a:rPr b="1" lang="it-IT" sz="2400" spc="-1" strike="noStrike" u="sng">
                    <a:solidFill>
                      <a:srgbClr val="292929"/>
                    </a:solidFill>
                    <a:uFillTx/>
                    <a:latin typeface="Times New Roman"/>
                  </a:rPr>
                  <a:t>multiple runways and airways</a:t>
                </a:r>
                <a:r>
                  <a:rPr b="1" lang="it-IT" sz="2400" spc="-1" strike="noStrike">
                    <a:solidFill>
                      <a:srgbClr val="292929"/>
                    </a:solidFill>
                    <a:latin typeface="Times New Roman"/>
                  </a:rPr>
                  <a:t>. </a:t>
                </a:r>
                <a:endParaRPr b="1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84" name="AutoShape 5"/>
              <p:cNvSpPr/>
              <p:nvPr/>
            </p:nvSpPr>
            <p:spPr>
              <a:xfrm>
                <a:off x="4252680" y="3265560"/>
                <a:ext cx="623880" cy="623880"/>
              </a:xfrm>
              <a:prstGeom prst="downArrow">
                <a:avLst>
                  <a:gd name="adj1" fmla="val 50000"/>
                  <a:gd name="adj2" fmla="val 2781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pic>
          <p:nvPicPr>
            <p:cNvPr id="785" name="Picture 10" descr=""/>
            <p:cNvPicPr/>
            <p:nvPr/>
          </p:nvPicPr>
          <p:blipFill>
            <a:blip r:embed="rId1"/>
            <a:stretch/>
          </p:blipFill>
          <p:spPr>
            <a:xfrm>
              <a:off x="5042880" y="3117960"/>
              <a:ext cx="1481040" cy="93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6" name="Gruppo 13"/>
          <p:cNvGrpSpPr/>
          <p:nvPr/>
        </p:nvGrpSpPr>
        <p:grpSpPr>
          <a:xfrm>
            <a:off x="428760" y="4722840"/>
            <a:ext cx="8192880" cy="1609200"/>
            <a:chOff x="428760" y="4722840"/>
            <a:chExt cx="8192880" cy="1609200"/>
          </a:xfrm>
        </p:grpSpPr>
        <p:grpSp>
          <p:nvGrpSpPr>
            <p:cNvPr id="787" name="Gruppo 13"/>
            <p:cNvGrpSpPr/>
            <p:nvPr/>
          </p:nvGrpSpPr>
          <p:grpSpPr>
            <a:xfrm>
              <a:off x="428760" y="4884840"/>
              <a:ext cx="8192880" cy="1447200"/>
              <a:chOff x="428760" y="4884840"/>
              <a:chExt cx="8192880" cy="1447200"/>
            </a:xfrm>
          </p:grpSpPr>
          <p:sp>
            <p:nvSpPr>
              <p:cNvPr id="788" name="Rettangolo 10"/>
              <p:cNvSpPr/>
              <p:nvPr/>
            </p:nvSpPr>
            <p:spPr>
              <a:xfrm>
                <a:off x="428760" y="5506560"/>
                <a:ext cx="819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This approach has already been applied successully to control </a:t>
                </a:r>
                <a:r>
                  <a:rPr b="1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railway traffic 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for metro lines and railway networks. </a:t>
                </a:r>
                <a:endParaRPr b="1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89" name="AutoShape 5"/>
              <p:cNvSpPr/>
              <p:nvPr/>
            </p:nvSpPr>
            <p:spPr>
              <a:xfrm>
                <a:off x="4260240" y="4884840"/>
                <a:ext cx="623880" cy="623880"/>
              </a:xfrm>
              <a:prstGeom prst="downArrow">
                <a:avLst>
                  <a:gd name="adj1" fmla="val 50000"/>
                  <a:gd name="adj2" fmla="val 2781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pic>
          <p:nvPicPr>
            <p:cNvPr id="790" name="Picture 11" descr=""/>
            <p:cNvPicPr/>
            <p:nvPr/>
          </p:nvPicPr>
          <p:blipFill>
            <a:blip r:embed="rId2"/>
            <a:stretch/>
          </p:blipFill>
          <p:spPr>
            <a:xfrm>
              <a:off x="5137560" y="4722840"/>
              <a:ext cx="1451880" cy="93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3"/>
          <p:cNvSpPr/>
          <p:nvPr/>
        </p:nvSpPr>
        <p:spPr>
          <a:xfrm>
            <a:off x="42840" y="684360"/>
            <a:ext cx="6183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ur approach for TCAs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2" name="Rettangolo 18"/>
          <p:cNvSpPr/>
          <p:nvPr/>
        </p:nvSpPr>
        <p:spPr>
          <a:xfrm>
            <a:off x="515880" y="143820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Design, implementation and testing of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dynamic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292929"/>
                </a:solidFill>
                <a:latin typeface="Times New Roman"/>
              </a:rPr>
              <a:t>rolling horizon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) setting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tailed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292929"/>
                </a:solidFill>
                <a:latin typeface="Times New Roman"/>
              </a:rPr>
              <a:t>alternative graph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) modeling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heuristic and exact (</a:t>
            </a:r>
            <a:r>
              <a:rPr b="1" i="1" lang="en-US" sz="2400" spc="-1" strike="noStrike">
                <a:solidFill>
                  <a:srgbClr val="292929"/>
                </a:solidFill>
                <a:latin typeface="Times New Roman"/>
              </a:rPr>
              <a:t>branch &amp; bound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) ASP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gorithms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3" name="Rettangolo 19"/>
          <p:cNvSpPr/>
          <p:nvPr/>
        </p:nvSpPr>
        <p:spPr>
          <a:xfrm>
            <a:off x="652320" y="308124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search question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es the traffic control syste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 disturbances arise,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nd how is i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re conveni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reschedule aircraft in the TCA,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algorith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rforms b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erms of delay and travel time minimization,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algorithm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 sensiti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disturbance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794" name="Picture 2" descr="C:\Documents and Settings\User\Desktop\Heathrow-Air-Traffic-Cont-001.jpg"/>
          <p:cNvPicPr/>
          <p:nvPr/>
        </p:nvPicPr>
        <p:blipFill>
          <a:blip r:embed="rId1"/>
          <a:stretch/>
        </p:blipFill>
        <p:spPr>
          <a:xfrm>
            <a:off x="6256440" y="601560"/>
            <a:ext cx="2887560" cy="1733760"/>
          </a:xfrm>
          <a:prstGeom prst="rect">
            <a:avLst/>
          </a:prstGeom>
          <a:ln w="0">
            <a:noFill/>
          </a:ln>
        </p:spPr>
      </p:pic>
      <p:sp>
        <p:nvSpPr>
          <p:cNvPr id="79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3384-B80C-469F-9D4F-0B5E53CF439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14"/>
          <p:cNvSpPr/>
          <p:nvPr/>
        </p:nvSpPr>
        <p:spPr>
          <a:xfrm>
            <a:off x="420840" y="1892160"/>
            <a:ext cx="841032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Modeling a Terminal Control Area 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Solution Framework and Algorithm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mputational Experiment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nclusions and Ongoing Research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Presentation outlin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368280" y="5859360"/>
            <a:ext cx="86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</a:rPr>
              <a:t>This work was partially supported by the Italian Ministry of Research, project FIRB “Advanced tracking system in intermodal freight transportation”.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00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ACBB-D498-40F1-BC83-52F35B29D99F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uppo 10"/>
          <p:cNvGrpSpPr/>
          <p:nvPr/>
        </p:nvGrpSpPr>
        <p:grpSpPr>
          <a:xfrm>
            <a:off x="1208160" y="636480"/>
            <a:ext cx="6443640" cy="2935440"/>
            <a:chOff x="1208160" y="636480"/>
            <a:chExt cx="6443640" cy="2935440"/>
          </a:xfrm>
        </p:grpSpPr>
        <p:pic>
          <p:nvPicPr>
            <p:cNvPr id="802" name="Picture 5" descr=""/>
            <p:cNvPicPr/>
            <p:nvPr/>
          </p:nvPicPr>
          <p:blipFill>
            <a:blip r:embed="rId1"/>
            <a:stretch/>
          </p:blipFill>
          <p:spPr>
            <a:xfrm>
              <a:off x="1208160" y="925200"/>
              <a:ext cx="6443640" cy="264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6" descr=""/>
            <p:cNvPicPr/>
            <p:nvPr/>
          </p:nvPicPr>
          <p:blipFill>
            <a:blip r:embed="rId2"/>
            <a:stretch/>
          </p:blipFill>
          <p:spPr>
            <a:xfrm>
              <a:off x="1903320" y="636480"/>
              <a:ext cx="5186520" cy="41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Gruppo 6"/>
          <p:cNvGrpSpPr/>
          <p:nvPr/>
        </p:nvGrpSpPr>
        <p:grpSpPr>
          <a:xfrm>
            <a:off x="1338120" y="3656160"/>
            <a:ext cx="6648480" cy="2873160"/>
            <a:chOff x="1338120" y="3656160"/>
            <a:chExt cx="6648480" cy="2873160"/>
          </a:xfrm>
        </p:grpSpPr>
        <p:pic>
          <p:nvPicPr>
            <p:cNvPr id="805" name="Picture 7" descr=""/>
            <p:cNvPicPr/>
            <p:nvPr/>
          </p:nvPicPr>
          <p:blipFill>
            <a:blip r:embed="rId3"/>
            <a:stretch/>
          </p:blipFill>
          <p:spPr>
            <a:xfrm>
              <a:off x="1338120" y="4044240"/>
              <a:ext cx="6648480" cy="24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8" descr=""/>
            <p:cNvPicPr/>
            <p:nvPr/>
          </p:nvPicPr>
          <p:blipFill>
            <a:blip r:embed="rId4"/>
            <a:stretch/>
          </p:blipFill>
          <p:spPr>
            <a:xfrm>
              <a:off x="1841760" y="3656160"/>
              <a:ext cx="518652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6039-4C21-44A5-A199-4BA8A672B95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08" name="Rettangolo 8"/>
          <p:cNvSpPr/>
          <p:nvPr/>
        </p:nvSpPr>
        <p:spPr>
          <a:xfrm>
            <a:off x="52560" y="210024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MXP TCA :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(MILAN,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ITALY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09" name="Rettangolo 9"/>
          <p:cNvSpPr/>
          <p:nvPr/>
        </p:nvSpPr>
        <p:spPr>
          <a:xfrm>
            <a:off x="84240" y="4881600"/>
            <a:ext cx="146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FCO TCA :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(ROME,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ITALY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10:45:21Z</dcterms:created>
  <dc:creator>Andrea D'Ariano</dc:creator>
  <dc:description/>
  <dc:language>en-US</dc:language>
  <cp:lastModifiedBy>Heuvelman</cp:lastModifiedBy>
  <dcterms:modified xsi:type="dcterms:W3CDTF">2013-07-18T14:59:58Z</dcterms:modified>
  <cp:revision>1363</cp:revision>
  <dc:subject/>
  <dc:title>Railway Schedu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